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gif" ContentType="image/gif"/>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792913" cy="99218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p:nvPr/>
        </p:nvSpPr>
        <p:spPr>
          <a:xfrm>
            <a:off x="0" y="0"/>
            <a:ext cx="6793200" cy="9921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 name="PlaceHolder 1"/>
          <p:cNvSpPr>
            <a:spLocks noGrp="1"/>
          </p:cNvSpPr>
          <p:nvPr>
            <p:ph type="hdr"/>
          </p:nvPr>
        </p:nvSpPr>
        <p:spPr>
          <a:xfrm>
            <a:off x="0" y="0"/>
            <a:ext cx="2944800" cy="4968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2"/>
          <p:cNvSpPr>
            <a:spLocks noGrp="1"/>
          </p:cNvSpPr>
          <p:nvPr>
            <p:ph type="dt" idx="4"/>
          </p:nvPr>
        </p:nvSpPr>
        <p:spPr>
          <a:xfrm>
            <a:off x="3849840" y="0"/>
            <a:ext cx="2944800" cy="4968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type="sldImg"/>
          </p:nvPr>
        </p:nvSpPr>
        <p:spPr>
          <a:xfrm>
            <a:off x="920880" y="747360"/>
            <a:ext cx="4952880" cy="371484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6" name="PlaceHolder 4"/>
          <p:cNvSpPr>
            <a:spLocks noGrp="1"/>
          </p:cNvSpPr>
          <p:nvPr>
            <p:ph type="body"/>
          </p:nvPr>
        </p:nvSpPr>
        <p:spPr>
          <a:xfrm>
            <a:off x="906480" y="4710240"/>
            <a:ext cx="4981680" cy="44654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7" name="PlaceHolder 5"/>
          <p:cNvSpPr>
            <a:spLocks noGrp="1"/>
          </p:cNvSpPr>
          <p:nvPr>
            <p:ph type="ftr" idx="5"/>
          </p:nvPr>
        </p:nvSpPr>
        <p:spPr>
          <a:xfrm>
            <a:off x="0" y="9425160"/>
            <a:ext cx="2944800" cy="4968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6"/>
          <p:cNvSpPr>
            <a:spLocks noGrp="1"/>
          </p:cNvSpPr>
          <p:nvPr>
            <p:ph type="sldNum" idx="6"/>
          </p:nvPr>
        </p:nvSpPr>
        <p:spPr>
          <a:xfrm>
            <a:off x="3849840" y="9425160"/>
            <a:ext cx="2944800" cy="496800"/>
          </a:xfrm>
          <a:prstGeom prst="rect">
            <a:avLst/>
          </a:prstGeom>
          <a:noFill/>
          <a:ln w="0">
            <a:noFill/>
          </a:ln>
        </p:spPr>
        <p:txBody>
          <a:bodyPr lIns="92160" rIns="92160" tIns="46080" bIns="4608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ru-RU" sz="1200" spc="-1" strike="noStrike">
                <a:solidFill>
                  <a:srgbClr val="000000"/>
                </a:solidFill>
                <a:latin typeface="Times New Roman"/>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56335C-402F-4EA9-BC8C-348A9469F138}" type="slidenum">
              <a:rPr b="0" lang="ru-RU"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hyperlink" Target="https://zakon.rada.gov.ua/laws/show/1645-14#o5" TargetMode="External"/><Relationship Id="rId2" Type="http://schemas.openxmlformats.org/officeDocument/2006/relationships/hyperlink" Target="https://zakon.rada.gov.ua/laws/show/z0659-18" TargetMode="External"/><Relationship Id="rId3" Type="http://schemas.openxmlformats.org/officeDocument/2006/relationships/hyperlink" Target="http://moz.gov.ua/en/article/public-discussions-archive/proekt-rozporjadzhennja-kabinetu-ministriv-ukraini-pro-shvalennja-strategii-rozvitku-nacionalnoi-programi-imunoprofilaktiki-ta-zahistu-naselennja-vid-vakcinokerovanih-infekcij-do-2022-roku-ta-planu-zahodiv-schodo-ii-realizacii" TargetMode="External"/><Relationship Id="rId4" Type="http://schemas.openxmlformats.org/officeDocument/2006/relationships/slide" Target="../slides/slide17.xml"/><Relationship Id="rId5"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920880" y="747720"/>
            <a:ext cx="4952880" cy="3714840"/>
          </a:xfrm>
          <a:prstGeom prst="rect">
            <a:avLst/>
          </a:prstGeom>
          <a:ln w="0">
            <a:noFill/>
          </a:ln>
        </p:spPr>
      </p:sp>
      <p:sp>
        <p:nvSpPr>
          <p:cNvPr id="142" name="PlaceHolder 2"/>
          <p:cNvSpPr>
            <a:spLocks noGrp="1"/>
          </p:cNvSpPr>
          <p:nvPr>
            <p:ph type="body"/>
          </p:nvPr>
        </p:nvSpPr>
        <p:spPr>
          <a:xfrm>
            <a:off x="906480" y="4710240"/>
            <a:ext cx="4981680" cy="44654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учасна структура смертності дітей у віці від 1 до 5 років та її відмінності за статтю й типом поселення також засвідчують наявність резервів зниження насамперед за класом «зовнішні причини смерті», частка смертей від якого в даній віковій групі становить заледве не третину: в містах –27,7%, а в селах – 36,5% (рис.3), причому цей внесок неприродних причин у дитячу смертність останніми роками не зменшується. За підсумками 2017 р. не зафіксовано й скорочення частки «деяких інфекційних та паразитарних хвороб» у структурі смертності дітей віком від року до п’яти. Саме у зниженні частоти необоротних втрат життів дітей від вищезазначених екзогенних причин і криються ті основні резерви скорочення дитячої смертності, що їх цілком реалістично реалізувати на даному етапі. </a:t>
            </a:r>
            <a:endParaRPr b="0" lang="en-US" sz="1200" spc="-1" strike="noStrike">
              <a:solidFill>
                <a:srgbClr val="000000"/>
              </a:solidFill>
              <a:latin typeface="Times New Roman"/>
            </a:endParaRPr>
          </a:p>
        </p:txBody>
      </p:sp>
      <p:sp>
        <p:nvSpPr>
          <p:cNvPr id="143" name="Номер слайда 3"/>
          <p:cNvSpPr/>
          <p:nvPr/>
        </p:nvSpPr>
        <p:spPr>
          <a:xfrm>
            <a:off x="3849840" y="9425160"/>
            <a:ext cx="294480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37377D-0058-4382-B2E0-397D304178A4}" type="slidenum">
              <a:rPr b="0" lang="ru-RU"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920880" y="747720"/>
            <a:ext cx="4952880" cy="3714840"/>
          </a:xfrm>
          <a:prstGeom prst="rect">
            <a:avLst/>
          </a:prstGeom>
          <a:ln w="0">
            <a:noFill/>
          </a:ln>
        </p:spPr>
      </p:sp>
      <p:sp>
        <p:nvSpPr>
          <p:cNvPr id="145" name="PlaceHolder 2"/>
          <p:cNvSpPr>
            <a:spLocks noGrp="1"/>
          </p:cNvSpPr>
          <p:nvPr>
            <p:ph type="body"/>
          </p:nvPr>
        </p:nvSpPr>
        <p:spPr>
          <a:xfrm>
            <a:off x="906480" y="4710240"/>
            <a:ext cx="4981680" cy="44654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Особливо актуальним згадане є щодо хлопчиків, частота смертей яких від нещасних випадків та зовнішніх дій, наприклад, у віці від 10 до 14 років вдвічі перевищує таку серед дівчаток–їх ровесниць.</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r>
              <a:rPr b="0" lang="uk-UA" sz="1200" spc="-1" strike="noStrike">
                <a:solidFill>
                  <a:srgbClr val="000000"/>
                </a:solidFill>
                <a:latin typeface="Times New Roman"/>
              </a:rPr>
              <a:t>Вагому роль серед інших причин смерті дітей віком від 5 до 15 років в Україні  зберігають хвороби нервової системи - у 2017 р. на них припадала одна з кожних семи смертей у цьому віковому інтервалі - та природжені вади розвитку, деформації та хромосомні аномалії (одна з кожних восьми смертей).</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 name="Номер слайда 3"/>
          <p:cNvSpPr/>
          <p:nvPr/>
        </p:nvSpPr>
        <p:spPr>
          <a:xfrm>
            <a:off x="3849840" y="9425160"/>
            <a:ext cx="294480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6D1B32-3E49-4B26-B1BC-2F2ECAA690ED}" type="slidenum">
              <a:rPr b="0" lang="ru-RU"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920880" y="747720"/>
            <a:ext cx="4952880" cy="3714840"/>
          </a:xfrm>
          <a:prstGeom prst="rect">
            <a:avLst/>
          </a:prstGeom>
          <a:ln w="0">
            <a:noFill/>
          </a:ln>
        </p:spPr>
      </p:sp>
      <p:sp>
        <p:nvSpPr>
          <p:cNvPr id="148" name="PlaceHolder 2"/>
          <p:cNvSpPr>
            <a:spLocks noGrp="1"/>
          </p:cNvSpPr>
          <p:nvPr>
            <p:ph type="body"/>
          </p:nvPr>
        </p:nvSpPr>
        <p:spPr>
          <a:xfrm>
            <a:off x="906480" y="4710240"/>
            <a:ext cx="4981680" cy="44654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при переході від  середніх вікових груп дітей до старших підлітків  та молоді віком від 20 років  інтенсивність смертності підвищується: темп зростання рівня смертності при переході від віку 10–14 років до інтервалу 15–19  років в Україні у середньому становить в 2,3 раза, від 15–19 років до 20–24 років – в 1,5 раза.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За останні роки  частота смертей в старших групах підлітків (15-19 років) та молоді (20-24 роки) демонструвала позитивну тенденцію до зниження, однак резерви її скорочення ще лишаються значними, особливо з огляду на результати порівняння вітчизняних показників з тими їх рівнями, яких досягнуто в сусідніх європейських країнах.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9" name="Номер слайда 3"/>
          <p:cNvSpPr/>
          <p:nvPr/>
        </p:nvSpPr>
        <p:spPr>
          <a:xfrm>
            <a:off x="3849840" y="9425160"/>
            <a:ext cx="294480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760BB7-6E82-43D1-BBF9-8DEF03B73264}" type="slidenum">
              <a:rPr b="0" lang="ru-RU"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920880" y="747720"/>
            <a:ext cx="4952880" cy="3714840"/>
          </a:xfrm>
          <a:prstGeom prst="rect">
            <a:avLst/>
          </a:prstGeom>
          <a:ln w="0">
            <a:noFill/>
          </a:ln>
        </p:spPr>
      </p:sp>
      <p:sp>
        <p:nvSpPr>
          <p:cNvPr id="151" name="PlaceHolder 2"/>
          <p:cNvSpPr>
            <a:spLocks noGrp="1"/>
          </p:cNvSpPr>
          <p:nvPr>
            <p:ph type="body"/>
          </p:nvPr>
        </p:nvSpPr>
        <p:spPr>
          <a:xfrm>
            <a:off x="906480" y="4710240"/>
            <a:ext cx="4981680" cy="44654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аном на 2017 р.  майже 65% випадків смертей серед молоді віком 15-24 роки припадало на зовнішні причини смерті. Понад чверть усіх цих неприродних смертей молоді пов’язана з навмисними самоушкодженнями (включаючи самогубства),  майже третина -  спричинена транспортними нещасними випадками. </a:t>
            </a:r>
            <a:r>
              <a:rPr b="0" lang="uk-UA" sz="1200" spc="-1" strike="noStrike">
                <a:solidFill>
                  <a:srgbClr val="000000"/>
                </a:solidFill>
                <a:latin typeface="Times New Roman"/>
              </a:rPr>
              <a:t>Якщо для всього населення України більшу частину смертей внаслідок інфекційних та паразитарних хвороб причин зумовлює туберкульоз, то для молоді 15-24 років майже 2/5 смертей за цим класом хвороб викликано СНІДом.</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Вагомим у підлітково-молодіжному віці лишається внесок у смертність захворювань нервової системи. Серйозною медико-демографічною проблемою в Україні є й підлітково-молодіжна смертність від новоутворень, на які наразі припадає  одна з кожних  дванадцяти смертей у віці від 15 до 24 років. На відміну від старшого населення, яке найчастіше потерпає від раку легенів, шлунку та жіночої репродуктивної сфери, випадки смерті молодих людей у віці 15–24 років в Україні спричиняють переважно злоякісні новоутворення головного мозку, кісток та суглобових хрящів, лімфоїдної, кровотворної та споріднених тканин. Занепокоєння викликає й частота смертей у молодому віці від такої переважно «вікової» патології як хвороби системи кровообігу: саме вони спричиняють одну з кожних тринадцяти смертей осіб віком від 15 до 24 років  в нашій країні.</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При тому, що ендогенна патологія спричиняє смерть молодих людей порівняно рідше,</a:t>
            </a:r>
            <a:r>
              <a:rPr b="1" i="1" lang="uk-UA" sz="1200" spc="-1" strike="noStrike">
                <a:solidFill>
                  <a:srgbClr val="000000"/>
                </a:solidFill>
                <a:latin typeface="Times New Roman"/>
              </a:rPr>
              <a:t> </a:t>
            </a:r>
            <a:r>
              <a:rPr b="0" lang="uk-UA" sz="1200" spc="-1" strike="noStrike">
                <a:solidFill>
                  <a:srgbClr val="000000"/>
                </a:solidFill>
                <a:latin typeface="Times New Roman"/>
              </a:rPr>
              <a:t>структура смертності підлітків (15-19 років) та молоді (старше 20 років) помітно відрізняється саме за внеском переважно ендогенних причин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З віком зростає частота (й внесок у смертність) новоутворень, захворювань системи кровообігу, певних хвороб органів травлення, натомість знижується частка померлих від природжених вад розвитку, деформацій та хромосомних аномалій та  від хвороб нервової системи.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Хоча внесок основного класу причин смерті у молодому віці – нещасних випадків, отруєнь і травм – з віком дещо знижується, однак як частка померлих від неприродних смертей, так і інтенсивність смертності в обох досліджуваних вікових групах є надмірно високими. Так, наприклад, на вік 20-24 роки в Україні припадають одні з найбільших втрат внаслідок нещасних випадків на транспорті, а серед 15-19 річних підлітків, крім випадків самогубств та транспортних нещасних випадків, все ще надміру часто трапляються випадкові утоплення та випадки ушкодження з невизначеним наміром, що стають смертельними.</a:t>
            </a:r>
            <a:endParaRPr b="0" lang="en-US" sz="1200" spc="-1" strike="noStrike">
              <a:solidFill>
                <a:srgbClr val="000000"/>
              </a:solidFill>
              <a:latin typeface="Times New Roman"/>
            </a:endParaRPr>
          </a:p>
        </p:txBody>
      </p:sp>
      <p:sp>
        <p:nvSpPr>
          <p:cNvPr id="152" name="Номер слайда 3"/>
          <p:cNvSpPr/>
          <p:nvPr/>
        </p:nvSpPr>
        <p:spPr>
          <a:xfrm>
            <a:off x="3849840" y="9425160"/>
            <a:ext cx="294480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664F5F-5C38-4688-9094-23E6117DF585}" type="slidenum">
              <a:rPr b="0" lang="ru-RU"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920880" y="747720"/>
            <a:ext cx="4952880" cy="3714840"/>
          </a:xfrm>
          <a:prstGeom prst="rect">
            <a:avLst/>
          </a:prstGeom>
          <a:ln w="0">
            <a:noFill/>
          </a:ln>
        </p:spPr>
      </p:sp>
      <p:sp>
        <p:nvSpPr>
          <p:cNvPr id="154" name="PlaceHolder 2"/>
          <p:cNvSpPr>
            <a:spLocks noGrp="1"/>
          </p:cNvSpPr>
          <p:nvPr>
            <p:ph type="body"/>
          </p:nvPr>
        </p:nvSpPr>
        <p:spPr>
          <a:xfrm>
            <a:off x="906480" y="4710240"/>
            <a:ext cx="4981680" cy="44654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собливий акцент на відновленні загального охоплення дітей імунізацією зроблено і в  </a:t>
            </a:r>
            <a:r>
              <a:rPr b="1" lang="uk-UA" sz="1200" spc="-1" strike="noStrike">
                <a:solidFill>
                  <a:srgbClr val="000000"/>
                </a:solidFill>
                <a:latin typeface="Times New Roman"/>
              </a:rPr>
              <a:t>Стратегічному плані Дитячого Фонду ООН</a:t>
            </a:r>
            <a:r>
              <a:rPr b="0" lang="uk-UA" sz="1200" spc="-1" strike="noStrike">
                <a:solidFill>
                  <a:srgbClr val="000000"/>
                </a:solidFill>
                <a:latin typeface="Times New Roman"/>
              </a:rPr>
              <a:t> (ЮНІСЕФ) на 2018–2022 рр.</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5" name="Номер слайда 3"/>
          <p:cNvSpPr/>
          <p:nvPr/>
        </p:nvSpPr>
        <p:spPr>
          <a:xfrm>
            <a:off x="3849840" y="9425160"/>
            <a:ext cx="294480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9090C8-02B9-4D7A-91E3-FF2B2AF82544}" type="slidenum">
              <a:rPr b="0" lang="ru-RU"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20880" y="747720"/>
            <a:ext cx="4952880" cy="3714840"/>
          </a:xfrm>
          <a:prstGeom prst="rect">
            <a:avLst/>
          </a:prstGeom>
          <a:ln w="0">
            <a:noFill/>
          </a:ln>
        </p:spPr>
      </p:sp>
      <p:sp>
        <p:nvSpPr>
          <p:cNvPr id="157" name="PlaceHolder 2"/>
          <p:cNvSpPr>
            <a:spLocks noGrp="1"/>
          </p:cNvSpPr>
          <p:nvPr>
            <p:ph type="body"/>
          </p:nvPr>
        </p:nvSpPr>
        <p:spPr>
          <a:xfrm>
            <a:off x="906480" y="4710240"/>
            <a:ext cx="4981680" cy="44654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ля подальшого забезпечення і підтримання епідемічного благополуччя в Україні щодо інфекцій, керованих засобами імунопрофілактики, необхідно забезпечити достатній, відповідний до рекомендацій ВООЗ, обсяг охоплення профілактичними щепленнями.</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Календар профілактичних щеплень в Україні затверджений наказом МОЗ України від 16.09.2011 р. № 595 «Про порядок проведення профілактичних щеплень в Україні та контроль якості й обігу медичних імунобіологічних препаратів» і розроблений за міжнародно визнаними принципами, відповідно до рекомендації ВООЗ, з урахуванням актуальності інфекційних захворювань та епідеміологічної ситуації.</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Серед інших нормативно-правових документів останніх років, що регламентують питання охорони здоров’я, безпосередньо пов’язані з виконанням завдань ЦСР, слід назвати Закон України «Про захист населення від інфекційних хвороб» (Згідно зі статтею 12 якого профілактичні щеплення проти дифтерії, кашлюка, кору, поліомієліту, правця, туберкульозу є обов'язковими і включаються до календаря щеплень), наказ МОЗ від 18.05.2018 р. №947 «Про внесення змін до Календаря профілактичних щеплень в Україні», а також розроблену наразі нову «Стратегію розвитку національної програми імунопрофілактики та захисту населення від вакцинокерованих інфекцій до 2022 року».</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В останній редакції зі змінами від 6.09.2018 р. – Режим доступу: </a:t>
            </a:r>
            <a:r>
              <a:rPr b="0" lang="uk-UA" sz="1200" spc="-1" strike="noStrike" u="sng">
                <a:solidFill>
                  <a:srgbClr val="ccccff"/>
                </a:solidFill>
                <a:uFillTx/>
                <a:latin typeface="Times New Roman"/>
                <a:hlinkClick r:id="rId1"/>
              </a:rPr>
              <a:t>https://zakon.rada.gov.ua/laws/show/1645-14#o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Режим доступу: </a:t>
            </a:r>
            <a:r>
              <a:rPr b="0" lang="uk-UA" sz="1200" spc="-1" strike="noStrike" u="sng">
                <a:solidFill>
                  <a:srgbClr val="ccccff"/>
                </a:solidFill>
                <a:uFillTx/>
                <a:latin typeface="Times New Roman"/>
                <a:hlinkClick r:id="rId2"/>
              </a:rPr>
              <a:t>https://zakon.rada.gov.ua/laws/show/z0659-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Винесено на громадське обговорення - Режим доступу : </a:t>
            </a:r>
            <a:r>
              <a:rPr b="0" lang="uk-UA" sz="1200" spc="-1" strike="noStrike" u="sng">
                <a:solidFill>
                  <a:srgbClr val="ccccff"/>
                </a:solidFill>
                <a:uFillTx/>
                <a:latin typeface="Times New Roman"/>
                <a:hlinkClick r:id="rId3"/>
              </a:rPr>
              <a:t>http://moz.gov.ua/en/article/public-discussions-archive/proekt-rozporjadzhennja-kabinetu-ministriv-ukraini-pro-shvalennja-strategii-rozvitku-nacionalnoi-programi-imunoprofilaktiki-ta-zahistu-naselennja-vid-vakcinokerovanih-infekcij-do-2022-roku-ta-planu-zahodiv-schodo-ii-realizac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8" name="Номер слайда 3"/>
          <p:cNvSpPr/>
          <p:nvPr/>
        </p:nvSpPr>
        <p:spPr>
          <a:xfrm>
            <a:off x="3849840" y="9425160"/>
            <a:ext cx="294480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16F487-7573-43E7-B313-19AB2DFF4CD4}" type="slidenum">
              <a:rPr b="0" lang="ru-RU"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920880" y="747720"/>
            <a:ext cx="4952880" cy="3714840"/>
          </a:xfrm>
          <a:prstGeom prst="rect">
            <a:avLst/>
          </a:prstGeom>
          <a:ln w="0">
            <a:noFill/>
          </a:ln>
        </p:spPr>
      </p:sp>
      <p:sp>
        <p:nvSpPr>
          <p:cNvPr id="160" name="PlaceHolder 2"/>
          <p:cNvSpPr>
            <a:spLocks noGrp="1"/>
          </p:cNvSpPr>
          <p:nvPr>
            <p:ph type="body"/>
          </p:nvPr>
        </p:nvSpPr>
        <p:spPr>
          <a:xfrm>
            <a:off x="906480" y="4710240"/>
            <a:ext cx="4981680" cy="44654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При цьому недовіра до щеплень здебільшого пов’язана з слабкою поінформованістю людей щодо цінності вакцинації та недостатнім усвідомленням небезпеки інфекційних захворювань, часто вона базується й на необгрунтованих сумнівах щодо якості пропонованих вакцин.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В Україні дотепер відсутнє стратегічне планування постачання вакцин</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1" name="Номер слайда 3"/>
          <p:cNvSpPr/>
          <p:nvPr/>
        </p:nvSpPr>
        <p:spPr>
          <a:xfrm>
            <a:off x="3849840" y="9425160"/>
            <a:ext cx="294480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CEA86B-1308-4423-9308-C9D674BFC11C}" type="slidenum">
              <a:rPr b="0" lang="ru-RU"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920880" y="747720"/>
            <a:ext cx="4952880" cy="3714840"/>
          </a:xfrm>
          <a:prstGeom prst="rect">
            <a:avLst/>
          </a:prstGeom>
          <a:ln w="0">
            <a:noFill/>
          </a:ln>
        </p:spPr>
      </p:sp>
      <p:sp>
        <p:nvSpPr>
          <p:cNvPr id="163" name="PlaceHolder 2"/>
          <p:cNvSpPr>
            <a:spLocks noGrp="1"/>
          </p:cNvSpPr>
          <p:nvPr>
            <p:ph type="body"/>
          </p:nvPr>
        </p:nvSpPr>
        <p:spPr>
          <a:xfrm>
            <a:off x="906480" y="4710240"/>
            <a:ext cx="4981680" cy="44654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uk-UA" sz="1200" spc="-1" strike="noStrike">
                <a:solidFill>
                  <a:srgbClr val="000000"/>
                </a:solidFill>
                <a:latin typeface="Times New Roman"/>
              </a:rPr>
              <a:t>Опитування матерів проводилось </a:t>
            </a:r>
            <a:r>
              <a:rPr b="0" lang="ru-RU" sz="1200" spc="-1" strike="noStrike">
                <a:solidFill>
                  <a:srgbClr val="000000"/>
                </a:solidFill>
                <a:latin typeface="Times New Roman"/>
              </a:rPr>
              <a:t>в рамках  проекту </a:t>
            </a:r>
            <a:r>
              <a:rPr b="0" i="1" lang="ru-RU" sz="1200" spc="-1" strike="noStrike">
                <a:solidFill>
                  <a:srgbClr val="000000"/>
                </a:solidFill>
                <a:latin typeface="Times New Roman"/>
              </a:rPr>
              <a:t>«Моніторинг забезпечення одноразовою натуральною допомогою «Пакунок маляти» (Baby Box)»</a:t>
            </a:r>
            <a:r>
              <a:rPr b="0" lang="ru-RU" sz="1200" spc="-1" strike="noStrike">
                <a:solidFill>
                  <a:srgbClr val="000000"/>
                </a:solidFill>
                <a:latin typeface="Times New Roman"/>
              </a:rPr>
              <a:t> у пологових будинках</a:t>
            </a:r>
            <a:r>
              <a:rPr b="0" lang="uk-UA" sz="1200" spc="-1" strike="noStrike">
                <a:solidFill>
                  <a:srgbClr val="000000"/>
                </a:solidFill>
                <a:latin typeface="Times New Roman"/>
              </a:rPr>
              <a:t>  та </a:t>
            </a:r>
            <a:r>
              <a:rPr b="0" lang="ru-RU" sz="1200" spc="-1" strike="noStrike">
                <a:solidFill>
                  <a:srgbClr val="000000"/>
                </a:solidFill>
                <a:latin typeface="Times New Roman"/>
              </a:rPr>
              <a:t>регіональних управліннях соціального захисту населення України</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В другому раунді  взяла участь приблизно половина раніше опитаних</a:t>
            </a:r>
            <a:r>
              <a:rPr b="1" lang="uk-UA" sz="1200" spc="-1" strike="noStrike">
                <a:solidFill>
                  <a:srgbClr val="000000"/>
                </a:solidFill>
                <a:latin typeface="Times New Roman"/>
              </a:rPr>
              <a:t> </a:t>
            </a:r>
            <a:r>
              <a:rPr b="0" lang="uk-UA" sz="1200" spc="-1" strike="noStrike">
                <a:solidFill>
                  <a:srgbClr val="000000"/>
                </a:solidFill>
                <a:latin typeface="Times New Roman"/>
              </a:rPr>
              <a:t>матерів</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4" name="Номер слайда 3"/>
          <p:cNvSpPr/>
          <p:nvPr/>
        </p:nvSpPr>
        <p:spPr>
          <a:xfrm>
            <a:off x="3849840" y="9425160"/>
            <a:ext cx="294480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13397B-7C7C-4994-9D00-1A8502D9A957}" type="slidenum">
              <a:rPr b="0" lang="ru-RU"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920880" y="747720"/>
            <a:ext cx="4952880" cy="3714840"/>
          </a:xfrm>
          <a:prstGeom prst="rect">
            <a:avLst/>
          </a:prstGeom>
          <a:ln w="0">
            <a:noFill/>
          </a:ln>
        </p:spPr>
      </p:sp>
      <p:sp>
        <p:nvSpPr>
          <p:cNvPr id="166" name="PlaceHolder 2"/>
          <p:cNvSpPr>
            <a:spLocks noGrp="1"/>
          </p:cNvSpPr>
          <p:nvPr>
            <p:ph type="body"/>
          </p:nvPr>
        </p:nvSpPr>
        <p:spPr>
          <a:xfrm>
            <a:off x="906480" y="4710240"/>
            <a:ext cx="4981680" cy="44654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Уявлення про виконання планів деяких інших календарних щеплень немовлят та вакцинації старших дітей ( % до запланованої чисельності осіб) від небезпечних інфекцій на початок 2019 р. в Україні дають показники наведені в таблиці</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7" name="Номер слайда 3"/>
          <p:cNvSpPr/>
          <p:nvPr/>
        </p:nvSpPr>
        <p:spPr>
          <a:xfrm>
            <a:off x="3849840" y="9425160"/>
            <a:ext cx="294480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226E46-5379-47F6-B3BB-62BBCC2842E7}" type="slidenum">
              <a:rPr b="0" lang="ru-RU"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920880" y="747720"/>
            <a:ext cx="4952880" cy="3714840"/>
          </a:xfrm>
          <a:prstGeom prst="rect">
            <a:avLst/>
          </a:prstGeom>
          <a:ln w="0">
            <a:noFill/>
          </a:ln>
        </p:spPr>
      </p:sp>
      <p:sp>
        <p:nvSpPr>
          <p:cNvPr id="130" name="PlaceHolder 2"/>
          <p:cNvSpPr>
            <a:spLocks noGrp="1"/>
          </p:cNvSpPr>
          <p:nvPr>
            <p:ph type="body"/>
          </p:nvPr>
        </p:nvSpPr>
        <p:spPr>
          <a:xfrm>
            <a:off x="906480" y="4710240"/>
            <a:ext cx="4981680" cy="44654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Ліквідація критичних прогалин у охороні здоров'я матері та дитини, з особливим акцентом на відновленні загального охоплення імунізацією та досягнення ліквідації передачі ВІЛ від матері до дитини шляхом надання основних пакетів комплексних послуг для дітей та жінок, відповідні політичні та законодавчі стандарти; (Ранні роки здорового життя і за його межами)</a:t>
            </a:r>
            <a:endParaRPr b="0" lang="en-US" sz="1200" spc="-1" strike="noStrike">
              <a:solidFill>
                <a:srgbClr val="000000"/>
              </a:solidFill>
              <a:latin typeface="Times New Roman"/>
            </a:endParaRPr>
          </a:p>
        </p:txBody>
      </p:sp>
      <p:sp>
        <p:nvSpPr>
          <p:cNvPr id="131" name="Номер слайда 3"/>
          <p:cNvSpPr/>
          <p:nvPr/>
        </p:nvSpPr>
        <p:spPr>
          <a:xfrm>
            <a:off x="3849840" y="9425160"/>
            <a:ext cx="294480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1E9BEE-5936-4EA9-85BC-85ED998FB87C}" type="slidenum">
              <a:rPr b="0" lang="ru-RU"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920880" y="747720"/>
            <a:ext cx="4952880" cy="3714840"/>
          </a:xfrm>
          <a:prstGeom prst="rect">
            <a:avLst/>
          </a:prstGeom>
          <a:ln w="0">
            <a:noFill/>
          </a:ln>
        </p:spPr>
      </p:sp>
      <p:sp>
        <p:nvSpPr>
          <p:cNvPr id="133" name="PlaceHolder 2"/>
          <p:cNvSpPr>
            <a:spLocks noGrp="1"/>
          </p:cNvSpPr>
          <p:nvPr>
            <p:ph type="body"/>
          </p:nvPr>
        </p:nvSpPr>
        <p:spPr>
          <a:xfrm>
            <a:off x="906480" y="4710240"/>
            <a:ext cx="4981680" cy="44654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Хоча рівень смертності у віці до 5 років в Україні і демонструє тенденцію до зниження (у 2017 р. вона становила 8,9  випадків у розрахунку на 1000 живонароджених  проти 11,0- в 2010-му та 9,3 випадків – у 2015 р.), однак </a:t>
            </a:r>
            <a:r>
              <a:rPr b="0" lang="uk-UA" sz="1200" spc="-1" strike="noStrike">
                <a:solidFill>
                  <a:srgbClr val="000000"/>
                </a:solidFill>
                <a:latin typeface="Times New Roman"/>
              </a:rPr>
              <a:t> рівень дитячої смертності в Україні не вирізняється поступальністю зниження останніми роками: він знизився порівняно з досягнутим за підсумками реалізації Цілей Тисячоліття (в 2015 р.), однак  не зазнав позитивних змін порівняно з  2016 р. Так, зокрема, смертність хлопчиків віком до 5 років за останній рік підвищилась на 0,2 пром.пункти (з 9,7 до  9,9‰), а смертність дівчаток лишилась незмінною (7,8‰), отож для обох статей показник змінився незначно (з 8,8‰ у 2016 р. до 8,9‰- у 2017-му).</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При цьому рівень дитячої смертності в Україні не вирізняється поступальністю зниження останніми роками: він знизився порівняно з досягнутим за підсумками реалізації Цілей Тисячоліття (в 2015 р.), однак  не зазнав позитивних змін порівняно з  2016 р. Так, зокрема, смертність хлопчиків віком до 5 років за останній рік підвищилась на 0,2 пром.пункти (з 9,7 до  9,9‰), а смертність дівчаток лишилась незмінною (7,8‰), отож для обох статей показник змінився незначно (з 8,8‰ у 2016 р. до 8,9‰- у 2017-му).</a:t>
            </a:r>
            <a:endParaRPr b="0" lang="en-US" sz="1200" spc="-1" strike="noStrike">
              <a:solidFill>
                <a:srgbClr val="000000"/>
              </a:solidFill>
              <a:latin typeface="Times New Roman"/>
            </a:endParaRPr>
          </a:p>
        </p:txBody>
      </p:sp>
      <p:sp>
        <p:nvSpPr>
          <p:cNvPr id="134" name="Номер слайда 3"/>
          <p:cNvSpPr/>
          <p:nvPr/>
        </p:nvSpPr>
        <p:spPr>
          <a:xfrm>
            <a:off x="3849840" y="9425160"/>
            <a:ext cx="294480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14DF35-C714-4221-87EC-0C8B477D431C}" type="slidenum">
              <a:rPr b="0" lang="ru-RU"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920880" y="747720"/>
            <a:ext cx="4952880" cy="3714840"/>
          </a:xfrm>
          <a:prstGeom prst="rect">
            <a:avLst/>
          </a:prstGeom>
          <a:ln w="0">
            <a:noFill/>
          </a:ln>
        </p:spPr>
      </p:sp>
      <p:sp>
        <p:nvSpPr>
          <p:cNvPr id="136" name="PlaceHolder 2"/>
          <p:cNvSpPr>
            <a:spLocks noGrp="1"/>
          </p:cNvSpPr>
          <p:nvPr>
            <p:ph type="body"/>
          </p:nvPr>
        </p:nvSpPr>
        <p:spPr>
          <a:xfrm>
            <a:off x="906480" y="4710240"/>
            <a:ext cx="4981680" cy="44654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У цілому рівень смертності немовлят, зафіксований в Україні за підсумками 2017 р.( 7,6‰) знизився порівняно з 2015-м р. (7,9‰).  Водночас зниження цього показника останніми роками не було поступальним, порівняно з 2016 р. (7,4‰) має місце деяке підвищення рівня, більш відчутне у малюків чоловічої статі ( з 8,3‰ у 2016 р. до 8,5‰ – у 2017 р.), ніж у дівчаток (6,5‰ та 6,6‰ відповідно).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 цьому «синусоїда» траєкторії динаміки смертності немовлят за останні роки визначалась саме змінами неонатальної смертності (протягом  першого місяця життя):  у 2015 р. вона становила 4,9‰,  у 2016-му – знизилась до 4,6‰, однак останнього року повернулась до стартової відмітки 4,9‰.  Останніми роками підвищувався й внесок втрат життів малюків у неонатальному періоді (до 28 днів) у  смертність немовлят: з 61,5% від загального числа смертей (2015 р.)  до 61,9 – у 2016 р. та  до 64,5% - у 2017-му.</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На тлі переважно сприятливої динаміки всіх представлених індикаторів за останнє десятиріччя привертає увагу порушення цієї тенденції саме за підсумками 2017 р. для усіх показників, крім постнеонатальної смертності (після першого місяця життя й до року).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 name="Номер слайда 3"/>
          <p:cNvSpPr/>
          <p:nvPr/>
        </p:nvSpPr>
        <p:spPr>
          <a:xfrm>
            <a:off x="3849840" y="9425160"/>
            <a:ext cx="294480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1A4320-CF87-4E3F-86D0-1D5FA673FDFA}" type="slidenum">
              <a:rPr b="0" lang="ru-RU"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920880" y="747720"/>
            <a:ext cx="4952880" cy="3714840"/>
          </a:xfrm>
          <a:prstGeom prst="rect">
            <a:avLst/>
          </a:prstGeom>
          <a:ln w="0">
            <a:noFill/>
          </a:ln>
        </p:spPr>
      </p:sp>
      <p:sp>
        <p:nvSpPr>
          <p:cNvPr id="139" name="PlaceHolder 2"/>
          <p:cNvSpPr>
            <a:spLocks noGrp="1"/>
          </p:cNvSpPr>
          <p:nvPr>
            <p:ph type="body"/>
          </p:nvPr>
        </p:nvSpPr>
        <p:spPr>
          <a:xfrm>
            <a:off x="906480" y="4710240"/>
            <a:ext cx="4981680" cy="44654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У контексті виявлення резервів скорочення дитячої смертності, тобто мінімізації смертності, якій можна запобігти, визначальне значення має аналіз її рівнів та структури за причинами смерті. </a:t>
            </a:r>
            <a:r>
              <a:rPr b="0" lang="uk-UA" sz="1200" spc="-1" strike="noStrike">
                <a:solidFill>
                  <a:srgbClr val="000000"/>
                </a:solidFill>
                <a:latin typeface="Times New Roman"/>
              </a:rPr>
              <a:t>Отже, смертність немовлят та її останні зміни здебільшого визначались динамікою смертей від провідної причини – станів, що виникають у перинатальному періоді-  й її підвищення засвідчує наростання викликів для системи перинатальної допомоги в Україні. Серед інших класів причин привертає увагу недостатня поступальність зниження частоти смертей  від природжених вад розвитку, а, крім того, від таких причин (з числа інших) як хвороби органів травлення, хвороби крові й кровотворних органів та  окремі порушення з залученням імунного механізму, симптоми, ознаки та відхилення від норми.  Решта причин смерті немовлят, характерних переважно для постнеонатального періоду їх життя (від 28 днів до 1 року), демонструють позитивну динаміку частоти смертей за останні роки.</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Смертність немовлят-хлопчиків за всіма основними причинами перевищує таку щодо дівчаток; інтенсивність смертності немовлят у сільській місцевості України наразі вища, ніж у міських поселеннях за всіма причинами, крім провідної – станів перинатального періоду, однак згадане співвідношення пояснюється тим, що лікування немовлят з такою ускладненою патологією «прив’язане» до міст, в яких є необхідна медична інфраструктура. В контексті реалізації резервів скорочення смертності немовлят, якій можна запобігти, насамперед привертає увагу більш ніж двократне перевищення смертності сільських малюків над містянами за класом причин «деякі інфекційні й паразитарні хвороби», а також «зовнішні причини смерті», від яких немовлята в сільській місцевості дотепер гинуть частіше, ніж у містах, більш ніж у два з половиною рази.</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Починається з 22-го повного тижня (154-го дня) внутрішньоутробного життя плода (у цей час у нормі маса плода становить 500 г) і закінчується після 7 повних днів після народження</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 name="Номер слайда 3"/>
          <p:cNvSpPr/>
          <p:nvPr/>
        </p:nvSpPr>
        <p:spPr>
          <a:xfrm>
            <a:off x="3849840" y="9425160"/>
            <a:ext cx="294480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045D7B-AA7D-4D8A-946E-939970736A7B}" type="slidenum">
              <a:rPr b="0" lang="ru-RU"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7089A9-793A-498D-B690-7D4F6604A5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C4C29C-9576-44D4-8BA4-DCB08F8248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37398B-835A-463A-8D9B-E196FED5A7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C40B2C-8189-4C35-8B6D-27849BEBB7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CB2304-035E-405C-9752-675E260182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4E26C7-72C6-4E51-936E-D14EC2F591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D7644B-E3A3-4B40-BF2E-198F31D8AD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96436A-2A88-4F6B-B925-9DC6FD7128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5814EC-10C0-40CB-B543-01E47B2A20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F7A5A-E527-4EB5-8F07-7092866B06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2475FE-996F-43AB-93E2-7D1FAF9224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77329C-3FC1-4B5B-9D07-4CA40D7D23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946AC-3E76-4142-99A6-91BB730226B0}"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5" name="Group 15"/>
          <p:cNvGrpSpPr/>
          <p:nvPr/>
        </p:nvGrpSpPr>
        <p:grpSpPr>
          <a:xfrm>
            <a:off x="892080" y="206280"/>
            <a:ext cx="7341840" cy="387360"/>
            <a:chOff x="892080" y="206280"/>
            <a:chExt cx="7341840" cy="387360"/>
          </a:xfrm>
        </p:grpSpPr>
        <p:sp>
          <p:nvSpPr>
            <p:cNvPr id="6" name="Rectangle 16"/>
            <p:cNvSpPr/>
            <p:nvPr/>
          </p:nvSpPr>
          <p:spPr>
            <a:xfrm>
              <a:off x="892080" y="206280"/>
              <a:ext cx="7324560" cy="38736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909360" y="206280"/>
              <a:ext cx="7324560" cy="1224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Freeform 18"/>
            <p:cNvSpPr/>
            <p:nvPr/>
          </p:nvSpPr>
          <p:spPr>
            <a:xfrm>
              <a:off x="1036440" y="254160"/>
              <a:ext cx="3560040" cy="99720"/>
            </a:xfrm>
            <a:custGeom>
              <a:avLst/>
              <a:gdLst/>
              <a:ahLst/>
              <a:rect l="l" t="t" r="r" b="b"/>
              <a:pathLst>
                <a:path w="2444" h="63">
                  <a:moveTo>
                    <a:pt x="2443" y="0"/>
                  </a:moveTo>
                  <a:lnTo>
                    <a:pt x="2443" y="0"/>
                  </a:lnTo>
                  <a:lnTo>
                    <a:pt x="2437" y="0"/>
                  </a:lnTo>
                  <a:lnTo>
                    <a:pt x="2429" y="1"/>
                  </a:lnTo>
                  <a:lnTo>
                    <a:pt x="2422" y="2"/>
                  </a:lnTo>
                  <a:lnTo>
                    <a:pt x="2413" y="4"/>
                  </a:lnTo>
                  <a:lnTo>
                    <a:pt x="2405" y="7"/>
                  </a:lnTo>
                  <a:lnTo>
                    <a:pt x="2396" y="10"/>
                  </a:lnTo>
                  <a:lnTo>
                    <a:pt x="2387" y="12"/>
                  </a:lnTo>
                  <a:lnTo>
                    <a:pt x="2377" y="15"/>
                  </a:lnTo>
                  <a:lnTo>
                    <a:pt x="2366" y="20"/>
                  </a:lnTo>
                  <a:lnTo>
                    <a:pt x="2353" y="24"/>
                  </a:lnTo>
                  <a:lnTo>
                    <a:pt x="2341" y="27"/>
                  </a:lnTo>
                  <a:lnTo>
                    <a:pt x="2328" y="31"/>
                  </a:lnTo>
                  <a:lnTo>
                    <a:pt x="2316" y="34"/>
                  </a:lnTo>
                  <a:lnTo>
                    <a:pt x="2303" y="36"/>
                  </a:lnTo>
                  <a:lnTo>
                    <a:pt x="2291" y="37"/>
                  </a:lnTo>
                  <a:lnTo>
                    <a:pt x="2279" y="38"/>
                  </a:lnTo>
                  <a:lnTo>
                    <a:pt x="2268" y="37"/>
                  </a:lnTo>
                  <a:lnTo>
                    <a:pt x="2258" y="37"/>
                  </a:lnTo>
                  <a:lnTo>
                    <a:pt x="2247" y="34"/>
                  </a:lnTo>
                  <a:lnTo>
                    <a:pt x="2238" y="32"/>
                  </a:lnTo>
                  <a:lnTo>
                    <a:pt x="2229" y="29"/>
                  </a:lnTo>
                  <a:lnTo>
                    <a:pt x="2219" y="26"/>
                  </a:lnTo>
                  <a:lnTo>
                    <a:pt x="2211" y="22"/>
                  </a:lnTo>
                  <a:lnTo>
                    <a:pt x="2201" y="19"/>
                  </a:lnTo>
                  <a:lnTo>
                    <a:pt x="2193" y="16"/>
                  </a:lnTo>
                  <a:lnTo>
                    <a:pt x="2184" y="12"/>
                  </a:lnTo>
                  <a:lnTo>
                    <a:pt x="2175" y="9"/>
                  </a:lnTo>
                  <a:lnTo>
                    <a:pt x="2166" y="7"/>
                  </a:lnTo>
                  <a:lnTo>
                    <a:pt x="2156" y="4"/>
                  </a:lnTo>
                  <a:lnTo>
                    <a:pt x="2148" y="2"/>
                  </a:lnTo>
                  <a:lnTo>
                    <a:pt x="2138" y="1"/>
                  </a:lnTo>
                  <a:lnTo>
                    <a:pt x="2128" y="1"/>
                  </a:lnTo>
                  <a:lnTo>
                    <a:pt x="2121" y="1"/>
                  </a:lnTo>
                  <a:lnTo>
                    <a:pt x="2113" y="2"/>
                  </a:lnTo>
                  <a:lnTo>
                    <a:pt x="2104" y="4"/>
                  </a:lnTo>
                  <a:lnTo>
                    <a:pt x="2096" y="7"/>
                  </a:lnTo>
                  <a:lnTo>
                    <a:pt x="2086" y="10"/>
                  </a:lnTo>
                  <a:lnTo>
                    <a:pt x="2076" y="12"/>
                  </a:lnTo>
                  <a:lnTo>
                    <a:pt x="2066" y="16"/>
                  </a:lnTo>
                  <a:lnTo>
                    <a:pt x="2056" y="20"/>
                  </a:lnTo>
                  <a:lnTo>
                    <a:pt x="2045" y="23"/>
                  </a:lnTo>
                  <a:lnTo>
                    <a:pt x="2034" y="27"/>
                  </a:lnTo>
                  <a:lnTo>
                    <a:pt x="2023" y="29"/>
                  </a:lnTo>
                  <a:lnTo>
                    <a:pt x="2012" y="33"/>
                  </a:lnTo>
                  <a:lnTo>
                    <a:pt x="2002" y="35"/>
                  </a:lnTo>
                  <a:lnTo>
                    <a:pt x="1991" y="37"/>
                  </a:lnTo>
                  <a:lnTo>
                    <a:pt x="1980" y="38"/>
                  </a:lnTo>
                  <a:lnTo>
                    <a:pt x="1969" y="38"/>
                  </a:lnTo>
                  <a:lnTo>
                    <a:pt x="1958" y="38"/>
                  </a:lnTo>
                  <a:lnTo>
                    <a:pt x="1948" y="37"/>
                  </a:lnTo>
                  <a:lnTo>
                    <a:pt x="1939" y="35"/>
                  </a:lnTo>
                  <a:lnTo>
                    <a:pt x="1928" y="33"/>
                  </a:lnTo>
                  <a:lnTo>
                    <a:pt x="1919" y="31"/>
                  </a:lnTo>
                  <a:lnTo>
                    <a:pt x="1910" y="28"/>
                  </a:lnTo>
                  <a:lnTo>
                    <a:pt x="1901" y="25"/>
                  </a:lnTo>
                  <a:lnTo>
                    <a:pt x="1891" y="21"/>
                  </a:lnTo>
                  <a:lnTo>
                    <a:pt x="1883" y="18"/>
                  </a:lnTo>
                  <a:lnTo>
                    <a:pt x="1874" y="15"/>
                  </a:lnTo>
                  <a:lnTo>
                    <a:pt x="1865" y="11"/>
                  </a:lnTo>
                  <a:lnTo>
                    <a:pt x="1856" y="9"/>
                  </a:lnTo>
                  <a:lnTo>
                    <a:pt x="1847" y="6"/>
                  </a:lnTo>
                  <a:lnTo>
                    <a:pt x="1837" y="4"/>
                  </a:lnTo>
                  <a:lnTo>
                    <a:pt x="1828" y="2"/>
                  </a:lnTo>
                  <a:lnTo>
                    <a:pt x="1819" y="1"/>
                  </a:lnTo>
                  <a:lnTo>
                    <a:pt x="1814" y="1"/>
                  </a:lnTo>
                  <a:lnTo>
                    <a:pt x="1809" y="1"/>
                  </a:lnTo>
                  <a:lnTo>
                    <a:pt x="1804" y="2"/>
                  </a:lnTo>
                  <a:lnTo>
                    <a:pt x="1799" y="3"/>
                  </a:lnTo>
                  <a:lnTo>
                    <a:pt x="1794" y="4"/>
                  </a:lnTo>
                  <a:lnTo>
                    <a:pt x="1788" y="5"/>
                  </a:lnTo>
                  <a:lnTo>
                    <a:pt x="1782" y="7"/>
                  </a:lnTo>
                  <a:lnTo>
                    <a:pt x="1776" y="9"/>
                  </a:lnTo>
                  <a:lnTo>
                    <a:pt x="1769" y="11"/>
                  </a:lnTo>
                  <a:lnTo>
                    <a:pt x="1762" y="14"/>
                  </a:lnTo>
                  <a:lnTo>
                    <a:pt x="1755" y="16"/>
                  </a:lnTo>
                  <a:lnTo>
                    <a:pt x="1747" y="18"/>
                  </a:lnTo>
                  <a:lnTo>
                    <a:pt x="1740" y="21"/>
                  </a:lnTo>
                  <a:lnTo>
                    <a:pt x="1732" y="24"/>
                  </a:lnTo>
                  <a:lnTo>
                    <a:pt x="1724" y="26"/>
                  </a:lnTo>
                  <a:lnTo>
                    <a:pt x="1716" y="28"/>
                  </a:lnTo>
                  <a:lnTo>
                    <a:pt x="1708" y="31"/>
                  </a:lnTo>
                  <a:lnTo>
                    <a:pt x="1700" y="33"/>
                  </a:lnTo>
                  <a:lnTo>
                    <a:pt x="1692" y="34"/>
                  </a:lnTo>
                  <a:lnTo>
                    <a:pt x="1684" y="36"/>
                  </a:lnTo>
                  <a:lnTo>
                    <a:pt x="1677" y="37"/>
                  </a:lnTo>
                  <a:lnTo>
                    <a:pt x="1670" y="38"/>
                  </a:lnTo>
                  <a:lnTo>
                    <a:pt x="1662" y="39"/>
                  </a:lnTo>
                  <a:lnTo>
                    <a:pt x="1654" y="40"/>
                  </a:lnTo>
                  <a:lnTo>
                    <a:pt x="1643" y="39"/>
                  </a:lnTo>
                  <a:lnTo>
                    <a:pt x="1633" y="38"/>
                  </a:lnTo>
                  <a:lnTo>
                    <a:pt x="1624" y="36"/>
                  </a:lnTo>
                  <a:lnTo>
                    <a:pt x="1614" y="34"/>
                  </a:lnTo>
                  <a:lnTo>
                    <a:pt x="1604" y="31"/>
                  </a:lnTo>
                  <a:lnTo>
                    <a:pt x="1596" y="28"/>
                  </a:lnTo>
                  <a:lnTo>
                    <a:pt x="1586" y="24"/>
                  </a:lnTo>
                  <a:lnTo>
                    <a:pt x="1577" y="21"/>
                  </a:lnTo>
                  <a:lnTo>
                    <a:pt x="1568" y="17"/>
                  </a:lnTo>
                  <a:lnTo>
                    <a:pt x="1559" y="14"/>
                  </a:lnTo>
                  <a:lnTo>
                    <a:pt x="1551" y="11"/>
                  </a:lnTo>
                  <a:lnTo>
                    <a:pt x="1542" y="8"/>
                  </a:lnTo>
                  <a:lnTo>
                    <a:pt x="1533" y="5"/>
                  </a:lnTo>
                  <a:lnTo>
                    <a:pt x="1523" y="4"/>
                  </a:lnTo>
                  <a:lnTo>
                    <a:pt x="1514" y="2"/>
                  </a:lnTo>
                  <a:lnTo>
                    <a:pt x="1505" y="2"/>
                  </a:lnTo>
                  <a:lnTo>
                    <a:pt x="1504" y="2"/>
                  </a:lnTo>
                  <a:lnTo>
                    <a:pt x="1505" y="2"/>
                  </a:lnTo>
                  <a:lnTo>
                    <a:pt x="1497" y="2"/>
                  </a:lnTo>
                  <a:lnTo>
                    <a:pt x="1489" y="3"/>
                  </a:lnTo>
                  <a:lnTo>
                    <a:pt x="1481" y="5"/>
                  </a:lnTo>
                  <a:lnTo>
                    <a:pt x="1471" y="7"/>
                  </a:lnTo>
                  <a:lnTo>
                    <a:pt x="1461" y="10"/>
                  </a:lnTo>
                  <a:lnTo>
                    <a:pt x="1451" y="13"/>
                  </a:lnTo>
                  <a:lnTo>
                    <a:pt x="1441" y="16"/>
                  </a:lnTo>
                  <a:lnTo>
                    <a:pt x="1429" y="20"/>
                  </a:lnTo>
                  <a:lnTo>
                    <a:pt x="1418" y="24"/>
                  </a:lnTo>
                  <a:lnTo>
                    <a:pt x="1407" y="27"/>
                  </a:lnTo>
                  <a:lnTo>
                    <a:pt x="1395" y="30"/>
                  </a:lnTo>
                  <a:lnTo>
                    <a:pt x="1384" y="33"/>
                  </a:lnTo>
                  <a:lnTo>
                    <a:pt x="1372" y="35"/>
                  </a:lnTo>
                  <a:lnTo>
                    <a:pt x="1361" y="38"/>
                  </a:lnTo>
                  <a:lnTo>
                    <a:pt x="1349" y="39"/>
                  </a:lnTo>
                  <a:lnTo>
                    <a:pt x="1339" y="40"/>
                  </a:lnTo>
                  <a:lnTo>
                    <a:pt x="1328" y="40"/>
                  </a:lnTo>
                  <a:lnTo>
                    <a:pt x="1318" y="38"/>
                  </a:lnTo>
                  <a:lnTo>
                    <a:pt x="1307" y="37"/>
                  </a:lnTo>
                  <a:lnTo>
                    <a:pt x="1298" y="35"/>
                  </a:lnTo>
                  <a:lnTo>
                    <a:pt x="1289" y="32"/>
                  </a:lnTo>
                  <a:lnTo>
                    <a:pt x="1279" y="29"/>
                  </a:lnTo>
                  <a:lnTo>
                    <a:pt x="1270" y="26"/>
                  </a:lnTo>
                  <a:lnTo>
                    <a:pt x="1261" y="22"/>
                  </a:lnTo>
                  <a:lnTo>
                    <a:pt x="1253" y="20"/>
                  </a:lnTo>
                  <a:lnTo>
                    <a:pt x="1243" y="16"/>
                  </a:lnTo>
                  <a:lnTo>
                    <a:pt x="1235" y="13"/>
                  </a:lnTo>
                  <a:lnTo>
                    <a:pt x="1226" y="10"/>
                  </a:lnTo>
                  <a:lnTo>
                    <a:pt x="1216" y="7"/>
                  </a:lnTo>
                  <a:lnTo>
                    <a:pt x="1207" y="5"/>
                  </a:lnTo>
                  <a:lnTo>
                    <a:pt x="1198" y="4"/>
                  </a:lnTo>
                  <a:lnTo>
                    <a:pt x="1188" y="2"/>
                  </a:lnTo>
                  <a:lnTo>
                    <a:pt x="1187" y="2"/>
                  </a:lnTo>
                  <a:lnTo>
                    <a:pt x="1188" y="2"/>
                  </a:lnTo>
                  <a:lnTo>
                    <a:pt x="1181" y="2"/>
                  </a:lnTo>
                  <a:lnTo>
                    <a:pt x="1173" y="4"/>
                  </a:lnTo>
                  <a:lnTo>
                    <a:pt x="1164" y="5"/>
                  </a:lnTo>
                  <a:lnTo>
                    <a:pt x="1155" y="8"/>
                  </a:lnTo>
                  <a:lnTo>
                    <a:pt x="1145" y="11"/>
                  </a:lnTo>
                  <a:lnTo>
                    <a:pt x="1136" y="14"/>
                  </a:lnTo>
                  <a:lnTo>
                    <a:pt x="1124" y="17"/>
                  </a:lnTo>
                  <a:lnTo>
                    <a:pt x="1114" y="21"/>
                  </a:lnTo>
                  <a:lnTo>
                    <a:pt x="1103" y="24"/>
                  </a:lnTo>
                  <a:lnTo>
                    <a:pt x="1092" y="28"/>
                  </a:lnTo>
                  <a:lnTo>
                    <a:pt x="1080" y="31"/>
                  </a:lnTo>
                  <a:lnTo>
                    <a:pt x="1069" y="34"/>
                  </a:lnTo>
                  <a:lnTo>
                    <a:pt x="1057" y="37"/>
                  </a:lnTo>
                  <a:lnTo>
                    <a:pt x="1046" y="39"/>
                  </a:lnTo>
                  <a:lnTo>
                    <a:pt x="1035" y="40"/>
                  </a:lnTo>
                  <a:lnTo>
                    <a:pt x="1024" y="41"/>
                  </a:lnTo>
                  <a:lnTo>
                    <a:pt x="1013" y="40"/>
                  </a:lnTo>
                  <a:lnTo>
                    <a:pt x="1003" y="40"/>
                  </a:lnTo>
                  <a:lnTo>
                    <a:pt x="993" y="37"/>
                  </a:lnTo>
                  <a:lnTo>
                    <a:pt x="983" y="35"/>
                  </a:lnTo>
                  <a:lnTo>
                    <a:pt x="974" y="33"/>
                  </a:lnTo>
                  <a:lnTo>
                    <a:pt x="964" y="29"/>
                  </a:lnTo>
                  <a:lnTo>
                    <a:pt x="956" y="25"/>
                  </a:lnTo>
                  <a:lnTo>
                    <a:pt x="946" y="22"/>
                  </a:lnTo>
                  <a:lnTo>
                    <a:pt x="938" y="19"/>
                  </a:lnTo>
                  <a:lnTo>
                    <a:pt x="929" y="15"/>
                  </a:lnTo>
                  <a:lnTo>
                    <a:pt x="920" y="12"/>
                  </a:lnTo>
                  <a:lnTo>
                    <a:pt x="911" y="10"/>
                  </a:lnTo>
                  <a:lnTo>
                    <a:pt x="901" y="7"/>
                  </a:lnTo>
                  <a:lnTo>
                    <a:pt x="893" y="5"/>
                  </a:lnTo>
                  <a:lnTo>
                    <a:pt x="883" y="4"/>
                  </a:lnTo>
                  <a:lnTo>
                    <a:pt x="873" y="4"/>
                  </a:lnTo>
                  <a:lnTo>
                    <a:pt x="874" y="4"/>
                  </a:lnTo>
                  <a:lnTo>
                    <a:pt x="873" y="4"/>
                  </a:lnTo>
                  <a:lnTo>
                    <a:pt x="866" y="4"/>
                  </a:lnTo>
                  <a:lnTo>
                    <a:pt x="858" y="5"/>
                  </a:lnTo>
                  <a:lnTo>
                    <a:pt x="850" y="7"/>
                  </a:lnTo>
                  <a:lnTo>
                    <a:pt x="840" y="9"/>
                  </a:lnTo>
                  <a:lnTo>
                    <a:pt x="831" y="11"/>
                  </a:lnTo>
                  <a:lnTo>
                    <a:pt x="821" y="15"/>
                  </a:lnTo>
                  <a:lnTo>
                    <a:pt x="810" y="18"/>
                  </a:lnTo>
                  <a:lnTo>
                    <a:pt x="800" y="21"/>
                  </a:lnTo>
                  <a:lnTo>
                    <a:pt x="788" y="25"/>
                  </a:lnTo>
                  <a:lnTo>
                    <a:pt x="777" y="29"/>
                  </a:lnTo>
                  <a:lnTo>
                    <a:pt x="765" y="32"/>
                  </a:lnTo>
                  <a:lnTo>
                    <a:pt x="754" y="35"/>
                  </a:lnTo>
                  <a:lnTo>
                    <a:pt x="743" y="37"/>
                  </a:lnTo>
                  <a:lnTo>
                    <a:pt x="731" y="40"/>
                  </a:lnTo>
                  <a:lnTo>
                    <a:pt x="720" y="41"/>
                  </a:lnTo>
                  <a:lnTo>
                    <a:pt x="709" y="41"/>
                  </a:lnTo>
                  <a:lnTo>
                    <a:pt x="698" y="41"/>
                  </a:lnTo>
                  <a:lnTo>
                    <a:pt x="688" y="40"/>
                  </a:lnTo>
                  <a:lnTo>
                    <a:pt x="679" y="38"/>
                  </a:lnTo>
                  <a:lnTo>
                    <a:pt x="669" y="36"/>
                  </a:lnTo>
                  <a:lnTo>
                    <a:pt x="659" y="33"/>
                  </a:lnTo>
                  <a:lnTo>
                    <a:pt x="651" y="30"/>
                  </a:lnTo>
                  <a:lnTo>
                    <a:pt x="641" y="27"/>
                  </a:lnTo>
                  <a:lnTo>
                    <a:pt x="632" y="23"/>
                  </a:lnTo>
                  <a:lnTo>
                    <a:pt x="623" y="20"/>
                  </a:lnTo>
                  <a:lnTo>
                    <a:pt x="614" y="16"/>
                  </a:lnTo>
                  <a:lnTo>
                    <a:pt x="606" y="13"/>
                  </a:lnTo>
                  <a:lnTo>
                    <a:pt x="596" y="10"/>
                  </a:lnTo>
                  <a:lnTo>
                    <a:pt x="587" y="8"/>
                  </a:lnTo>
                  <a:lnTo>
                    <a:pt x="578" y="6"/>
                  </a:lnTo>
                  <a:lnTo>
                    <a:pt x="569" y="5"/>
                  </a:lnTo>
                  <a:lnTo>
                    <a:pt x="559" y="4"/>
                  </a:lnTo>
                  <a:lnTo>
                    <a:pt x="558" y="4"/>
                  </a:lnTo>
                  <a:lnTo>
                    <a:pt x="559" y="4"/>
                  </a:lnTo>
                  <a:lnTo>
                    <a:pt x="560" y="4"/>
                  </a:lnTo>
                  <a:lnTo>
                    <a:pt x="559" y="4"/>
                  </a:lnTo>
                  <a:lnTo>
                    <a:pt x="552" y="4"/>
                  </a:lnTo>
                  <a:lnTo>
                    <a:pt x="544" y="5"/>
                  </a:lnTo>
                  <a:lnTo>
                    <a:pt x="536" y="7"/>
                  </a:lnTo>
                  <a:lnTo>
                    <a:pt x="526" y="10"/>
                  </a:lnTo>
                  <a:lnTo>
                    <a:pt x="516" y="12"/>
                  </a:lnTo>
                  <a:lnTo>
                    <a:pt x="506" y="15"/>
                  </a:lnTo>
                  <a:lnTo>
                    <a:pt x="496" y="18"/>
                  </a:lnTo>
                  <a:lnTo>
                    <a:pt x="484" y="22"/>
                  </a:lnTo>
                  <a:lnTo>
                    <a:pt x="473" y="26"/>
                  </a:lnTo>
                  <a:lnTo>
                    <a:pt x="462" y="29"/>
                  </a:lnTo>
                  <a:lnTo>
                    <a:pt x="450" y="33"/>
                  </a:lnTo>
                  <a:lnTo>
                    <a:pt x="438" y="35"/>
                  </a:lnTo>
                  <a:lnTo>
                    <a:pt x="427" y="38"/>
                  </a:lnTo>
                  <a:lnTo>
                    <a:pt x="416" y="40"/>
                  </a:lnTo>
                  <a:lnTo>
                    <a:pt x="404" y="41"/>
                  </a:lnTo>
                  <a:lnTo>
                    <a:pt x="394" y="42"/>
                  </a:lnTo>
                  <a:lnTo>
                    <a:pt x="383" y="42"/>
                  </a:lnTo>
                  <a:lnTo>
                    <a:pt x="373" y="41"/>
                  </a:lnTo>
                  <a:lnTo>
                    <a:pt x="363" y="39"/>
                  </a:lnTo>
                  <a:lnTo>
                    <a:pt x="353" y="37"/>
                  </a:lnTo>
                  <a:lnTo>
                    <a:pt x="344" y="34"/>
                  </a:lnTo>
                  <a:lnTo>
                    <a:pt x="334" y="31"/>
                  </a:lnTo>
                  <a:lnTo>
                    <a:pt x="325" y="28"/>
                  </a:lnTo>
                  <a:lnTo>
                    <a:pt x="316" y="25"/>
                  </a:lnTo>
                  <a:lnTo>
                    <a:pt x="308" y="21"/>
                  </a:lnTo>
                  <a:lnTo>
                    <a:pt x="298" y="18"/>
                  </a:lnTo>
                  <a:lnTo>
                    <a:pt x="289" y="15"/>
                  </a:lnTo>
                  <a:lnTo>
                    <a:pt x="281" y="12"/>
                  </a:lnTo>
                  <a:lnTo>
                    <a:pt x="271" y="10"/>
                  </a:lnTo>
                  <a:lnTo>
                    <a:pt x="262" y="7"/>
                  </a:lnTo>
                  <a:lnTo>
                    <a:pt x="252" y="6"/>
                  </a:lnTo>
                  <a:lnTo>
                    <a:pt x="243" y="5"/>
                  </a:lnTo>
                  <a:lnTo>
                    <a:pt x="236" y="5"/>
                  </a:lnTo>
                  <a:lnTo>
                    <a:pt x="228" y="6"/>
                  </a:lnTo>
                  <a:lnTo>
                    <a:pt x="219" y="8"/>
                  </a:lnTo>
                  <a:lnTo>
                    <a:pt x="210" y="10"/>
                  </a:lnTo>
                  <a:lnTo>
                    <a:pt x="201" y="12"/>
                  </a:lnTo>
                  <a:lnTo>
                    <a:pt x="190" y="16"/>
                  </a:lnTo>
                  <a:lnTo>
                    <a:pt x="180" y="19"/>
                  </a:lnTo>
                  <a:lnTo>
                    <a:pt x="168" y="22"/>
                  </a:lnTo>
                  <a:lnTo>
                    <a:pt x="158" y="27"/>
                  </a:lnTo>
                  <a:lnTo>
                    <a:pt x="147" y="30"/>
                  </a:lnTo>
                  <a:lnTo>
                    <a:pt x="135" y="33"/>
                  </a:lnTo>
                  <a:lnTo>
                    <a:pt x="124" y="36"/>
                  </a:lnTo>
                  <a:lnTo>
                    <a:pt x="112" y="38"/>
                  </a:lnTo>
                  <a:lnTo>
                    <a:pt x="101" y="41"/>
                  </a:lnTo>
                  <a:lnTo>
                    <a:pt x="90" y="42"/>
                  </a:lnTo>
                  <a:lnTo>
                    <a:pt x="79" y="42"/>
                  </a:lnTo>
                  <a:lnTo>
                    <a:pt x="68" y="42"/>
                  </a:lnTo>
                  <a:lnTo>
                    <a:pt x="57" y="41"/>
                  </a:lnTo>
                  <a:lnTo>
                    <a:pt x="47" y="40"/>
                  </a:lnTo>
                  <a:lnTo>
                    <a:pt x="38" y="37"/>
                  </a:lnTo>
                  <a:lnTo>
                    <a:pt x="28" y="34"/>
                  </a:lnTo>
                  <a:lnTo>
                    <a:pt x="19" y="31"/>
                  </a:lnTo>
                  <a:lnTo>
                    <a:pt x="10" y="27"/>
                  </a:lnTo>
                  <a:lnTo>
                    <a:pt x="0" y="24"/>
                  </a:lnTo>
                  <a:lnTo>
                    <a:pt x="0" y="28"/>
                  </a:lnTo>
                  <a:lnTo>
                    <a:pt x="1" y="34"/>
                  </a:lnTo>
                  <a:lnTo>
                    <a:pt x="1" y="38"/>
                  </a:lnTo>
                  <a:lnTo>
                    <a:pt x="1" y="43"/>
                  </a:lnTo>
                  <a:lnTo>
                    <a:pt x="10" y="47"/>
                  </a:lnTo>
                  <a:lnTo>
                    <a:pt x="19" y="50"/>
                  </a:lnTo>
                  <a:lnTo>
                    <a:pt x="28" y="53"/>
                  </a:lnTo>
                  <a:lnTo>
                    <a:pt x="38" y="56"/>
                  </a:lnTo>
                  <a:lnTo>
                    <a:pt x="48" y="59"/>
                  </a:lnTo>
                  <a:lnTo>
                    <a:pt x="58" y="60"/>
                  </a:lnTo>
                  <a:lnTo>
                    <a:pt x="68" y="61"/>
                  </a:lnTo>
                  <a:lnTo>
                    <a:pt x="79" y="62"/>
                  </a:lnTo>
                  <a:lnTo>
                    <a:pt x="90" y="61"/>
                  </a:lnTo>
                  <a:lnTo>
                    <a:pt x="101" y="60"/>
                  </a:lnTo>
                  <a:lnTo>
                    <a:pt x="113" y="59"/>
                  </a:lnTo>
                  <a:lnTo>
                    <a:pt x="124" y="56"/>
                  </a:lnTo>
                  <a:lnTo>
                    <a:pt x="135" y="53"/>
                  </a:lnTo>
                  <a:lnTo>
                    <a:pt x="147" y="50"/>
                  </a:lnTo>
                  <a:lnTo>
                    <a:pt x="158" y="47"/>
                  </a:lnTo>
                  <a:lnTo>
                    <a:pt x="168" y="43"/>
                  </a:lnTo>
                  <a:lnTo>
                    <a:pt x="180" y="40"/>
                  </a:lnTo>
                  <a:lnTo>
                    <a:pt x="189" y="36"/>
                  </a:lnTo>
                  <a:lnTo>
                    <a:pt x="200" y="33"/>
                  </a:lnTo>
                  <a:lnTo>
                    <a:pt x="210" y="30"/>
                  </a:lnTo>
                  <a:lnTo>
                    <a:pt x="218" y="28"/>
                  </a:lnTo>
                  <a:lnTo>
                    <a:pt x="227" y="26"/>
                  </a:lnTo>
                  <a:lnTo>
                    <a:pt x="235" y="25"/>
                  </a:lnTo>
                  <a:lnTo>
                    <a:pt x="242" y="24"/>
                  </a:lnTo>
                  <a:lnTo>
                    <a:pt x="252" y="25"/>
                  </a:lnTo>
                  <a:lnTo>
                    <a:pt x="262" y="25"/>
                  </a:lnTo>
                  <a:lnTo>
                    <a:pt x="271" y="27"/>
                  </a:lnTo>
                  <a:lnTo>
                    <a:pt x="280" y="29"/>
                  </a:lnTo>
                  <a:lnTo>
                    <a:pt x="289" y="33"/>
                  </a:lnTo>
                  <a:lnTo>
                    <a:pt x="298" y="35"/>
                  </a:lnTo>
                  <a:lnTo>
                    <a:pt x="308" y="39"/>
                  </a:lnTo>
                  <a:lnTo>
                    <a:pt x="316" y="42"/>
                  </a:lnTo>
                  <a:lnTo>
                    <a:pt x="326" y="46"/>
                  </a:lnTo>
                  <a:lnTo>
                    <a:pt x="335" y="50"/>
                  </a:lnTo>
                  <a:lnTo>
                    <a:pt x="345" y="52"/>
                  </a:lnTo>
                  <a:lnTo>
                    <a:pt x="354" y="55"/>
                  </a:lnTo>
                  <a:lnTo>
                    <a:pt x="363" y="58"/>
                  </a:lnTo>
                  <a:lnTo>
                    <a:pt x="374" y="60"/>
                  </a:lnTo>
                  <a:lnTo>
                    <a:pt x="383" y="60"/>
                  </a:lnTo>
                  <a:lnTo>
                    <a:pt x="395" y="61"/>
                  </a:lnTo>
                  <a:lnTo>
                    <a:pt x="405" y="60"/>
                  </a:lnTo>
                  <a:lnTo>
                    <a:pt x="417" y="59"/>
                  </a:lnTo>
                  <a:lnTo>
                    <a:pt x="428" y="57"/>
                  </a:lnTo>
                  <a:lnTo>
                    <a:pt x="439" y="55"/>
                  </a:lnTo>
                  <a:lnTo>
                    <a:pt x="450" y="52"/>
                  </a:lnTo>
                  <a:lnTo>
                    <a:pt x="462" y="48"/>
                  </a:lnTo>
                  <a:lnTo>
                    <a:pt x="473" y="45"/>
                  </a:lnTo>
                  <a:lnTo>
                    <a:pt x="483" y="41"/>
                  </a:lnTo>
                  <a:lnTo>
                    <a:pt x="494" y="38"/>
                  </a:lnTo>
                  <a:lnTo>
                    <a:pt x="504" y="34"/>
                  </a:lnTo>
                  <a:lnTo>
                    <a:pt x="515" y="31"/>
                  </a:lnTo>
                  <a:lnTo>
                    <a:pt x="524" y="28"/>
                  </a:lnTo>
                  <a:lnTo>
                    <a:pt x="533" y="26"/>
                  </a:lnTo>
                  <a:lnTo>
                    <a:pt x="541" y="24"/>
                  </a:lnTo>
                  <a:lnTo>
                    <a:pt x="549" y="23"/>
                  </a:lnTo>
                  <a:lnTo>
                    <a:pt x="557" y="23"/>
                  </a:lnTo>
                  <a:lnTo>
                    <a:pt x="558" y="23"/>
                  </a:lnTo>
                  <a:lnTo>
                    <a:pt x="559" y="24"/>
                  </a:lnTo>
                  <a:lnTo>
                    <a:pt x="560" y="24"/>
                  </a:lnTo>
                  <a:lnTo>
                    <a:pt x="569" y="25"/>
                  </a:lnTo>
                  <a:lnTo>
                    <a:pt x="579" y="27"/>
                  </a:lnTo>
                  <a:lnTo>
                    <a:pt x="588" y="28"/>
                  </a:lnTo>
                  <a:lnTo>
                    <a:pt x="597" y="31"/>
                  </a:lnTo>
                  <a:lnTo>
                    <a:pt x="606" y="34"/>
                  </a:lnTo>
                  <a:lnTo>
                    <a:pt x="615" y="37"/>
                  </a:lnTo>
                  <a:lnTo>
                    <a:pt x="624" y="41"/>
                  </a:lnTo>
                  <a:lnTo>
                    <a:pt x="633" y="44"/>
                  </a:lnTo>
                  <a:lnTo>
                    <a:pt x="642" y="47"/>
                  </a:lnTo>
                  <a:lnTo>
                    <a:pt x="651" y="50"/>
                  </a:lnTo>
                  <a:lnTo>
                    <a:pt x="660" y="53"/>
                  </a:lnTo>
                  <a:lnTo>
                    <a:pt x="669" y="56"/>
                  </a:lnTo>
                  <a:lnTo>
                    <a:pt x="679" y="58"/>
                  </a:lnTo>
                  <a:lnTo>
                    <a:pt x="689" y="60"/>
                  </a:lnTo>
                  <a:lnTo>
                    <a:pt x="699" y="61"/>
                  </a:lnTo>
                  <a:lnTo>
                    <a:pt x="710" y="61"/>
                  </a:lnTo>
                  <a:lnTo>
                    <a:pt x="721" y="60"/>
                  </a:lnTo>
                  <a:lnTo>
                    <a:pt x="732" y="59"/>
                  </a:lnTo>
                  <a:lnTo>
                    <a:pt x="743" y="57"/>
                  </a:lnTo>
                  <a:lnTo>
                    <a:pt x="755" y="55"/>
                  </a:lnTo>
                  <a:lnTo>
                    <a:pt x="766" y="52"/>
                  </a:lnTo>
                  <a:lnTo>
                    <a:pt x="777" y="48"/>
                  </a:lnTo>
                  <a:lnTo>
                    <a:pt x="789" y="45"/>
                  </a:lnTo>
                  <a:lnTo>
                    <a:pt x="800" y="41"/>
                  </a:lnTo>
                  <a:lnTo>
                    <a:pt x="810" y="38"/>
                  </a:lnTo>
                  <a:lnTo>
                    <a:pt x="821" y="35"/>
                  </a:lnTo>
                  <a:lnTo>
                    <a:pt x="831" y="31"/>
                  </a:lnTo>
                  <a:lnTo>
                    <a:pt x="840" y="28"/>
                  </a:lnTo>
                  <a:lnTo>
                    <a:pt x="850" y="26"/>
                  </a:lnTo>
                  <a:lnTo>
                    <a:pt x="858" y="24"/>
                  </a:lnTo>
                  <a:lnTo>
                    <a:pt x="866" y="23"/>
                  </a:lnTo>
                  <a:lnTo>
                    <a:pt x="873" y="22"/>
                  </a:lnTo>
                  <a:lnTo>
                    <a:pt x="883" y="23"/>
                  </a:lnTo>
                  <a:lnTo>
                    <a:pt x="893" y="24"/>
                  </a:lnTo>
                  <a:lnTo>
                    <a:pt x="901" y="26"/>
                  </a:lnTo>
                  <a:lnTo>
                    <a:pt x="911" y="28"/>
                  </a:lnTo>
                  <a:lnTo>
                    <a:pt x="920" y="31"/>
                  </a:lnTo>
                  <a:lnTo>
                    <a:pt x="929" y="34"/>
                  </a:lnTo>
                  <a:lnTo>
                    <a:pt x="938" y="38"/>
                  </a:lnTo>
                  <a:lnTo>
                    <a:pt x="946" y="41"/>
                  </a:lnTo>
                  <a:lnTo>
                    <a:pt x="956" y="45"/>
                  </a:lnTo>
                  <a:lnTo>
                    <a:pt x="964" y="48"/>
                  </a:lnTo>
                  <a:lnTo>
                    <a:pt x="974" y="51"/>
                  </a:lnTo>
                  <a:lnTo>
                    <a:pt x="983" y="54"/>
                  </a:lnTo>
                  <a:lnTo>
                    <a:pt x="993" y="57"/>
                  </a:lnTo>
                  <a:lnTo>
                    <a:pt x="1003" y="59"/>
                  </a:lnTo>
                  <a:lnTo>
                    <a:pt x="1013" y="59"/>
                  </a:lnTo>
                  <a:lnTo>
                    <a:pt x="1024" y="60"/>
                  </a:lnTo>
                  <a:lnTo>
                    <a:pt x="1035" y="59"/>
                  </a:lnTo>
                  <a:lnTo>
                    <a:pt x="1046" y="58"/>
                  </a:lnTo>
                  <a:lnTo>
                    <a:pt x="1057" y="56"/>
                  </a:lnTo>
                  <a:lnTo>
                    <a:pt x="1069" y="54"/>
                  </a:lnTo>
                  <a:lnTo>
                    <a:pt x="1080" y="51"/>
                  </a:lnTo>
                  <a:lnTo>
                    <a:pt x="1091" y="48"/>
                  </a:lnTo>
                  <a:lnTo>
                    <a:pt x="1103" y="44"/>
                  </a:lnTo>
                  <a:lnTo>
                    <a:pt x="1114" y="41"/>
                  </a:lnTo>
                  <a:lnTo>
                    <a:pt x="1124" y="37"/>
                  </a:lnTo>
                  <a:lnTo>
                    <a:pt x="1135" y="34"/>
                  </a:lnTo>
                  <a:lnTo>
                    <a:pt x="1145" y="31"/>
                  </a:lnTo>
                  <a:lnTo>
                    <a:pt x="1154" y="28"/>
                  </a:lnTo>
                  <a:lnTo>
                    <a:pt x="1164" y="25"/>
                  </a:lnTo>
                  <a:lnTo>
                    <a:pt x="1172" y="24"/>
                  </a:lnTo>
                  <a:lnTo>
                    <a:pt x="1180" y="22"/>
                  </a:lnTo>
                  <a:lnTo>
                    <a:pt x="1187" y="22"/>
                  </a:lnTo>
                  <a:lnTo>
                    <a:pt x="1198" y="22"/>
                  </a:lnTo>
                  <a:lnTo>
                    <a:pt x="1207" y="23"/>
                  </a:lnTo>
                  <a:lnTo>
                    <a:pt x="1216" y="25"/>
                  </a:lnTo>
                  <a:lnTo>
                    <a:pt x="1225" y="28"/>
                  </a:lnTo>
                  <a:lnTo>
                    <a:pt x="1235" y="30"/>
                  </a:lnTo>
                  <a:lnTo>
                    <a:pt x="1243" y="34"/>
                  </a:lnTo>
                  <a:lnTo>
                    <a:pt x="1253" y="37"/>
                  </a:lnTo>
                  <a:lnTo>
                    <a:pt x="1261" y="40"/>
                  </a:lnTo>
                  <a:lnTo>
                    <a:pt x="1271" y="44"/>
                  </a:lnTo>
                  <a:lnTo>
                    <a:pt x="1279" y="47"/>
                  </a:lnTo>
                  <a:lnTo>
                    <a:pt x="1289" y="51"/>
                  </a:lnTo>
                  <a:lnTo>
                    <a:pt x="1298" y="53"/>
                  </a:lnTo>
                  <a:lnTo>
                    <a:pt x="1308" y="55"/>
                  </a:lnTo>
                  <a:lnTo>
                    <a:pt x="1318" y="58"/>
                  </a:lnTo>
                  <a:lnTo>
                    <a:pt x="1328" y="59"/>
                  </a:lnTo>
                  <a:lnTo>
                    <a:pt x="1339" y="59"/>
                  </a:lnTo>
                  <a:lnTo>
                    <a:pt x="1349" y="59"/>
                  </a:lnTo>
                  <a:lnTo>
                    <a:pt x="1361" y="57"/>
                  </a:lnTo>
                  <a:lnTo>
                    <a:pt x="1372" y="55"/>
                  </a:lnTo>
                  <a:lnTo>
                    <a:pt x="1384" y="52"/>
                  </a:lnTo>
                  <a:lnTo>
                    <a:pt x="1395" y="50"/>
                  </a:lnTo>
                  <a:lnTo>
                    <a:pt x="1406" y="47"/>
                  </a:lnTo>
                  <a:lnTo>
                    <a:pt x="1418" y="43"/>
                  </a:lnTo>
                  <a:lnTo>
                    <a:pt x="1428" y="39"/>
                  </a:lnTo>
                  <a:lnTo>
                    <a:pt x="1439" y="35"/>
                  </a:lnTo>
                  <a:lnTo>
                    <a:pt x="1449" y="33"/>
                  </a:lnTo>
                  <a:lnTo>
                    <a:pt x="1460" y="29"/>
                  </a:lnTo>
                  <a:lnTo>
                    <a:pt x="1469" y="27"/>
                  </a:lnTo>
                  <a:lnTo>
                    <a:pt x="1477" y="24"/>
                  </a:lnTo>
                  <a:lnTo>
                    <a:pt x="1486" y="22"/>
                  </a:lnTo>
                  <a:lnTo>
                    <a:pt x="1494" y="21"/>
                  </a:lnTo>
                  <a:lnTo>
                    <a:pt x="1501" y="21"/>
                  </a:lnTo>
                  <a:lnTo>
                    <a:pt x="1502" y="21"/>
                  </a:lnTo>
                  <a:lnTo>
                    <a:pt x="1504" y="21"/>
                  </a:lnTo>
                  <a:lnTo>
                    <a:pt x="1505" y="21"/>
                  </a:lnTo>
                  <a:lnTo>
                    <a:pt x="1514" y="22"/>
                  </a:lnTo>
                  <a:lnTo>
                    <a:pt x="1524" y="24"/>
                  </a:lnTo>
                  <a:lnTo>
                    <a:pt x="1533" y="26"/>
                  </a:lnTo>
                  <a:lnTo>
                    <a:pt x="1542" y="29"/>
                  </a:lnTo>
                  <a:lnTo>
                    <a:pt x="1551" y="32"/>
                  </a:lnTo>
                  <a:lnTo>
                    <a:pt x="1560" y="35"/>
                  </a:lnTo>
                  <a:lnTo>
                    <a:pt x="1569" y="38"/>
                  </a:lnTo>
                  <a:lnTo>
                    <a:pt x="1578" y="41"/>
                  </a:lnTo>
                  <a:lnTo>
                    <a:pt x="1587" y="45"/>
                  </a:lnTo>
                  <a:lnTo>
                    <a:pt x="1596" y="48"/>
                  </a:lnTo>
                  <a:lnTo>
                    <a:pt x="1605" y="51"/>
                  </a:lnTo>
                  <a:lnTo>
                    <a:pt x="1614" y="54"/>
                  </a:lnTo>
                  <a:lnTo>
                    <a:pt x="1624" y="55"/>
                  </a:lnTo>
                  <a:lnTo>
                    <a:pt x="1634" y="57"/>
                  </a:lnTo>
                  <a:lnTo>
                    <a:pt x="1644" y="59"/>
                  </a:lnTo>
                  <a:lnTo>
                    <a:pt x="1655" y="59"/>
                  </a:lnTo>
                  <a:lnTo>
                    <a:pt x="1662" y="59"/>
                  </a:lnTo>
                  <a:lnTo>
                    <a:pt x="1670" y="58"/>
                  </a:lnTo>
                  <a:lnTo>
                    <a:pt x="1678" y="57"/>
                  </a:lnTo>
                  <a:lnTo>
                    <a:pt x="1685" y="55"/>
                  </a:lnTo>
                  <a:lnTo>
                    <a:pt x="1693" y="54"/>
                  </a:lnTo>
                  <a:lnTo>
                    <a:pt x="1701" y="52"/>
                  </a:lnTo>
                  <a:lnTo>
                    <a:pt x="1709" y="50"/>
                  </a:lnTo>
                  <a:lnTo>
                    <a:pt x="1717" y="48"/>
                  </a:lnTo>
                  <a:lnTo>
                    <a:pt x="1725" y="46"/>
                  </a:lnTo>
                  <a:lnTo>
                    <a:pt x="1732" y="43"/>
                  </a:lnTo>
                  <a:lnTo>
                    <a:pt x="1740" y="41"/>
                  </a:lnTo>
                  <a:lnTo>
                    <a:pt x="1748" y="38"/>
                  </a:lnTo>
                  <a:lnTo>
                    <a:pt x="1755" y="36"/>
                  </a:lnTo>
                  <a:lnTo>
                    <a:pt x="1763" y="34"/>
                  </a:lnTo>
                  <a:lnTo>
                    <a:pt x="1769" y="31"/>
                  </a:lnTo>
                  <a:lnTo>
                    <a:pt x="1777" y="29"/>
                  </a:lnTo>
                  <a:lnTo>
                    <a:pt x="1782" y="27"/>
                  </a:lnTo>
                  <a:lnTo>
                    <a:pt x="1788" y="25"/>
                  </a:lnTo>
                  <a:lnTo>
                    <a:pt x="1794" y="24"/>
                  </a:lnTo>
                  <a:lnTo>
                    <a:pt x="1799" y="23"/>
                  </a:lnTo>
                  <a:lnTo>
                    <a:pt x="1804" y="22"/>
                  </a:lnTo>
                  <a:lnTo>
                    <a:pt x="1809" y="21"/>
                  </a:lnTo>
                  <a:lnTo>
                    <a:pt x="1814" y="21"/>
                  </a:lnTo>
                  <a:lnTo>
                    <a:pt x="1819" y="21"/>
                  </a:lnTo>
                  <a:lnTo>
                    <a:pt x="1828" y="21"/>
                  </a:lnTo>
                  <a:lnTo>
                    <a:pt x="1837" y="22"/>
                  </a:lnTo>
                  <a:lnTo>
                    <a:pt x="1847" y="24"/>
                  </a:lnTo>
                  <a:lnTo>
                    <a:pt x="1856" y="27"/>
                  </a:lnTo>
                  <a:lnTo>
                    <a:pt x="1865" y="29"/>
                  </a:lnTo>
                  <a:lnTo>
                    <a:pt x="1874" y="33"/>
                  </a:lnTo>
                  <a:lnTo>
                    <a:pt x="1883" y="36"/>
                  </a:lnTo>
                  <a:lnTo>
                    <a:pt x="1892" y="39"/>
                  </a:lnTo>
                  <a:lnTo>
                    <a:pt x="1901" y="42"/>
                  </a:lnTo>
                  <a:lnTo>
                    <a:pt x="1910" y="46"/>
                  </a:lnTo>
                  <a:lnTo>
                    <a:pt x="1920" y="50"/>
                  </a:lnTo>
                  <a:lnTo>
                    <a:pt x="1929" y="52"/>
                  </a:lnTo>
                  <a:lnTo>
                    <a:pt x="1939" y="54"/>
                  </a:lnTo>
                  <a:lnTo>
                    <a:pt x="1949" y="57"/>
                  </a:lnTo>
                  <a:lnTo>
                    <a:pt x="1959" y="57"/>
                  </a:lnTo>
                  <a:lnTo>
                    <a:pt x="1970" y="58"/>
                  </a:lnTo>
                  <a:lnTo>
                    <a:pt x="1981" y="57"/>
                  </a:lnTo>
                  <a:lnTo>
                    <a:pt x="1991" y="56"/>
                  </a:lnTo>
                  <a:lnTo>
                    <a:pt x="2002" y="54"/>
                  </a:lnTo>
                  <a:lnTo>
                    <a:pt x="2012" y="52"/>
                  </a:lnTo>
                  <a:lnTo>
                    <a:pt x="2023" y="49"/>
                  </a:lnTo>
                  <a:lnTo>
                    <a:pt x="2034" y="46"/>
                  </a:lnTo>
                  <a:lnTo>
                    <a:pt x="2045" y="42"/>
                  </a:lnTo>
                  <a:lnTo>
                    <a:pt x="2056" y="39"/>
                  </a:lnTo>
                  <a:lnTo>
                    <a:pt x="2066" y="35"/>
                  </a:lnTo>
                  <a:lnTo>
                    <a:pt x="2076" y="32"/>
                  </a:lnTo>
                  <a:lnTo>
                    <a:pt x="2086" y="29"/>
                  </a:lnTo>
                  <a:lnTo>
                    <a:pt x="2096" y="26"/>
                  </a:lnTo>
                  <a:lnTo>
                    <a:pt x="2104" y="24"/>
                  </a:lnTo>
                  <a:lnTo>
                    <a:pt x="2113" y="22"/>
                  </a:lnTo>
                  <a:lnTo>
                    <a:pt x="2121" y="21"/>
                  </a:lnTo>
                  <a:lnTo>
                    <a:pt x="2128" y="20"/>
                  </a:lnTo>
                  <a:lnTo>
                    <a:pt x="2138" y="20"/>
                  </a:lnTo>
                  <a:lnTo>
                    <a:pt x="2148" y="21"/>
                  </a:lnTo>
                  <a:lnTo>
                    <a:pt x="2157" y="23"/>
                  </a:lnTo>
                  <a:lnTo>
                    <a:pt x="2166" y="25"/>
                  </a:lnTo>
                  <a:lnTo>
                    <a:pt x="2175" y="28"/>
                  </a:lnTo>
                  <a:lnTo>
                    <a:pt x="2184" y="31"/>
                  </a:lnTo>
                  <a:lnTo>
                    <a:pt x="2193" y="35"/>
                  </a:lnTo>
                  <a:lnTo>
                    <a:pt x="2202" y="38"/>
                  </a:lnTo>
                  <a:lnTo>
                    <a:pt x="2211" y="42"/>
                  </a:lnTo>
                  <a:lnTo>
                    <a:pt x="2220" y="46"/>
                  </a:lnTo>
                  <a:lnTo>
                    <a:pt x="2229" y="48"/>
                  </a:lnTo>
                  <a:lnTo>
                    <a:pt x="2238" y="51"/>
                  </a:lnTo>
                  <a:lnTo>
                    <a:pt x="2248" y="54"/>
                  </a:lnTo>
                  <a:lnTo>
                    <a:pt x="2258" y="55"/>
                  </a:lnTo>
                  <a:lnTo>
                    <a:pt x="2268" y="57"/>
                  </a:lnTo>
                  <a:lnTo>
                    <a:pt x="2279" y="57"/>
                  </a:lnTo>
                  <a:lnTo>
                    <a:pt x="2291" y="57"/>
                  </a:lnTo>
                  <a:lnTo>
                    <a:pt x="2303" y="55"/>
                  </a:lnTo>
                  <a:lnTo>
                    <a:pt x="2316" y="53"/>
                  </a:lnTo>
                  <a:lnTo>
                    <a:pt x="2329" y="50"/>
                  </a:lnTo>
                  <a:lnTo>
                    <a:pt x="2341" y="47"/>
                  </a:lnTo>
                  <a:lnTo>
                    <a:pt x="2353" y="43"/>
                  </a:lnTo>
                  <a:lnTo>
                    <a:pt x="2366" y="39"/>
                  </a:lnTo>
                  <a:lnTo>
                    <a:pt x="2377" y="35"/>
                  </a:lnTo>
                  <a:lnTo>
                    <a:pt x="2387" y="33"/>
                  </a:lnTo>
                  <a:lnTo>
                    <a:pt x="2396" y="29"/>
                  </a:lnTo>
                  <a:lnTo>
                    <a:pt x="2405" y="27"/>
                  </a:lnTo>
                  <a:lnTo>
                    <a:pt x="2413" y="24"/>
                  </a:lnTo>
                  <a:lnTo>
                    <a:pt x="2421" y="22"/>
                  </a:lnTo>
                  <a:lnTo>
                    <a:pt x="2429" y="21"/>
                  </a:lnTo>
                  <a:lnTo>
                    <a:pt x="2436" y="20"/>
                  </a:lnTo>
                  <a:lnTo>
                    <a:pt x="2442" y="20"/>
                  </a:lnTo>
                  <a:lnTo>
                    <a:pt x="2443" y="0"/>
                  </a:lnTo>
                </a:path>
              </a:pathLst>
            </a:custGeom>
            <a:solidFill>
              <a:srgbClr val="aaff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Freeform 19"/>
            <p:cNvSpPr/>
            <p:nvPr/>
          </p:nvSpPr>
          <p:spPr>
            <a:xfrm>
              <a:off x="992160" y="318960"/>
              <a:ext cx="3560400" cy="98640"/>
            </a:xfrm>
            <a:custGeom>
              <a:avLst/>
              <a:gdLst/>
              <a:ahLst/>
              <a:rect l="l" t="t" r="r" b="b"/>
              <a:pathLst>
                <a:path w="2444" h="62">
                  <a:moveTo>
                    <a:pt x="2443" y="0"/>
                  </a:moveTo>
                  <a:lnTo>
                    <a:pt x="2443" y="0"/>
                  </a:lnTo>
                  <a:lnTo>
                    <a:pt x="2437" y="0"/>
                  </a:lnTo>
                  <a:lnTo>
                    <a:pt x="2429" y="1"/>
                  </a:lnTo>
                  <a:lnTo>
                    <a:pt x="2422" y="2"/>
                  </a:lnTo>
                  <a:lnTo>
                    <a:pt x="2414" y="4"/>
                  </a:lnTo>
                  <a:lnTo>
                    <a:pt x="2405" y="7"/>
                  </a:lnTo>
                  <a:lnTo>
                    <a:pt x="2396" y="9"/>
                  </a:lnTo>
                  <a:lnTo>
                    <a:pt x="2387" y="12"/>
                  </a:lnTo>
                  <a:lnTo>
                    <a:pt x="2378" y="15"/>
                  </a:lnTo>
                  <a:lnTo>
                    <a:pt x="2366" y="19"/>
                  </a:lnTo>
                  <a:lnTo>
                    <a:pt x="2353" y="23"/>
                  </a:lnTo>
                  <a:lnTo>
                    <a:pt x="2341" y="27"/>
                  </a:lnTo>
                  <a:lnTo>
                    <a:pt x="2329" y="30"/>
                  </a:lnTo>
                  <a:lnTo>
                    <a:pt x="2316" y="33"/>
                  </a:lnTo>
                  <a:lnTo>
                    <a:pt x="2304" y="35"/>
                  </a:lnTo>
                  <a:lnTo>
                    <a:pt x="2292" y="37"/>
                  </a:lnTo>
                  <a:lnTo>
                    <a:pt x="2279" y="37"/>
                  </a:lnTo>
                  <a:lnTo>
                    <a:pt x="2268" y="37"/>
                  </a:lnTo>
                  <a:lnTo>
                    <a:pt x="2259" y="36"/>
                  </a:lnTo>
                  <a:lnTo>
                    <a:pt x="2248" y="34"/>
                  </a:lnTo>
                  <a:lnTo>
                    <a:pt x="2239" y="31"/>
                  </a:lnTo>
                  <a:lnTo>
                    <a:pt x="2230" y="29"/>
                  </a:lnTo>
                  <a:lnTo>
                    <a:pt x="2220" y="26"/>
                  </a:lnTo>
                  <a:lnTo>
                    <a:pt x="2211" y="22"/>
                  </a:lnTo>
                  <a:lnTo>
                    <a:pt x="2202" y="19"/>
                  </a:lnTo>
                  <a:lnTo>
                    <a:pt x="2193" y="16"/>
                  </a:lnTo>
                  <a:lnTo>
                    <a:pt x="2184" y="12"/>
                  </a:lnTo>
                  <a:lnTo>
                    <a:pt x="2175" y="9"/>
                  </a:lnTo>
                  <a:lnTo>
                    <a:pt x="2167" y="7"/>
                  </a:lnTo>
                  <a:lnTo>
                    <a:pt x="2157" y="4"/>
                  </a:lnTo>
                  <a:lnTo>
                    <a:pt x="2148" y="2"/>
                  </a:lnTo>
                  <a:lnTo>
                    <a:pt x="2138" y="1"/>
                  </a:lnTo>
                  <a:lnTo>
                    <a:pt x="2129" y="1"/>
                  </a:lnTo>
                  <a:lnTo>
                    <a:pt x="2122" y="1"/>
                  </a:lnTo>
                  <a:lnTo>
                    <a:pt x="2114" y="2"/>
                  </a:lnTo>
                  <a:lnTo>
                    <a:pt x="2105" y="4"/>
                  </a:lnTo>
                  <a:lnTo>
                    <a:pt x="2097" y="7"/>
                  </a:lnTo>
                  <a:lnTo>
                    <a:pt x="2087" y="9"/>
                  </a:lnTo>
                  <a:lnTo>
                    <a:pt x="2077" y="12"/>
                  </a:lnTo>
                  <a:lnTo>
                    <a:pt x="2067" y="16"/>
                  </a:lnTo>
                  <a:lnTo>
                    <a:pt x="2056" y="19"/>
                  </a:lnTo>
                  <a:lnTo>
                    <a:pt x="2046" y="23"/>
                  </a:lnTo>
                  <a:lnTo>
                    <a:pt x="2035" y="26"/>
                  </a:lnTo>
                  <a:lnTo>
                    <a:pt x="2024" y="29"/>
                  </a:lnTo>
                  <a:lnTo>
                    <a:pt x="2013" y="32"/>
                  </a:lnTo>
                  <a:lnTo>
                    <a:pt x="2002" y="34"/>
                  </a:lnTo>
                  <a:lnTo>
                    <a:pt x="1991" y="36"/>
                  </a:lnTo>
                  <a:lnTo>
                    <a:pt x="1981" y="37"/>
                  </a:lnTo>
                  <a:lnTo>
                    <a:pt x="1970" y="38"/>
                  </a:lnTo>
                  <a:lnTo>
                    <a:pt x="1959" y="38"/>
                  </a:lnTo>
                  <a:lnTo>
                    <a:pt x="1949" y="37"/>
                  </a:lnTo>
                  <a:lnTo>
                    <a:pt x="1939" y="35"/>
                  </a:lnTo>
                  <a:lnTo>
                    <a:pt x="1929" y="33"/>
                  </a:lnTo>
                  <a:lnTo>
                    <a:pt x="1920" y="30"/>
                  </a:lnTo>
                  <a:lnTo>
                    <a:pt x="1910" y="27"/>
                  </a:lnTo>
                  <a:lnTo>
                    <a:pt x="1901" y="24"/>
                  </a:lnTo>
                  <a:lnTo>
                    <a:pt x="1892" y="21"/>
                  </a:lnTo>
                  <a:lnTo>
                    <a:pt x="1883" y="18"/>
                  </a:lnTo>
                  <a:lnTo>
                    <a:pt x="1874" y="14"/>
                  </a:lnTo>
                  <a:lnTo>
                    <a:pt x="1866" y="11"/>
                  </a:lnTo>
                  <a:lnTo>
                    <a:pt x="1857" y="9"/>
                  </a:lnTo>
                  <a:lnTo>
                    <a:pt x="1848" y="6"/>
                  </a:lnTo>
                  <a:lnTo>
                    <a:pt x="1838" y="3"/>
                  </a:lnTo>
                  <a:lnTo>
                    <a:pt x="1829" y="2"/>
                  </a:lnTo>
                  <a:lnTo>
                    <a:pt x="1819" y="1"/>
                  </a:lnTo>
                  <a:lnTo>
                    <a:pt x="1815" y="1"/>
                  </a:lnTo>
                  <a:lnTo>
                    <a:pt x="1810" y="1"/>
                  </a:lnTo>
                  <a:lnTo>
                    <a:pt x="1805" y="2"/>
                  </a:lnTo>
                  <a:lnTo>
                    <a:pt x="1800" y="3"/>
                  </a:lnTo>
                  <a:lnTo>
                    <a:pt x="1795" y="4"/>
                  </a:lnTo>
                  <a:lnTo>
                    <a:pt x="1789" y="5"/>
                  </a:lnTo>
                  <a:lnTo>
                    <a:pt x="1783" y="7"/>
                  </a:lnTo>
                  <a:lnTo>
                    <a:pt x="1777" y="9"/>
                  </a:lnTo>
                  <a:lnTo>
                    <a:pt x="1770" y="11"/>
                  </a:lnTo>
                  <a:lnTo>
                    <a:pt x="1763" y="13"/>
                  </a:lnTo>
                  <a:lnTo>
                    <a:pt x="1755" y="16"/>
                  </a:lnTo>
                  <a:lnTo>
                    <a:pt x="1748" y="18"/>
                  </a:lnTo>
                  <a:lnTo>
                    <a:pt x="1740" y="20"/>
                  </a:lnTo>
                  <a:lnTo>
                    <a:pt x="1733" y="23"/>
                  </a:lnTo>
                  <a:lnTo>
                    <a:pt x="1725" y="26"/>
                  </a:lnTo>
                  <a:lnTo>
                    <a:pt x="1717" y="28"/>
                  </a:lnTo>
                  <a:lnTo>
                    <a:pt x="1709" y="30"/>
                  </a:lnTo>
                  <a:lnTo>
                    <a:pt x="1701" y="32"/>
                  </a:lnTo>
                  <a:lnTo>
                    <a:pt x="1693" y="34"/>
                  </a:lnTo>
                  <a:lnTo>
                    <a:pt x="1685" y="35"/>
                  </a:lnTo>
                  <a:lnTo>
                    <a:pt x="1678" y="37"/>
                  </a:lnTo>
                  <a:lnTo>
                    <a:pt x="1670" y="38"/>
                  </a:lnTo>
                  <a:lnTo>
                    <a:pt x="1662" y="38"/>
                  </a:lnTo>
                  <a:lnTo>
                    <a:pt x="1655" y="38"/>
                  </a:lnTo>
                  <a:lnTo>
                    <a:pt x="1644" y="38"/>
                  </a:lnTo>
                  <a:lnTo>
                    <a:pt x="1634" y="37"/>
                  </a:lnTo>
                  <a:lnTo>
                    <a:pt x="1624" y="35"/>
                  </a:lnTo>
                  <a:lnTo>
                    <a:pt x="1614" y="33"/>
                  </a:lnTo>
                  <a:lnTo>
                    <a:pt x="1605" y="30"/>
                  </a:lnTo>
                  <a:lnTo>
                    <a:pt x="1596" y="27"/>
                  </a:lnTo>
                  <a:lnTo>
                    <a:pt x="1586" y="23"/>
                  </a:lnTo>
                  <a:lnTo>
                    <a:pt x="1577" y="20"/>
                  </a:lnTo>
                  <a:lnTo>
                    <a:pt x="1569" y="17"/>
                  </a:lnTo>
                  <a:lnTo>
                    <a:pt x="1559" y="13"/>
                  </a:lnTo>
                  <a:lnTo>
                    <a:pt x="1551" y="10"/>
                  </a:lnTo>
                  <a:lnTo>
                    <a:pt x="1542" y="8"/>
                  </a:lnTo>
                  <a:lnTo>
                    <a:pt x="1533" y="5"/>
                  </a:lnTo>
                  <a:lnTo>
                    <a:pt x="1523" y="3"/>
                  </a:lnTo>
                  <a:lnTo>
                    <a:pt x="1514" y="2"/>
                  </a:lnTo>
                  <a:lnTo>
                    <a:pt x="1505" y="2"/>
                  </a:lnTo>
                  <a:lnTo>
                    <a:pt x="1504" y="2"/>
                  </a:lnTo>
                  <a:lnTo>
                    <a:pt x="1505" y="2"/>
                  </a:lnTo>
                  <a:lnTo>
                    <a:pt x="1497" y="2"/>
                  </a:lnTo>
                  <a:lnTo>
                    <a:pt x="1489" y="3"/>
                  </a:lnTo>
                  <a:lnTo>
                    <a:pt x="1481" y="5"/>
                  </a:lnTo>
                  <a:lnTo>
                    <a:pt x="1471" y="7"/>
                  </a:lnTo>
                  <a:lnTo>
                    <a:pt x="1462" y="9"/>
                  </a:lnTo>
                  <a:lnTo>
                    <a:pt x="1452" y="13"/>
                  </a:lnTo>
                  <a:lnTo>
                    <a:pt x="1441" y="16"/>
                  </a:lnTo>
                  <a:lnTo>
                    <a:pt x="1430" y="19"/>
                  </a:lnTo>
                  <a:lnTo>
                    <a:pt x="1418" y="23"/>
                  </a:lnTo>
                  <a:lnTo>
                    <a:pt x="1407" y="27"/>
                  </a:lnTo>
                  <a:lnTo>
                    <a:pt x="1396" y="30"/>
                  </a:lnTo>
                  <a:lnTo>
                    <a:pt x="1384" y="33"/>
                  </a:lnTo>
                  <a:lnTo>
                    <a:pt x="1373" y="35"/>
                  </a:lnTo>
                  <a:lnTo>
                    <a:pt x="1362" y="37"/>
                  </a:lnTo>
                  <a:lnTo>
                    <a:pt x="1350" y="38"/>
                  </a:lnTo>
                  <a:lnTo>
                    <a:pt x="1339" y="39"/>
                  </a:lnTo>
                  <a:lnTo>
                    <a:pt x="1328" y="39"/>
                  </a:lnTo>
                  <a:lnTo>
                    <a:pt x="1319" y="38"/>
                  </a:lnTo>
                  <a:lnTo>
                    <a:pt x="1308" y="36"/>
                  </a:lnTo>
                  <a:lnTo>
                    <a:pt x="1299" y="34"/>
                  </a:lnTo>
                  <a:lnTo>
                    <a:pt x="1290" y="31"/>
                  </a:lnTo>
                  <a:lnTo>
                    <a:pt x="1280" y="28"/>
                  </a:lnTo>
                  <a:lnTo>
                    <a:pt x="1271" y="26"/>
                  </a:lnTo>
                  <a:lnTo>
                    <a:pt x="1262" y="22"/>
                  </a:lnTo>
                  <a:lnTo>
                    <a:pt x="1253" y="19"/>
                  </a:lnTo>
                  <a:lnTo>
                    <a:pt x="1244" y="16"/>
                  </a:lnTo>
                  <a:lnTo>
                    <a:pt x="1235" y="12"/>
                  </a:lnTo>
                  <a:lnTo>
                    <a:pt x="1226" y="10"/>
                  </a:lnTo>
                  <a:lnTo>
                    <a:pt x="1217" y="7"/>
                  </a:lnTo>
                  <a:lnTo>
                    <a:pt x="1208" y="5"/>
                  </a:lnTo>
                  <a:lnTo>
                    <a:pt x="1198" y="3"/>
                  </a:lnTo>
                  <a:lnTo>
                    <a:pt x="1188" y="2"/>
                  </a:lnTo>
                  <a:lnTo>
                    <a:pt x="1181" y="2"/>
                  </a:lnTo>
                  <a:lnTo>
                    <a:pt x="1173" y="3"/>
                  </a:lnTo>
                  <a:lnTo>
                    <a:pt x="1164" y="5"/>
                  </a:lnTo>
                  <a:lnTo>
                    <a:pt x="1155" y="8"/>
                  </a:lnTo>
                  <a:lnTo>
                    <a:pt x="1145" y="10"/>
                  </a:lnTo>
                  <a:lnTo>
                    <a:pt x="1136" y="13"/>
                  </a:lnTo>
                  <a:lnTo>
                    <a:pt x="1125" y="17"/>
                  </a:lnTo>
                  <a:lnTo>
                    <a:pt x="1114" y="20"/>
                  </a:lnTo>
                  <a:lnTo>
                    <a:pt x="1104" y="24"/>
                  </a:lnTo>
                  <a:lnTo>
                    <a:pt x="1092" y="27"/>
                  </a:lnTo>
                  <a:lnTo>
                    <a:pt x="1081" y="31"/>
                  </a:lnTo>
                  <a:lnTo>
                    <a:pt x="1070" y="34"/>
                  </a:lnTo>
                  <a:lnTo>
                    <a:pt x="1058" y="36"/>
                  </a:lnTo>
                  <a:lnTo>
                    <a:pt x="1047" y="38"/>
                  </a:lnTo>
                  <a:lnTo>
                    <a:pt x="1036" y="39"/>
                  </a:lnTo>
                  <a:lnTo>
                    <a:pt x="1025" y="40"/>
                  </a:lnTo>
                  <a:lnTo>
                    <a:pt x="1014" y="39"/>
                  </a:lnTo>
                  <a:lnTo>
                    <a:pt x="1004" y="39"/>
                  </a:lnTo>
                  <a:lnTo>
                    <a:pt x="993" y="37"/>
                  </a:lnTo>
                  <a:lnTo>
                    <a:pt x="984" y="34"/>
                  </a:lnTo>
                  <a:lnTo>
                    <a:pt x="975" y="32"/>
                  </a:lnTo>
                  <a:lnTo>
                    <a:pt x="965" y="28"/>
                  </a:lnTo>
                  <a:lnTo>
                    <a:pt x="956" y="25"/>
                  </a:lnTo>
                  <a:lnTo>
                    <a:pt x="947" y="22"/>
                  </a:lnTo>
                  <a:lnTo>
                    <a:pt x="938" y="19"/>
                  </a:lnTo>
                  <a:lnTo>
                    <a:pt x="929" y="15"/>
                  </a:lnTo>
                  <a:lnTo>
                    <a:pt x="921" y="12"/>
                  </a:lnTo>
                  <a:lnTo>
                    <a:pt x="912" y="9"/>
                  </a:lnTo>
                  <a:lnTo>
                    <a:pt x="902" y="7"/>
                  </a:lnTo>
                  <a:lnTo>
                    <a:pt x="893" y="5"/>
                  </a:lnTo>
                  <a:lnTo>
                    <a:pt x="884" y="4"/>
                  </a:lnTo>
                  <a:lnTo>
                    <a:pt x="874" y="3"/>
                  </a:lnTo>
                  <a:lnTo>
                    <a:pt x="867" y="3"/>
                  </a:lnTo>
                  <a:lnTo>
                    <a:pt x="859" y="5"/>
                  </a:lnTo>
                  <a:lnTo>
                    <a:pt x="850" y="7"/>
                  </a:lnTo>
                  <a:lnTo>
                    <a:pt x="841" y="9"/>
                  </a:lnTo>
                  <a:lnTo>
                    <a:pt x="831" y="11"/>
                  </a:lnTo>
                  <a:lnTo>
                    <a:pt x="821" y="14"/>
                  </a:lnTo>
                  <a:lnTo>
                    <a:pt x="810" y="18"/>
                  </a:lnTo>
                  <a:lnTo>
                    <a:pt x="800" y="21"/>
                  </a:lnTo>
                  <a:lnTo>
                    <a:pt x="789" y="25"/>
                  </a:lnTo>
                  <a:lnTo>
                    <a:pt x="778" y="28"/>
                  </a:lnTo>
                  <a:lnTo>
                    <a:pt x="766" y="31"/>
                  </a:lnTo>
                  <a:lnTo>
                    <a:pt x="755" y="34"/>
                  </a:lnTo>
                  <a:lnTo>
                    <a:pt x="743" y="37"/>
                  </a:lnTo>
                  <a:lnTo>
                    <a:pt x="732" y="39"/>
                  </a:lnTo>
                  <a:lnTo>
                    <a:pt x="721" y="40"/>
                  </a:lnTo>
                  <a:lnTo>
                    <a:pt x="710" y="41"/>
                  </a:lnTo>
                  <a:lnTo>
                    <a:pt x="699" y="40"/>
                  </a:lnTo>
                  <a:lnTo>
                    <a:pt x="689" y="39"/>
                  </a:lnTo>
                  <a:lnTo>
                    <a:pt x="679" y="37"/>
                  </a:lnTo>
                  <a:lnTo>
                    <a:pt x="669" y="35"/>
                  </a:lnTo>
                  <a:lnTo>
                    <a:pt x="660" y="33"/>
                  </a:lnTo>
                  <a:lnTo>
                    <a:pt x="651" y="29"/>
                  </a:lnTo>
                  <a:lnTo>
                    <a:pt x="641" y="26"/>
                  </a:lnTo>
                  <a:lnTo>
                    <a:pt x="632" y="22"/>
                  </a:lnTo>
                  <a:lnTo>
                    <a:pt x="624" y="19"/>
                  </a:lnTo>
                  <a:lnTo>
                    <a:pt x="614" y="16"/>
                  </a:lnTo>
                  <a:lnTo>
                    <a:pt x="606" y="12"/>
                  </a:lnTo>
                  <a:lnTo>
                    <a:pt x="597" y="10"/>
                  </a:lnTo>
                  <a:lnTo>
                    <a:pt x="587" y="8"/>
                  </a:lnTo>
                  <a:lnTo>
                    <a:pt x="578" y="5"/>
                  </a:lnTo>
                  <a:lnTo>
                    <a:pt x="569" y="5"/>
                  </a:lnTo>
                  <a:lnTo>
                    <a:pt x="559" y="4"/>
                  </a:lnTo>
                  <a:lnTo>
                    <a:pt x="558" y="4"/>
                  </a:lnTo>
                  <a:lnTo>
                    <a:pt x="559" y="4"/>
                  </a:lnTo>
                  <a:lnTo>
                    <a:pt x="560" y="4"/>
                  </a:lnTo>
                  <a:lnTo>
                    <a:pt x="559" y="4"/>
                  </a:lnTo>
                  <a:lnTo>
                    <a:pt x="552" y="4"/>
                  </a:lnTo>
                  <a:lnTo>
                    <a:pt x="544" y="5"/>
                  </a:lnTo>
                  <a:lnTo>
                    <a:pt x="536" y="7"/>
                  </a:lnTo>
                  <a:lnTo>
                    <a:pt x="526" y="9"/>
                  </a:lnTo>
                  <a:lnTo>
                    <a:pt x="517" y="12"/>
                  </a:lnTo>
                  <a:lnTo>
                    <a:pt x="507" y="15"/>
                  </a:lnTo>
                  <a:lnTo>
                    <a:pt x="496" y="18"/>
                  </a:lnTo>
                  <a:lnTo>
                    <a:pt x="485" y="22"/>
                  </a:lnTo>
                  <a:lnTo>
                    <a:pt x="473" y="26"/>
                  </a:lnTo>
                  <a:lnTo>
                    <a:pt x="462" y="29"/>
                  </a:lnTo>
                  <a:lnTo>
                    <a:pt x="451" y="32"/>
                  </a:lnTo>
                  <a:lnTo>
                    <a:pt x="439" y="35"/>
                  </a:lnTo>
                  <a:lnTo>
                    <a:pt x="428" y="37"/>
                  </a:lnTo>
                  <a:lnTo>
                    <a:pt x="417" y="39"/>
                  </a:lnTo>
                  <a:lnTo>
                    <a:pt x="405" y="41"/>
                  </a:lnTo>
                  <a:lnTo>
                    <a:pt x="395" y="41"/>
                  </a:lnTo>
                  <a:lnTo>
                    <a:pt x="383" y="41"/>
                  </a:lnTo>
                  <a:lnTo>
                    <a:pt x="374" y="40"/>
                  </a:lnTo>
                  <a:lnTo>
                    <a:pt x="363" y="38"/>
                  </a:lnTo>
                  <a:lnTo>
                    <a:pt x="354" y="36"/>
                  </a:lnTo>
                  <a:lnTo>
                    <a:pt x="345" y="34"/>
                  </a:lnTo>
                  <a:lnTo>
                    <a:pt x="335" y="31"/>
                  </a:lnTo>
                  <a:lnTo>
                    <a:pt x="326" y="28"/>
                  </a:lnTo>
                  <a:lnTo>
                    <a:pt x="317" y="24"/>
                  </a:lnTo>
                  <a:lnTo>
                    <a:pt x="308" y="21"/>
                  </a:lnTo>
                  <a:lnTo>
                    <a:pt x="299" y="18"/>
                  </a:lnTo>
                  <a:lnTo>
                    <a:pt x="290" y="14"/>
                  </a:lnTo>
                  <a:lnTo>
                    <a:pt x="281" y="12"/>
                  </a:lnTo>
                  <a:lnTo>
                    <a:pt x="272" y="9"/>
                  </a:lnTo>
                  <a:lnTo>
                    <a:pt x="263" y="7"/>
                  </a:lnTo>
                  <a:lnTo>
                    <a:pt x="252" y="6"/>
                  </a:lnTo>
                  <a:lnTo>
                    <a:pt x="243" y="5"/>
                  </a:lnTo>
                  <a:lnTo>
                    <a:pt x="236" y="5"/>
                  </a:lnTo>
                  <a:lnTo>
                    <a:pt x="228" y="6"/>
                  </a:lnTo>
                  <a:lnTo>
                    <a:pt x="219" y="8"/>
                  </a:lnTo>
                  <a:lnTo>
                    <a:pt x="210" y="10"/>
                  </a:lnTo>
                  <a:lnTo>
                    <a:pt x="201" y="12"/>
                  </a:lnTo>
                  <a:lnTo>
                    <a:pt x="190" y="16"/>
                  </a:lnTo>
                  <a:lnTo>
                    <a:pt x="180" y="19"/>
                  </a:lnTo>
                  <a:lnTo>
                    <a:pt x="169" y="22"/>
                  </a:lnTo>
                  <a:lnTo>
                    <a:pt x="159" y="26"/>
                  </a:lnTo>
                  <a:lnTo>
                    <a:pt x="147" y="30"/>
                  </a:lnTo>
                  <a:lnTo>
                    <a:pt x="136" y="33"/>
                  </a:lnTo>
                  <a:lnTo>
                    <a:pt x="124" y="35"/>
                  </a:lnTo>
                  <a:lnTo>
                    <a:pt x="113" y="38"/>
                  </a:lnTo>
                  <a:lnTo>
                    <a:pt x="102" y="40"/>
                  </a:lnTo>
                  <a:lnTo>
                    <a:pt x="90" y="41"/>
                  </a:lnTo>
                  <a:lnTo>
                    <a:pt x="80" y="42"/>
                  </a:lnTo>
                  <a:lnTo>
                    <a:pt x="69" y="42"/>
                  </a:lnTo>
                  <a:lnTo>
                    <a:pt x="58" y="41"/>
                  </a:lnTo>
                  <a:lnTo>
                    <a:pt x="48" y="39"/>
                  </a:lnTo>
                  <a:lnTo>
                    <a:pt x="38" y="36"/>
                  </a:lnTo>
                  <a:lnTo>
                    <a:pt x="29" y="33"/>
                  </a:lnTo>
                  <a:lnTo>
                    <a:pt x="19" y="30"/>
                  </a:lnTo>
                  <a:lnTo>
                    <a:pt x="10" y="27"/>
                  </a:lnTo>
                  <a:lnTo>
                    <a:pt x="1" y="23"/>
                  </a:lnTo>
                  <a:lnTo>
                    <a:pt x="1" y="28"/>
                  </a:lnTo>
                  <a:lnTo>
                    <a:pt x="1" y="32"/>
                  </a:lnTo>
                  <a:lnTo>
                    <a:pt x="0" y="37"/>
                  </a:lnTo>
                  <a:lnTo>
                    <a:pt x="0" y="42"/>
                  </a:lnTo>
                  <a:lnTo>
                    <a:pt x="10" y="45"/>
                  </a:lnTo>
                  <a:lnTo>
                    <a:pt x="19" y="49"/>
                  </a:lnTo>
                  <a:lnTo>
                    <a:pt x="28" y="52"/>
                  </a:lnTo>
                  <a:lnTo>
                    <a:pt x="38" y="54"/>
                  </a:lnTo>
                  <a:lnTo>
                    <a:pt x="48" y="57"/>
                  </a:lnTo>
                  <a:lnTo>
                    <a:pt x="58" y="59"/>
                  </a:lnTo>
                  <a:lnTo>
                    <a:pt x="69" y="60"/>
                  </a:lnTo>
                  <a:lnTo>
                    <a:pt x="80" y="61"/>
                  </a:lnTo>
                  <a:lnTo>
                    <a:pt x="90" y="60"/>
                  </a:lnTo>
                  <a:lnTo>
                    <a:pt x="102" y="59"/>
                  </a:lnTo>
                  <a:lnTo>
                    <a:pt x="113" y="57"/>
                  </a:lnTo>
                  <a:lnTo>
                    <a:pt x="124" y="55"/>
                  </a:lnTo>
                  <a:lnTo>
                    <a:pt x="136" y="52"/>
                  </a:lnTo>
                  <a:lnTo>
                    <a:pt x="147" y="49"/>
                  </a:lnTo>
                  <a:lnTo>
                    <a:pt x="159" y="46"/>
                  </a:lnTo>
                  <a:lnTo>
                    <a:pt x="169" y="42"/>
                  </a:lnTo>
                  <a:lnTo>
                    <a:pt x="180" y="39"/>
                  </a:lnTo>
                  <a:lnTo>
                    <a:pt x="190" y="35"/>
                  </a:lnTo>
                  <a:lnTo>
                    <a:pt x="201" y="33"/>
                  </a:lnTo>
                  <a:lnTo>
                    <a:pt x="210" y="30"/>
                  </a:lnTo>
                  <a:lnTo>
                    <a:pt x="219" y="27"/>
                  </a:lnTo>
                  <a:lnTo>
                    <a:pt x="228" y="26"/>
                  </a:lnTo>
                  <a:lnTo>
                    <a:pt x="236" y="24"/>
                  </a:lnTo>
                  <a:lnTo>
                    <a:pt x="243" y="24"/>
                  </a:lnTo>
                  <a:lnTo>
                    <a:pt x="253" y="24"/>
                  </a:lnTo>
                  <a:lnTo>
                    <a:pt x="263" y="25"/>
                  </a:lnTo>
                  <a:lnTo>
                    <a:pt x="272" y="27"/>
                  </a:lnTo>
                  <a:lnTo>
                    <a:pt x="281" y="29"/>
                  </a:lnTo>
                  <a:lnTo>
                    <a:pt x="290" y="32"/>
                  </a:lnTo>
                  <a:lnTo>
                    <a:pt x="299" y="35"/>
                  </a:lnTo>
                  <a:lnTo>
                    <a:pt x="308" y="38"/>
                  </a:lnTo>
                  <a:lnTo>
                    <a:pt x="317" y="42"/>
                  </a:lnTo>
                  <a:lnTo>
                    <a:pt x="326" y="45"/>
                  </a:lnTo>
                  <a:lnTo>
                    <a:pt x="335" y="49"/>
                  </a:lnTo>
                  <a:lnTo>
                    <a:pt x="345" y="52"/>
                  </a:lnTo>
                  <a:lnTo>
                    <a:pt x="354" y="54"/>
                  </a:lnTo>
                  <a:lnTo>
                    <a:pt x="364" y="57"/>
                  </a:lnTo>
                  <a:lnTo>
                    <a:pt x="374" y="59"/>
                  </a:lnTo>
                  <a:lnTo>
                    <a:pt x="383" y="59"/>
                  </a:lnTo>
                  <a:lnTo>
                    <a:pt x="395" y="60"/>
                  </a:lnTo>
                  <a:lnTo>
                    <a:pt x="405" y="59"/>
                  </a:lnTo>
                  <a:lnTo>
                    <a:pt x="417" y="58"/>
                  </a:lnTo>
                  <a:lnTo>
                    <a:pt x="428" y="56"/>
                  </a:lnTo>
                  <a:lnTo>
                    <a:pt x="439" y="54"/>
                  </a:lnTo>
                  <a:lnTo>
                    <a:pt x="451" y="51"/>
                  </a:lnTo>
                  <a:lnTo>
                    <a:pt x="462" y="48"/>
                  </a:lnTo>
                  <a:lnTo>
                    <a:pt x="473" y="44"/>
                  </a:lnTo>
                  <a:lnTo>
                    <a:pt x="484" y="41"/>
                  </a:lnTo>
                  <a:lnTo>
                    <a:pt x="494" y="37"/>
                  </a:lnTo>
                  <a:lnTo>
                    <a:pt x="505" y="34"/>
                  </a:lnTo>
                  <a:lnTo>
                    <a:pt x="515" y="31"/>
                  </a:lnTo>
                  <a:lnTo>
                    <a:pt x="525" y="28"/>
                  </a:lnTo>
                  <a:lnTo>
                    <a:pt x="533" y="26"/>
                  </a:lnTo>
                  <a:lnTo>
                    <a:pt x="542" y="24"/>
                  </a:lnTo>
                  <a:lnTo>
                    <a:pt x="550" y="23"/>
                  </a:lnTo>
                  <a:lnTo>
                    <a:pt x="557" y="23"/>
                  </a:lnTo>
                  <a:lnTo>
                    <a:pt x="558" y="23"/>
                  </a:lnTo>
                  <a:lnTo>
                    <a:pt x="559" y="23"/>
                  </a:lnTo>
                  <a:lnTo>
                    <a:pt x="560" y="23"/>
                  </a:lnTo>
                  <a:lnTo>
                    <a:pt x="561" y="23"/>
                  </a:lnTo>
                  <a:lnTo>
                    <a:pt x="570" y="24"/>
                  </a:lnTo>
                  <a:lnTo>
                    <a:pt x="580" y="26"/>
                  </a:lnTo>
                  <a:lnTo>
                    <a:pt x="589" y="28"/>
                  </a:lnTo>
                  <a:lnTo>
                    <a:pt x="598" y="31"/>
                  </a:lnTo>
                  <a:lnTo>
                    <a:pt x="607" y="34"/>
                  </a:lnTo>
                  <a:lnTo>
                    <a:pt x="616" y="37"/>
                  </a:lnTo>
                  <a:lnTo>
                    <a:pt x="624" y="40"/>
                  </a:lnTo>
                  <a:lnTo>
                    <a:pt x="634" y="43"/>
                  </a:lnTo>
                  <a:lnTo>
                    <a:pt x="643" y="47"/>
                  </a:lnTo>
                  <a:lnTo>
                    <a:pt x="651" y="49"/>
                  </a:lnTo>
                  <a:lnTo>
                    <a:pt x="661" y="52"/>
                  </a:lnTo>
                  <a:lnTo>
                    <a:pt x="670" y="55"/>
                  </a:lnTo>
                  <a:lnTo>
                    <a:pt x="680" y="57"/>
                  </a:lnTo>
                  <a:lnTo>
                    <a:pt x="690" y="59"/>
                  </a:lnTo>
                  <a:lnTo>
                    <a:pt x="700" y="60"/>
                  </a:lnTo>
                  <a:lnTo>
                    <a:pt x="711" y="60"/>
                  </a:lnTo>
                  <a:lnTo>
                    <a:pt x="722" y="59"/>
                  </a:lnTo>
                  <a:lnTo>
                    <a:pt x="733" y="58"/>
                  </a:lnTo>
                  <a:lnTo>
                    <a:pt x="744" y="56"/>
                  </a:lnTo>
                  <a:lnTo>
                    <a:pt x="756" y="54"/>
                  </a:lnTo>
                  <a:lnTo>
                    <a:pt x="767" y="51"/>
                  </a:lnTo>
                  <a:lnTo>
                    <a:pt x="778" y="48"/>
                  </a:lnTo>
                  <a:lnTo>
                    <a:pt x="789" y="44"/>
                  </a:lnTo>
                  <a:lnTo>
                    <a:pt x="800" y="41"/>
                  </a:lnTo>
                  <a:lnTo>
                    <a:pt x="811" y="38"/>
                  </a:lnTo>
                  <a:lnTo>
                    <a:pt x="821" y="34"/>
                  </a:lnTo>
                  <a:lnTo>
                    <a:pt x="831" y="31"/>
                  </a:lnTo>
                  <a:lnTo>
                    <a:pt x="841" y="28"/>
                  </a:lnTo>
                  <a:lnTo>
                    <a:pt x="850" y="26"/>
                  </a:lnTo>
                  <a:lnTo>
                    <a:pt x="859" y="24"/>
                  </a:lnTo>
                  <a:lnTo>
                    <a:pt x="867" y="23"/>
                  </a:lnTo>
                  <a:lnTo>
                    <a:pt x="874" y="22"/>
                  </a:lnTo>
                  <a:lnTo>
                    <a:pt x="884" y="23"/>
                  </a:lnTo>
                  <a:lnTo>
                    <a:pt x="893" y="24"/>
                  </a:lnTo>
                  <a:lnTo>
                    <a:pt x="902" y="26"/>
                  </a:lnTo>
                  <a:lnTo>
                    <a:pt x="912" y="28"/>
                  </a:lnTo>
                  <a:lnTo>
                    <a:pt x="921" y="31"/>
                  </a:lnTo>
                  <a:lnTo>
                    <a:pt x="930" y="34"/>
                  </a:lnTo>
                  <a:lnTo>
                    <a:pt x="938" y="37"/>
                  </a:lnTo>
                  <a:lnTo>
                    <a:pt x="947" y="41"/>
                  </a:lnTo>
                  <a:lnTo>
                    <a:pt x="957" y="44"/>
                  </a:lnTo>
                  <a:lnTo>
                    <a:pt x="965" y="48"/>
                  </a:lnTo>
                  <a:lnTo>
                    <a:pt x="975" y="51"/>
                  </a:lnTo>
                  <a:lnTo>
                    <a:pt x="984" y="53"/>
                  </a:lnTo>
                  <a:lnTo>
                    <a:pt x="993" y="56"/>
                  </a:lnTo>
                  <a:lnTo>
                    <a:pt x="1004" y="57"/>
                  </a:lnTo>
                  <a:lnTo>
                    <a:pt x="1014" y="58"/>
                  </a:lnTo>
                  <a:lnTo>
                    <a:pt x="1025" y="59"/>
                  </a:lnTo>
                  <a:lnTo>
                    <a:pt x="1036" y="58"/>
                  </a:lnTo>
                  <a:lnTo>
                    <a:pt x="1047" y="57"/>
                  </a:lnTo>
                  <a:lnTo>
                    <a:pt x="1058" y="55"/>
                  </a:lnTo>
                  <a:lnTo>
                    <a:pt x="1070" y="53"/>
                  </a:lnTo>
                  <a:lnTo>
                    <a:pt x="1081" y="50"/>
                  </a:lnTo>
                  <a:lnTo>
                    <a:pt x="1092" y="47"/>
                  </a:lnTo>
                  <a:lnTo>
                    <a:pt x="1104" y="43"/>
                  </a:lnTo>
                  <a:lnTo>
                    <a:pt x="1114" y="40"/>
                  </a:lnTo>
                  <a:lnTo>
                    <a:pt x="1125" y="37"/>
                  </a:lnTo>
                  <a:lnTo>
                    <a:pt x="1136" y="33"/>
                  </a:lnTo>
                  <a:lnTo>
                    <a:pt x="1145" y="30"/>
                  </a:lnTo>
                  <a:lnTo>
                    <a:pt x="1155" y="27"/>
                  </a:lnTo>
                  <a:lnTo>
                    <a:pt x="1164" y="25"/>
                  </a:lnTo>
                  <a:lnTo>
                    <a:pt x="1173" y="23"/>
                  </a:lnTo>
                  <a:lnTo>
                    <a:pt x="1181" y="22"/>
                  </a:lnTo>
                  <a:lnTo>
                    <a:pt x="1188" y="22"/>
                  </a:lnTo>
                  <a:lnTo>
                    <a:pt x="1198" y="22"/>
                  </a:lnTo>
                  <a:lnTo>
                    <a:pt x="1208" y="23"/>
                  </a:lnTo>
                  <a:lnTo>
                    <a:pt x="1217" y="25"/>
                  </a:lnTo>
                  <a:lnTo>
                    <a:pt x="1226" y="27"/>
                  </a:lnTo>
                  <a:lnTo>
                    <a:pt x="1235" y="30"/>
                  </a:lnTo>
                  <a:lnTo>
                    <a:pt x="1244" y="33"/>
                  </a:lnTo>
                  <a:lnTo>
                    <a:pt x="1253" y="37"/>
                  </a:lnTo>
                  <a:lnTo>
                    <a:pt x="1262" y="39"/>
                  </a:lnTo>
                  <a:lnTo>
                    <a:pt x="1271" y="43"/>
                  </a:lnTo>
                  <a:lnTo>
                    <a:pt x="1280" y="47"/>
                  </a:lnTo>
                  <a:lnTo>
                    <a:pt x="1290" y="50"/>
                  </a:lnTo>
                  <a:lnTo>
                    <a:pt x="1299" y="52"/>
                  </a:lnTo>
                  <a:lnTo>
                    <a:pt x="1308" y="54"/>
                  </a:lnTo>
                  <a:lnTo>
                    <a:pt x="1319" y="57"/>
                  </a:lnTo>
                  <a:lnTo>
                    <a:pt x="1328" y="57"/>
                  </a:lnTo>
                  <a:lnTo>
                    <a:pt x="1339" y="58"/>
                  </a:lnTo>
                  <a:lnTo>
                    <a:pt x="1350" y="57"/>
                  </a:lnTo>
                  <a:lnTo>
                    <a:pt x="1362" y="56"/>
                  </a:lnTo>
                  <a:lnTo>
                    <a:pt x="1373" y="54"/>
                  </a:lnTo>
                  <a:lnTo>
                    <a:pt x="1384" y="52"/>
                  </a:lnTo>
                  <a:lnTo>
                    <a:pt x="1395" y="49"/>
                  </a:lnTo>
                  <a:lnTo>
                    <a:pt x="1407" y="46"/>
                  </a:lnTo>
                  <a:lnTo>
                    <a:pt x="1418" y="42"/>
                  </a:lnTo>
                  <a:lnTo>
                    <a:pt x="1428" y="38"/>
                  </a:lnTo>
                  <a:lnTo>
                    <a:pt x="1439" y="35"/>
                  </a:lnTo>
                  <a:lnTo>
                    <a:pt x="1449" y="32"/>
                  </a:lnTo>
                  <a:lnTo>
                    <a:pt x="1460" y="28"/>
                  </a:lnTo>
                  <a:lnTo>
                    <a:pt x="1470" y="26"/>
                  </a:lnTo>
                  <a:lnTo>
                    <a:pt x="1478" y="24"/>
                  </a:lnTo>
                  <a:lnTo>
                    <a:pt x="1487" y="22"/>
                  </a:lnTo>
                  <a:lnTo>
                    <a:pt x="1495" y="21"/>
                  </a:lnTo>
                  <a:lnTo>
                    <a:pt x="1502" y="21"/>
                  </a:lnTo>
                  <a:lnTo>
                    <a:pt x="1503" y="21"/>
                  </a:lnTo>
                  <a:lnTo>
                    <a:pt x="1505" y="21"/>
                  </a:lnTo>
                  <a:lnTo>
                    <a:pt x="1506" y="21"/>
                  </a:lnTo>
                  <a:lnTo>
                    <a:pt x="1515" y="22"/>
                  </a:lnTo>
                  <a:lnTo>
                    <a:pt x="1525" y="24"/>
                  </a:lnTo>
                  <a:lnTo>
                    <a:pt x="1534" y="26"/>
                  </a:lnTo>
                  <a:lnTo>
                    <a:pt x="1543" y="28"/>
                  </a:lnTo>
                  <a:lnTo>
                    <a:pt x="1552" y="31"/>
                  </a:lnTo>
                  <a:lnTo>
                    <a:pt x="1561" y="34"/>
                  </a:lnTo>
                  <a:lnTo>
                    <a:pt x="1570" y="38"/>
                  </a:lnTo>
                  <a:lnTo>
                    <a:pt x="1578" y="41"/>
                  </a:lnTo>
                  <a:lnTo>
                    <a:pt x="1587" y="44"/>
                  </a:lnTo>
                  <a:lnTo>
                    <a:pt x="1596" y="47"/>
                  </a:lnTo>
                  <a:lnTo>
                    <a:pt x="1605" y="50"/>
                  </a:lnTo>
                  <a:lnTo>
                    <a:pt x="1614" y="53"/>
                  </a:lnTo>
                  <a:lnTo>
                    <a:pt x="1624" y="54"/>
                  </a:lnTo>
                  <a:lnTo>
                    <a:pt x="1634" y="56"/>
                  </a:lnTo>
                  <a:lnTo>
                    <a:pt x="1644" y="57"/>
                  </a:lnTo>
                  <a:lnTo>
                    <a:pt x="1655" y="57"/>
                  </a:lnTo>
                  <a:lnTo>
                    <a:pt x="1663" y="57"/>
                  </a:lnTo>
                  <a:lnTo>
                    <a:pt x="1670" y="57"/>
                  </a:lnTo>
                  <a:lnTo>
                    <a:pt x="1678" y="56"/>
                  </a:lnTo>
                  <a:lnTo>
                    <a:pt x="1686" y="54"/>
                  </a:lnTo>
                  <a:lnTo>
                    <a:pt x="1694" y="53"/>
                  </a:lnTo>
                  <a:lnTo>
                    <a:pt x="1702" y="51"/>
                  </a:lnTo>
                  <a:lnTo>
                    <a:pt x="1710" y="49"/>
                  </a:lnTo>
                  <a:lnTo>
                    <a:pt x="1718" y="47"/>
                  </a:lnTo>
                  <a:lnTo>
                    <a:pt x="1726" y="45"/>
                  </a:lnTo>
                  <a:lnTo>
                    <a:pt x="1733" y="42"/>
                  </a:lnTo>
                  <a:lnTo>
                    <a:pt x="1741" y="40"/>
                  </a:lnTo>
                  <a:lnTo>
                    <a:pt x="1748" y="38"/>
                  </a:lnTo>
                  <a:lnTo>
                    <a:pt x="1756" y="35"/>
                  </a:lnTo>
                  <a:lnTo>
                    <a:pt x="1763" y="33"/>
                  </a:lnTo>
                  <a:lnTo>
                    <a:pt x="1770" y="31"/>
                  </a:lnTo>
                  <a:lnTo>
                    <a:pt x="1777" y="28"/>
                  </a:lnTo>
                  <a:lnTo>
                    <a:pt x="1783" y="27"/>
                  </a:lnTo>
                  <a:lnTo>
                    <a:pt x="1789" y="25"/>
                  </a:lnTo>
                  <a:lnTo>
                    <a:pt x="1795" y="24"/>
                  </a:lnTo>
                  <a:lnTo>
                    <a:pt x="1800" y="23"/>
                  </a:lnTo>
                  <a:lnTo>
                    <a:pt x="1805" y="22"/>
                  </a:lnTo>
                  <a:lnTo>
                    <a:pt x="1810" y="21"/>
                  </a:lnTo>
                  <a:lnTo>
                    <a:pt x="1814" y="20"/>
                  </a:lnTo>
                  <a:lnTo>
                    <a:pt x="1819" y="20"/>
                  </a:lnTo>
                  <a:lnTo>
                    <a:pt x="1829" y="21"/>
                  </a:lnTo>
                  <a:lnTo>
                    <a:pt x="1838" y="22"/>
                  </a:lnTo>
                  <a:lnTo>
                    <a:pt x="1848" y="24"/>
                  </a:lnTo>
                  <a:lnTo>
                    <a:pt x="1856" y="26"/>
                  </a:lnTo>
                  <a:lnTo>
                    <a:pt x="1866" y="28"/>
                  </a:lnTo>
                  <a:lnTo>
                    <a:pt x="1874" y="32"/>
                  </a:lnTo>
                  <a:lnTo>
                    <a:pt x="1883" y="35"/>
                  </a:lnTo>
                  <a:lnTo>
                    <a:pt x="1892" y="38"/>
                  </a:lnTo>
                  <a:lnTo>
                    <a:pt x="1902" y="42"/>
                  </a:lnTo>
                  <a:lnTo>
                    <a:pt x="1911" y="45"/>
                  </a:lnTo>
                  <a:lnTo>
                    <a:pt x="1920" y="49"/>
                  </a:lnTo>
                  <a:lnTo>
                    <a:pt x="1930" y="51"/>
                  </a:lnTo>
                  <a:lnTo>
                    <a:pt x="1939" y="53"/>
                  </a:lnTo>
                  <a:lnTo>
                    <a:pt x="1949" y="56"/>
                  </a:lnTo>
                  <a:lnTo>
                    <a:pt x="1960" y="56"/>
                  </a:lnTo>
                  <a:lnTo>
                    <a:pt x="1970" y="57"/>
                  </a:lnTo>
                  <a:lnTo>
                    <a:pt x="1981" y="56"/>
                  </a:lnTo>
                  <a:lnTo>
                    <a:pt x="1991" y="55"/>
                  </a:lnTo>
                  <a:lnTo>
                    <a:pt x="2002" y="53"/>
                  </a:lnTo>
                  <a:lnTo>
                    <a:pt x="2013" y="51"/>
                  </a:lnTo>
                  <a:lnTo>
                    <a:pt x="2024" y="48"/>
                  </a:lnTo>
                  <a:lnTo>
                    <a:pt x="2035" y="45"/>
                  </a:lnTo>
                  <a:lnTo>
                    <a:pt x="2046" y="42"/>
                  </a:lnTo>
                  <a:lnTo>
                    <a:pt x="2056" y="38"/>
                  </a:lnTo>
                  <a:lnTo>
                    <a:pt x="2067" y="35"/>
                  </a:lnTo>
                  <a:lnTo>
                    <a:pt x="2077" y="31"/>
                  </a:lnTo>
                  <a:lnTo>
                    <a:pt x="2087" y="28"/>
                  </a:lnTo>
                  <a:lnTo>
                    <a:pt x="2097" y="26"/>
                  </a:lnTo>
                  <a:lnTo>
                    <a:pt x="2105" y="23"/>
                  </a:lnTo>
                  <a:lnTo>
                    <a:pt x="2114" y="22"/>
                  </a:lnTo>
                  <a:lnTo>
                    <a:pt x="2122" y="20"/>
                  </a:lnTo>
                  <a:lnTo>
                    <a:pt x="2129" y="20"/>
                  </a:lnTo>
                  <a:lnTo>
                    <a:pt x="2138" y="20"/>
                  </a:lnTo>
                  <a:lnTo>
                    <a:pt x="2148" y="21"/>
                  </a:lnTo>
                  <a:lnTo>
                    <a:pt x="2157" y="23"/>
                  </a:lnTo>
                  <a:lnTo>
                    <a:pt x="2167" y="25"/>
                  </a:lnTo>
                  <a:lnTo>
                    <a:pt x="2175" y="28"/>
                  </a:lnTo>
                  <a:lnTo>
                    <a:pt x="2185" y="31"/>
                  </a:lnTo>
                  <a:lnTo>
                    <a:pt x="2193" y="34"/>
                  </a:lnTo>
                  <a:lnTo>
                    <a:pt x="2202" y="38"/>
                  </a:lnTo>
                  <a:lnTo>
                    <a:pt x="2211" y="41"/>
                  </a:lnTo>
                  <a:lnTo>
                    <a:pt x="2220" y="45"/>
                  </a:lnTo>
                  <a:lnTo>
                    <a:pt x="2230" y="48"/>
                  </a:lnTo>
                  <a:lnTo>
                    <a:pt x="2239" y="51"/>
                  </a:lnTo>
                  <a:lnTo>
                    <a:pt x="2248" y="53"/>
                  </a:lnTo>
                  <a:lnTo>
                    <a:pt x="2259" y="54"/>
                  </a:lnTo>
                  <a:lnTo>
                    <a:pt x="2268" y="56"/>
                  </a:lnTo>
                  <a:lnTo>
                    <a:pt x="2279" y="56"/>
                  </a:lnTo>
                  <a:lnTo>
                    <a:pt x="2292" y="56"/>
                  </a:lnTo>
                  <a:lnTo>
                    <a:pt x="2304" y="54"/>
                  </a:lnTo>
                  <a:lnTo>
                    <a:pt x="2316" y="52"/>
                  </a:lnTo>
                  <a:lnTo>
                    <a:pt x="2329" y="49"/>
                  </a:lnTo>
                  <a:lnTo>
                    <a:pt x="2341" y="47"/>
                  </a:lnTo>
                  <a:lnTo>
                    <a:pt x="2353" y="42"/>
                  </a:lnTo>
                  <a:lnTo>
                    <a:pt x="2366" y="39"/>
                  </a:lnTo>
                  <a:lnTo>
                    <a:pt x="2377" y="35"/>
                  </a:lnTo>
                  <a:lnTo>
                    <a:pt x="2387" y="32"/>
                  </a:lnTo>
                  <a:lnTo>
                    <a:pt x="2396" y="29"/>
                  </a:lnTo>
                  <a:lnTo>
                    <a:pt x="2405" y="26"/>
                  </a:lnTo>
                  <a:lnTo>
                    <a:pt x="2413" y="24"/>
                  </a:lnTo>
                  <a:lnTo>
                    <a:pt x="2422" y="22"/>
                  </a:lnTo>
                  <a:lnTo>
                    <a:pt x="2429" y="20"/>
                  </a:lnTo>
                  <a:lnTo>
                    <a:pt x="2437" y="20"/>
                  </a:lnTo>
                  <a:lnTo>
                    <a:pt x="2443" y="19"/>
                  </a:lnTo>
                  <a:lnTo>
                    <a:pt x="2443" y="0"/>
                  </a:lnTo>
                </a:path>
              </a:pathLst>
            </a:custGeom>
            <a:solidFill>
              <a:srgbClr val="aaff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Freeform 20"/>
            <p:cNvSpPr/>
            <p:nvPr/>
          </p:nvSpPr>
          <p:spPr>
            <a:xfrm>
              <a:off x="4525200" y="246240"/>
              <a:ext cx="3557160" cy="98280"/>
            </a:xfrm>
            <a:custGeom>
              <a:avLst/>
              <a:gdLst/>
              <a:ahLst/>
              <a:rect l="l" t="t" r="r" b="b"/>
              <a:pathLst>
                <a:path w="2447" h="62">
                  <a:moveTo>
                    <a:pt x="1" y="5"/>
                  </a:moveTo>
                  <a:lnTo>
                    <a:pt x="10" y="6"/>
                  </a:lnTo>
                  <a:lnTo>
                    <a:pt x="19" y="7"/>
                  </a:lnTo>
                  <a:lnTo>
                    <a:pt x="29" y="10"/>
                  </a:lnTo>
                  <a:lnTo>
                    <a:pt x="38" y="13"/>
                  </a:lnTo>
                  <a:lnTo>
                    <a:pt x="46" y="15"/>
                  </a:lnTo>
                  <a:lnTo>
                    <a:pt x="56" y="19"/>
                  </a:lnTo>
                  <a:lnTo>
                    <a:pt x="64" y="21"/>
                  </a:lnTo>
                  <a:lnTo>
                    <a:pt x="73" y="25"/>
                  </a:lnTo>
                  <a:lnTo>
                    <a:pt x="82" y="29"/>
                  </a:lnTo>
                  <a:lnTo>
                    <a:pt x="91" y="31"/>
                  </a:lnTo>
                  <a:lnTo>
                    <a:pt x="101" y="34"/>
                  </a:lnTo>
                  <a:lnTo>
                    <a:pt x="110" y="37"/>
                  </a:lnTo>
                  <a:lnTo>
                    <a:pt x="119" y="39"/>
                  </a:lnTo>
                  <a:lnTo>
                    <a:pt x="130" y="41"/>
                  </a:lnTo>
                  <a:lnTo>
                    <a:pt x="139" y="42"/>
                  </a:lnTo>
                  <a:lnTo>
                    <a:pt x="151" y="42"/>
                  </a:lnTo>
                  <a:lnTo>
                    <a:pt x="161" y="41"/>
                  </a:lnTo>
                  <a:lnTo>
                    <a:pt x="173" y="40"/>
                  </a:lnTo>
                  <a:lnTo>
                    <a:pt x="184" y="38"/>
                  </a:lnTo>
                  <a:lnTo>
                    <a:pt x="196" y="35"/>
                  </a:lnTo>
                  <a:lnTo>
                    <a:pt x="208" y="32"/>
                  </a:lnTo>
                  <a:lnTo>
                    <a:pt x="219" y="30"/>
                  </a:lnTo>
                  <a:lnTo>
                    <a:pt x="230" y="26"/>
                  </a:lnTo>
                  <a:lnTo>
                    <a:pt x="242" y="22"/>
                  </a:lnTo>
                  <a:lnTo>
                    <a:pt x="253" y="19"/>
                  </a:lnTo>
                  <a:lnTo>
                    <a:pt x="263" y="16"/>
                  </a:lnTo>
                  <a:lnTo>
                    <a:pt x="274" y="12"/>
                  </a:lnTo>
                  <a:lnTo>
                    <a:pt x="283" y="10"/>
                  </a:lnTo>
                  <a:lnTo>
                    <a:pt x="292" y="7"/>
                  </a:lnTo>
                  <a:lnTo>
                    <a:pt x="301" y="6"/>
                  </a:lnTo>
                  <a:lnTo>
                    <a:pt x="309" y="5"/>
                  </a:lnTo>
                  <a:lnTo>
                    <a:pt x="316" y="5"/>
                  </a:lnTo>
                  <a:lnTo>
                    <a:pt x="317" y="5"/>
                  </a:lnTo>
                  <a:lnTo>
                    <a:pt x="316" y="5"/>
                  </a:lnTo>
                  <a:lnTo>
                    <a:pt x="325" y="5"/>
                  </a:lnTo>
                  <a:lnTo>
                    <a:pt x="335" y="6"/>
                  </a:lnTo>
                  <a:lnTo>
                    <a:pt x="344" y="8"/>
                  </a:lnTo>
                  <a:lnTo>
                    <a:pt x="353" y="11"/>
                  </a:lnTo>
                  <a:lnTo>
                    <a:pt x="362" y="13"/>
                  </a:lnTo>
                  <a:lnTo>
                    <a:pt x="371" y="17"/>
                  </a:lnTo>
                  <a:lnTo>
                    <a:pt x="381" y="20"/>
                  </a:lnTo>
                  <a:lnTo>
                    <a:pt x="389" y="23"/>
                  </a:lnTo>
                  <a:lnTo>
                    <a:pt x="399" y="27"/>
                  </a:lnTo>
                  <a:lnTo>
                    <a:pt x="407" y="30"/>
                  </a:lnTo>
                  <a:lnTo>
                    <a:pt x="417" y="33"/>
                  </a:lnTo>
                  <a:lnTo>
                    <a:pt x="426" y="36"/>
                  </a:lnTo>
                  <a:lnTo>
                    <a:pt x="436" y="38"/>
                  </a:lnTo>
                  <a:lnTo>
                    <a:pt x="445" y="40"/>
                  </a:lnTo>
                  <a:lnTo>
                    <a:pt x="456" y="41"/>
                  </a:lnTo>
                  <a:lnTo>
                    <a:pt x="467" y="41"/>
                  </a:lnTo>
                  <a:lnTo>
                    <a:pt x="477" y="41"/>
                  </a:lnTo>
                  <a:lnTo>
                    <a:pt x="489" y="40"/>
                  </a:lnTo>
                  <a:lnTo>
                    <a:pt x="500" y="37"/>
                  </a:lnTo>
                  <a:lnTo>
                    <a:pt x="511" y="35"/>
                  </a:lnTo>
                  <a:lnTo>
                    <a:pt x="523" y="32"/>
                  </a:lnTo>
                  <a:lnTo>
                    <a:pt x="534" y="29"/>
                  </a:lnTo>
                  <a:lnTo>
                    <a:pt x="545" y="26"/>
                  </a:lnTo>
                  <a:lnTo>
                    <a:pt x="556" y="21"/>
                  </a:lnTo>
                  <a:lnTo>
                    <a:pt x="567" y="18"/>
                  </a:lnTo>
                  <a:lnTo>
                    <a:pt x="577" y="15"/>
                  </a:lnTo>
                  <a:lnTo>
                    <a:pt x="588" y="12"/>
                  </a:lnTo>
                  <a:lnTo>
                    <a:pt x="597" y="9"/>
                  </a:lnTo>
                  <a:lnTo>
                    <a:pt x="606" y="7"/>
                  </a:lnTo>
                  <a:lnTo>
                    <a:pt x="615" y="5"/>
                  </a:lnTo>
                  <a:lnTo>
                    <a:pt x="623" y="4"/>
                  </a:lnTo>
                  <a:lnTo>
                    <a:pt x="630" y="4"/>
                  </a:lnTo>
                  <a:lnTo>
                    <a:pt x="631" y="4"/>
                  </a:lnTo>
                  <a:lnTo>
                    <a:pt x="630" y="4"/>
                  </a:lnTo>
                  <a:lnTo>
                    <a:pt x="639" y="5"/>
                  </a:lnTo>
                  <a:lnTo>
                    <a:pt x="650" y="5"/>
                  </a:lnTo>
                  <a:lnTo>
                    <a:pt x="658" y="7"/>
                  </a:lnTo>
                  <a:lnTo>
                    <a:pt x="668" y="10"/>
                  </a:lnTo>
                  <a:lnTo>
                    <a:pt x="676" y="12"/>
                  </a:lnTo>
                  <a:lnTo>
                    <a:pt x="686" y="16"/>
                  </a:lnTo>
                  <a:lnTo>
                    <a:pt x="695" y="19"/>
                  </a:lnTo>
                  <a:lnTo>
                    <a:pt x="703" y="22"/>
                  </a:lnTo>
                  <a:lnTo>
                    <a:pt x="713" y="26"/>
                  </a:lnTo>
                  <a:lnTo>
                    <a:pt x="721" y="29"/>
                  </a:lnTo>
                  <a:lnTo>
                    <a:pt x="730" y="32"/>
                  </a:lnTo>
                  <a:lnTo>
                    <a:pt x="740" y="35"/>
                  </a:lnTo>
                  <a:lnTo>
                    <a:pt x="750" y="37"/>
                  </a:lnTo>
                  <a:lnTo>
                    <a:pt x="759" y="40"/>
                  </a:lnTo>
                  <a:lnTo>
                    <a:pt x="770" y="40"/>
                  </a:lnTo>
                  <a:lnTo>
                    <a:pt x="780" y="41"/>
                  </a:lnTo>
                  <a:lnTo>
                    <a:pt x="791" y="40"/>
                  </a:lnTo>
                  <a:lnTo>
                    <a:pt x="803" y="39"/>
                  </a:lnTo>
                  <a:lnTo>
                    <a:pt x="814" y="37"/>
                  </a:lnTo>
                  <a:lnTo>
                    <a:pt x="825" y="34"/>
                  </a:lnTo>
                  <a:lnTo>
                    <a:pt x="837" y="31"/>
                  </a:lnTo>
                  <a:lnTo>
                    <a:pt x="849" y="28"/>
                  </a:lnTo>
                  <a:lnTo>
                    <a:pt x="859" y="25"/>
                  </a:lnTo>
                  <a:lnTo>
                    <a:pt x="870" y="21"/>
                  </a:lnTo>
                  <a:lnTo>
                    <a:pt x="881" y="17"/>
                  </a:lnTo>
                  <a:lnTo>
                    <a:pt x="892" y="14"/>
                  </a:lnTo>
                  <a:lnTo>
                    <a:pt x="902" y="11"/>
                  </a:lnTo>
                  <a:lnTo>
                    <a:pt x="911" y="8"/>
                  </a:lnTo>
                  <a:lnTo>
                    <a:pt x="921" y="6"/>
                  </a:lnTo>
                  <a:lnTo>
                    <a:pt x="929" y="5"/>
                  </a:lnTo>
                  <a:lnTo>
                    <a:pt x="937" y="3"/>
                  </a:lnTo>
                  <a:lnTo>
                    <a:pt x="945" y="3"/>
                  </a:lnTo>
                  <a:lnTo>
                    <a:pt x="944" y="3"/>
                  </a:lnTo>
                  <a:lnTo>
                    <a:pt x="945" y="3"/>
                  </a:lnTo>
                  <a:lnTo>
                    <a:pt x="954" y="5"/>
                  </a:lnTo>
                  <a:lnTo>
                    <a:pt x="964" y="6"/>
                  </a:lnTo>
                  <a:lnTo>
                    <a:pt x="973" y="8"/>
                  </a:lnTo>
                  <a:lnTo>
                    <a:pt x="982" y="11"/>
                  </a:lnTo>
                  <a:lnTo>
                    <a:pt x="991" y="13"/>
                  </a:lnTo>
                  <a:lnTo>
                    <a:pt x="1000" y="17"/>
                  </a:lnTo>
                  <a:lnTo>
                    <a:pt x="1009" y="20"/>
                  </a:lnTo>
                  <a:lnTo>
                    <a:pt x="1018" y="23"/>
                  </a:lnTo>
                  <a:lnTo>
                    <a:pt x="1027" y="26"/>
                  </a:lnTo>
                  <a:lnTo>
                    <a:pt x="1036" y="29"/>
                  </a:lnTo>
                  <a:lnTo>
                    <a:pt x="1045" y="32"/>
                  </a:lnTo>
                  <a:lnTo>
                    <a:pt x="1055" y="35"/>
                  </a:lnTo>
                  <a:lnTo>
                    <a:pt x="1064" y="37"/>
                  </a:lnTo>
                  <a:lnTo>
                    <a:pt x="1074" y="38"/>
                  </a:lnTo>
                  <a:lnTo>
                    <a:pt x="1084" y="40"/>
                  </a:lnTo>
                  <a:lnTo>
                    <a:pt x="1095" y="40"/>
                  </a:lnTo>
                  <a:lnTo>
                    <a:pt x="1106" y="39"/>
                  </a:lnTo>
                  <a:lnTo>
                    <a:pt x="1118" y="38"/>
                  </a:lnTo>
                  <a:lnTo>
                    <a:pt x="1129" y="35"/>
                  </a:lnTo>
                  <a:lnTo>
                    <a:pt x="1140" y="33"/>
                  </a:lnTo>
                  <a:lnTo>
                    <a:pt x="1152" y="30"/>
                  </a:lnTo>
                  <a:lnTo>
                    <a:pt x="1163" y="27"/>
                  </a:lnTo>
                  <a:lnTo>
                    <a:pt x="1175" y="24"/>
                  </a:lnTo>
                  <a:lnTo>
                    <a:pt x="1186" y="20"/>
                  </a:lnTo>
                  <a:lnTo>
                    <a:pt x="1197" y="16"/>
                  </a:lnTo>
                  <a:lnTo>
                    <a:pt x="1207" y="13"/>
                  </a:lnTo>
                  <a:lnTo>
                    <a:pt x="1217" y="10"/>
                  </a:lnTo>
                  <a:lnTo>
                    <a:pt x="1228" y="7"/>
                  </a:lnTo>
                  <a:lnTo>
                    <a:pt x="1237" y="5"/>
                  </a:lnTo>
                  <a:lnTo>
                    <a:pt x="1246" y="3"/>
                  </a:lnTo>
                  <a:lnTo>
                    <a:pt x="1254" y="2"/>
                  </a:lnTo>
                  <a:lnTo>
                    <a:pt x="1261" y="2"/>
                  </a:lnTo>
                  <a:lnTo>
                    <a:pt x="1262" y="2"/>
                  </a:lnTo>
                  <a:lnTo>
                    <a:pt x="1261" y="2"/>
                  </a:lnTo>
                  <a:lnTo>
                    <a:pt x="1260" y="2"/>
                  </a:lnTo>
                  <a:lnTo>
                    <a:pt x="1261" y="2"/>
                  </a:lnTo>
                  <a:lnTo>
                    <a:pt x="1270" y="3"/>
                  </a:lnTo>
                  <a:lnTo>
                    <a:pt x="1280" y="4"/>
                  </a:lnTo>
                  <a:lnTo>
                    <a:pt x="1289" y="6"/>
                  </a:lnTo>
                  <a:lnTo>
                    <a:pt x="1298" y="9"/>
                  </a:lnTo>
                  <a:lnTo>
                    <a:pt x="1307" y="11"/>
                  </a:lnTo>
                  <a:lnTo>
                    <a:pt x="1316" y="15"/>
                  </a:lnTo>
                  <a:lnTo>
                    <a:pt x="1325" y="18"/>
                  </a:lnTo>
                  <a:lnTo>
                    <a:pt x="1334" y="21"/>
                  </a:lnTo>
                  <a:lnTo>
                    <a:pt x="1342" y="25"/>
                  </a:lnTo>
                  <a:lnTo>
                    <a:pt x="1352" y="28"/>
                  </a:lnTo>
                  <a:lnTo>
                    <a:pt x="1361" y="31"/>
                  </a:lnTo>
                  <a:lnTo>
                    <a:pt x="1370" y="34"/>
                  </a:lnTo>
                  <a:lnTo>
                    <a:pt x="1380" y="37"/>
                  </a:lnTo>
                  <a:lnTo>
                    <a:pt x="1390" y="38"/>
                  </a:lnTo>
                  <a:lnTo>
                    <a:pt x="1400" y="39"/>
                  </a:lnTo>
                  <a:lnTo>
                    <a:pt x="1411" y="40"/>
                  </a:lnTo>
                  <a:lnTo>
                    <a:pt x="1421" y="39"/>
                  </a:lnTo>
                  <a:lnTo>
                    <a:pt x="1433" y="38"/>
                  </a:lnTo>
                  <a:lnTo>
                    <a:pt x="1444" y="35"/>
                  </a:lnTo>
                  <a:lnTo>
                    <a:pt x="1456" y="33"/>
                  </a:lnTo>
                  <a:lnTo>
                    <a:pt x="1467" y="30"/>
                  </a:lnTo>
                  <a:lnTo>
                    <a:pt x="1478" y="27"/>
                  </a:lnTo>
                  <a:lnTo>
                    <a:pt x="1490" y="23"/>
                  </a:lnTo>
                  <a:lnTo>
                    <a:pt x="1500" y="20"/>
                  </a:lnTo>
                  <a:lnTo>
                    <a:pt x="1511" y="16"/>
                  </a:lnTo>
                  <a:lnTo>
                    <a:pt x="1522" y="13"/>
                  </a:lnTo>
                  <a:lnTo>
                    <a:pt x="1532" y="10"/>
                  </a:lnTo>
                  <a:lnTo>
                    <a:pt x="1542" y="7"/>
                  </a:lnTo>
                  <a:lnTo>
                    <a:pt x="1551" y="5"/>
                  </a:lnTo>
                  <a:lnTo>
                    <a:pt x="1560" y="3"/>
                  </a:lnTo>
                  <a:lnTo>
                    <a:pt x="1568" y="2"/>
                  </a:lnTo>
                  <a:lnTo>
                    <a:pt x="1575" y="2"/>
                  </a:lnTo>
                  <a:lnTo>
                    <a:pt x="1584" y="3"/>
                  </a:lnTo>
                  <a:lnTo>
                    <a:pt x="1594" y="5"/>
                  </a:lnTo>
                  <a:lnTo>
                    <a:pt x="1603" y="6"/>
                  </a:lnTo>
                  <a:lnTo>
                    <a:pt x="1613" y="9"/>
                  </a:lnTo>
                  <a:lnTo>
                    <a:pt x="1621" y="12"/>
                  </a:lnTo>
                  <a:lnTo>
                    <a:pt x="1631" y="15"/>
                  </a:lnTo>
                  <a:lnTo>
                    <a:pt x="1639" y="19"/>
                  </a:lnTo>
                  <a:lnTo>
                    <a:pt x="1648" y="21"/>
                  </a:lnTo>
                  <a:lnTo>
                    <a:pt x="1657" y="25"/>
                  </a:lnTo>
                  <a:lnTo>
                    <a:pt x="1667" y="28"/>
                  </a:lnTo>
                  <a:lnTo>
                    <a:pt x="1676" y="31"/>
                  </a:lnTo>
                  <a:lnTo>
                    <a:pt x="1685" y="34"/>
                  </a:lnTo>
                  <a:lnTo>
                    <a:pt x="1695" y="35"/>
                  </a:lnTo>
                  <a:lnTo>
                    <a:pt x="1705" y="37"/>
                  </a:lnTo>
                  <a:lnTo>
                    <a:pt x="1715" y="38"/>
                  </a:lnTo>
                  <a:lnTo>
                    <a:pt x="1726" y="38"/>
                  </a:lnTo>
                  <a:lnTo>
                    <a:pt x="1737" y="38"/>
                  </a:lnTo>
                  <a:lnTo>
                    <a:pt x="1748" y="37"/>
                  </a:lnTo>
                  <a:lnTo>
                    <a:pt x="1759" y="34"/>
                  </a:lnTo>
                  <a:lnTo>
                    <a:pt x="1770" y="32"/>
                  </a:lnTo>
                  <a:lnTo>
                    <a:pt x="1782" y="29"/>
                  </a:lnTo>
                  <a:lnTo>
                    <a:pt x="1792" y="26"/>
                  </a:lnTo>
                  <a:lnTo>
                    <a:pt x="1804" y="22"/>
                  </a:lnTo>
                  <a:lnTo>
                    <a:pt x="1814" y="19"/>
                  </a:lnTo>
                  <a:lnTo>
                    <a:pt x="1825" y="15"/>
                  </a:lnTo>
                  <a:lnTo>
                    <a:pt x="1835" y="12"/>
                  </a:lnTo>
                  <a:lnTo>
                    <a:pt x="1845" y="9"/>
                  </a:lnTo>
                  <a:lnTo>
                    <a:pt x="1855" y="6"/>
                  </a:lnTo>
                  <a:lnTo>
                    <a:pt x="1863" y="3"/>
                  </a:lnTo>
                  <a:lnTo>
                    <a:pt x="1872" y="2"/>
                  </a:lnTo>
                  <a:lnTo>
                    <a:pt x="1880" y="1"/>
                  </a:lnTo>
                  <a:lnTo>
                    <a:pt x="1887" y="1"/>
                  </a:lnTo>
                  <a:lnTo>
                    <a:pt x="1888" y="1"/>
                  </a:lnTo>
                  <a:lnTo>
                    <a:pt x="1887" y="1"/>
                  </a:lnTo>
                  <a:lnTo>
                    <a:pt x="1897" y="2"/>
                  </a:lnTo>
                  <a:lnTo>
                    <a:pt x="1907" y="3"/>
                  </a:lnTo>
                  <a:lnTo>
                    <a:pt x="1916" y="5"/>
                  </a:lnTo>
                  <a:lnTo>
                    <a:pt x="1925" y="8"/>
                  </a:lnTo>
                  <a:lnTo>
                    <a:pt x="1933" y="11"/>
                  </a:lnTo>
                  <a:lnTo>
                    <a:pt x="1943" y="14"/>
                  </a:lnTo>
                  <a:lnTo>
                    <a:pt x="1952" y="17"/>
                  </a:lnTo>
                  <a:lnTo>
                    <a:pt x="1961" y="20"/>
                  </a:lnTo>
                  <a:lnTo>
                    <a:pt x="1970" y="24"/>
                  </a:lnTo>
                  <a:lnTo>
                    <a:pt x="1978" y="27"/>
                  </a:lnTo>
                  <a:lnTo>
                    <a:pt x="1988" y="30"/>
                  </a:lnTo>
                  <a:lnTo>
                    <a:pt x="1997" y="32"/>
                  </a:lnTo>
                  <a:lnTo>
                    <a:pt x="2007" y="34"/>
                  </a:lnTo>
                  <a:lnTo>
                    <a:pt x="2017" y="36"/>
                  </a:lnTo>
                  <a:lnTo>
                    <a:pt x="2027" y="37"/>
                  </a:lnTo>
                  <a:lnTo>
                    <a:pt x="2038" y="37"/>
                  </a:lnTo>
                  <a:lnTo>
                    <a:pt x="2049" y="37"/>
                  </a:lnTo>
                  <a:lnTo>
                    <a:pt x="2060" y="35"/>
                  </a:lnTo>
                  <a:lnTo>
                    <a:pt x="2070" y="34"/>
                  </a:lnTo>
                  <a:lnTo>
                    <a:pt x="2081" y="31"/>
                  </a:lnTo>
                  <a:lnTo>
                    <a:pt x="2092" y="29"/>
                  </a:lnTo>
                  <a:lnTo>
                    <a:pt x="2103" y="25"/>
                  </a:lnTo>
                  <a:lnTo>
                    <a:pt x="2114" y="22"/>
                  </a:lnTo>
                  <a:lnTo>
                    <a:pt x="2125" y="19"/>
                  </a:lnTo>
                  <a:lnTo>
                    <a:pt x="2135" y="15"/>
                  </a:lnTo>
                  <a:lnTo>
                    <a:pt x="2145" y="12"/>
                  </a:lnTo>
                  <a:lnTo>
                    <a:pt x="2155" y="9"/>
                  </a:lnTo>
                  <a:lnTo>
                    <a:pt x="2164" y="6"/>
                  </a:lnTo>
                  <a:lnTo>
                    <a:pt x="2173" y="3"/>
                  </a:lnTo>
                  <a:lnTo>
                    <a:pt x="2182" y="2"/>
                  </a:lnTo>
                  <a:lnTo>
                    <a:pt x="2190" y="1"/>
                  </a:lnTo>
                  <a:lnTo>
                    <a:pt x="2197" y="0"/>
                  </a:lnTo>
                  <a:lnTo>
                    <a:pt x="2206" y="1"/>
                  </a:lnTo>
                  <a:lnTo>
                    <a:pt x="2217" y="1"/>
                  </a:lnTo>
                  <a:lnTo>
                    <a:pt x="2225" y="3"/>
                  </a:lnTo>
                  <a:lnTo>
                    <a:pt x="2235" y="6"/>
                  </a:lnTo>
                  <a:lnTo>
                    <a:pt x="2243" y="8"/>
                  </a:lnTo>
                  <a:lnTo>
                    <a:pt x="2253" y="12"/>
                  </a:lnTo>
                  <a:lnTo>
                    <a:pt x="2261" y="15"/>
                  </a:lnTo>
                  <a:lnTo>
                    <a:pt x="2270" y="18"/>
                  </a:lnTo>
                  <a:lnTo>
                    <a:pt x="2279" y="21"/>
                  </a:lnTo>
                  <a:lnTo>
                    <a:pt x="2288" y="25"/>
                  </a:lnTo>
                  <a:lnTo>
                    <a:pt x="2297" y="29"/>
                  </a:lnTo>
                  <a:lnTo>
                    <a:pt x="2307" y="31"/>
                  </a:lnTo>
                  <a:lnTo>
                    <a:pt x="2316" y="33"/>
                  </a:lnTo>
                  <a:lnTo>
                    <a:pt x="2326" y="35"/>
                  </a:lnTo>
                  <a:lnTo>
                    <a:pt x="2337" y="36"/>
                  </a:lnTo>
                  <a:lnTo>
                    <a:pt x="2347" y="37"/>
                  </a:lnTo>
                  <a:lnTo>
                    <a:pt x="2360" y="36"/>
                  </a:lnTo>
                  <a:lnTo>
                    <a:pt x="2372" y="35"/>
                  </a:lnTo>
                  <a:lnTo>
                    <a:pt x="2384" y="32"/>
                  </a:lnTo>
                  <a:lnTo>
                    <a:pt x="2396" y="30"/>
                  </a:lnTo>
                  <a:lnTo>
                    <a:pt x="2410" y="26"/>
                  </a:lnTo>
                  <a:lnTo>
                    <a:pt x="2422" y="23"/>
                  </a:lnTo>
                  <a:lnTo>
                    <a:pt x="2434" y="19"/>
                  </a:lnTo>
                  <a:lnTo>
                    <a:pt x="2446" y="15"/>
                  </a:lnTo>
                  <a:lnTo>
                    <a:pt x="2446" y="20"/>
                  </a:lnTo>
                  <a:lnTo>
                    <a:pt x="2446" y="26"/>
                  </a:lnTo>
                  <a:lnTo>
                    <a:pt x="2446" y="30"/>
                  </a:lnTo>
                  <a:lnTo>
                    <a:pt x="2446" y="34"/>
                  </a:lnTo>
                  <a:lnTo>
                    <a:pt x="2434" y="38"/>
                  </a:lnTo>
                  <a:lnTo>
                    <a:pt x="2422" y="42"/>
                  </a:lnTo>
                  <a:lnTo>
                    <a:pt x="2410" y="45"/>
                  </a:lnTo>
                  <a:lnTo>
                    <a:pt x="2397" y="48"/>
                  </a:lnTo>
                  <a:lnTo>
                    <a:pt x="2384" y="51"/>
                  </a:lnTo>
                  <a:lnTo>
                    <a:pt x="2372" y="54"/>
                  </a:lnTo>
                  <a:lnTo>
                    <a:pt x="2360" y="55"/>
                  </a:lnTo>
                  <a:lnTo>
                    <a:pt x="2347" y="56"/>
                  </a:lnTo>
                  <a:lnTo>
                    <a:pt x="2337" y="55"/>
                  </a:lnTo>
                  <a:lnTo>
                    <a:pt x="2326" y="54"/>
                  </a:lnTo>
                  <a:lnTo>
                    <a:pt x="2317" y="52"/>
                  </a:lnTo>
                  <a:lnTo>
                    <a:pt x="2307" y="50"/>
                  </a:lnTo>
                  <a:lnTo>
                    <a:pt x="2297" y="47"/>
                  </a:lnTo>
                  <a:lnTo>
                    <a:pt x="2289" y="44"/>
                  </a:lnTo>
                  <a:lnTo>
                    <a:pt x="2279" y="41"/>
                  </a:lnTo>
                  <a:lnTo>
                    <a:pt x="2271" y="37"/>
                  </a:lnTo>
                  <a:lnTo>
                    <a:pt x="2261" y="34"/>
                  </a:lnTo>
                  <a:lnTo>
                    <a:pt x="2253" y="30"/>
                  </a:lnTo>
                  <a:lnTo>
                    <a:pt x="2244" y="27"/>
                  </a:lnTo>
                  <a:lnTo>
                    <a:pt x="2235" y="25"/>
                  </a:lnTo>
                  <a:lnTo>
                    <a:pt x="2226" y="22"/>
                  </a:lnTo>
                  <a:lnTo>
                    <a:pt x="2217" y="20"/>
                  </a:lnTo>
                  <a:lnTo>
                    <a:pt x="2206" y="19"/>
                  </a:lnTo>
                  <a:lnTo>
                    <a:pt x="2197" y="19"/>
                  </a:lnTo>
                  <a:lnTo>
                    <a:pt x="2190" y="20"/>
                  </a:lnTo>
                  <a:lnTo>
                    <a:pt x="2182" y="21"/>
                  </a:lnTo>
                  <a:lnTo>
                    <a:pt x="2173" y="23"/>
                  </a:lnTo>
                  <a:lnTo>
                    <a:pt x="2164" y="25"/>
                  </a:lnTo>
                  <a:lnTo>
                    <a:pt x="2155" y="28"/>
                  </a:lnTo>
                  <a:lnTo>
                    <a:pt x="2145" y="31"/>
                  </a:lnTo>
                  <a:lnTo>
                    <a:pt x="2135" y="34"/>
                  </a:lnTo>
                  <a:lnTo>
                    <a:pt x="2125" y="38"/>
                  </a:lnTo>
                  <a:lnTo>
                    <a:pt x="2114" y="41"/>
                  </a:lnTo>
                  <a:lnTo>
                    <a:pt x="2103" y="44"/>
                  </a:lnTo>
                  <a:lnTo>
                    <a:pt x="2092" y="48"/>
                  </a:lnTo>
                  <a:lnTo>
                    <a:pt x="2081" y="50"/>
                  </a:lnTo>
                  <a:lnTo>
                    <a:pt x="2070" y="52"/>
                  </a:lnTo>
                  <a:lnTo>
                    <a:pt x="2060" y="54"/>
                  </a:lnTo>
                  <a:lnTo>
                    <a:pt x="2049" y="55"/>
                  </a:lnTo>
                  <a:lnTo>
                    <a:pt x="2039" y="56"/>
                  </a:lnTo>
                  <a:lnTo>
                    <a:pt x="2028" y="56"/>
                  </a:lnTo>
                  <a:lnTo>
                    <a:pt x="2018" y="55"/>
                  </a:lnTo>
                  <a:lnTo>
                    <a:pt x="2007" y="53"/>
                  </a:lnTo>
                  <a:lnTo>
                    <a:pt x="1998" y="51"/>
                  </a:lnTo>
                  <a:lnTo>
                    <a:pt x="1989" y="48"/>
                  </a:lnTo>
                  <a:lnTo>
                    <a:pt x="1979" y="45"/>
                  </a:lnTo>
                  <a:lnTo>
                    <a:pt x="1970" y="42"/>
                  </a:lnTo>
                  <a:lnTo>
                    <a:pt x="1961" y="39"/>
                  </a:lnTo>
                  <a:lnTo>
                    <a:pt x="1952" y="35"/>
                  </a:lnTo>
                  <a:lnTo>
                    <a:pt x="1943" y="32"/>
                  </a:lnTo>
                  <a:lnTo>
                    <a:pt x="1934" y="29"/>
                  </a:lnTo>
                  <a:lnTo>
                    <a:pt x="1925" y="27"/>
                  </a:lnTo>
                  <a:lnTo>
                    <a:pt x="1916" y="24"/>
                  </a:lnTo>
                  <a:lnTo>
                    <a:pt x="1907" y="22"/>
                  </a:lnTo>
                  <a:lnTo>
                    <a:pt x="1897" y="20"/>
                  </a:lnTo>
                  <a:lnTo>
                    <a:pt x="1887" y="20"/>
                  </a:lnTo>
                  <a:lnTo>
                    <a:pt x="1880" y="20"/>
                  </a:lnTo>
                  <a:lnTo>
                    <a:pt x="1872" y="21"/>
                  </a:lnTo>
                  <a:lnTo>
                    <a:pt x="1864" y="23"/>
                  </a:lnTo>
                  <a:lnTo>
                    <a:pt x="1855" y="25"/>
                  </a:lnTo>
                  <a:lnTo>
                    <a:pt x="1845" y="28"/>
                  </a:lnTo>
                  <a:lnTo>
                    <a:pt x="1836" y="31"/>
                  </a:lnTo>
                  <a:lnTo>
                    <a:pt x="1825" y="34"/>
                  </a:lnTo>
                  <a:lnTo>
                    <a:pt x="1815" y="38"/>
                  </a:lnTo>
                  <a:lnTo>
                    <a:pt x="1804" y="41"/>
                  </a:lnTo>
                  <a:lnTo>
                    <a:pt x="1793" y="45"/>
                  </a:lnTo>
                  <a:lnTo>
                    <a:pt x="1782" y="48"/>
                  </a:lnTo>
                  <a:lnTo>
                    <a:pt x="1771" y="51"/>
                  </a:lnTo>
                  <a:lnTo>
                    <a:pt x="1759" y="54"/>
                  </a:lnTo>
                  <a:lnTo>
                    <a:pt x="1748" y="56"/>
                  </a:lnTo>
                  <a:lnTo>
                    <a:pt x="1737" y="57"/>
                  </a:lnTo>
                  <a:lnTo>
                    <a:pt x="1726" y="58"/>
                  </a:lnTo>
                  <a:lnTo>
                    <a:pt x="1715" y="57"/>
                  </a:lnTo>
                  <a:lnTo>
                    <a:pt x="1705" y="56"/>
                  </a:lnTo>
                  <a:lnTo>
                    <a:pt x="1695" y="54"/>
                  </a:lnTo>
                  <a:lnTo>
                    <a:pt x="1685" y="52"/>
                  </a:lnTo>
                  <a:lnTo>
                    <a:pt x="1676" y="50"/>
                  </a:lnTo>
                  <a:lnTo>
                    <a:pt x="1667" y="46"/>
                  </a:lnTo>
                  <a:lnTo>
                    <a:pt x="1657" y="42"/>
                  </a:lnTo>
                  <a:lnTo>
                    <a:pt x="1648" y="39"/>
                  </a:lnTo>
                  <a:lnTo>
                    <a:pt x="1639" y="36"/>
                  </a:lnTo>
                  <a:lnTo>
                    <a:pt x="1631" y="32"/>
                  </a:lnTo>
                  <a:lnTo>
                    <a:pt x="1621" y="29"/>
                  </a:lnTo>
                  <a:lnTo>
                    <a:pt x="1613" y="27"/>
                  </a:lnTo>
                  <a:lnTo>
                    <a:pt x="1603" y="25"/>
                  </a:lnTo>
                  <a:lnTo>
                    <a:pt x="1594" y="22"/>
                  </a:lnTo>
                  <a:lnTo>
                    <a:pt x="1584" y="21"/>
                  </a:lnTo>
                  <a:lnTo>
                    <a:pt x="1575" y="21"/>
                  </a:lnTo>
                  <a:lnTo>
                    <a:pt x="1568" y="21"/>
                  </a:lnTo>
                  <a:lnTo>
                    <a:pt x="1560" y="23"/>
                  </a:lnTo>
                  <a:lnTo>
                    <a:pt x="1551" y="25"/>
                  </a:lnTo>
                  <a:lnTo>
                    <a:pt x="1542" y="27"/>
                  </a:lnTo>
                  <a:lnTo>
                    <a:pt x="1532" y="30"/>
                  </a:lnTo>
                  <a:lnTo>
                    <a:pt x="1522" y="32"/>
                  </a:lnTo>
                  <a:lnTo>
                    <a:pt x="1512" y="36"/>
                  </a:lnTo>
                  <a:lnTo>
                    <a:pt x="1501" y="40"/>
                  </a:lnTo>
                  <a:lnTo>
                    <a:pt x="1490" y="43"/>
                  </a:lnTo>
                  <a:lnTo>
                    <a:pt x="1478" y="46"/>
                  </a:lnTo>
                  <a:lnTo>
                    <a:pt x="1468" y="50"/>
                  </a:lnTo>
                  <a:lnTo>
                    <a:pt x="1456" y="52"/>
                  </a:lnTo>
                  <a:lnTo>
                    <a:pt x="1445" y="55"/>
                  </a:lnTo>
                  <a:lnTo>
                    <a:pt x="1434" y="56"/>
                  </a:lnTo>
                  <a:lnTo>
                    <a:pt x="1422" y="58"/>
                  </a:lnTo>
                  <a:lnTo>
                    <a:pt x="1411" y="58"/>
                  </a:lnTo>
                  <a:lnTo>
                    <a:pt x="1400" y="58"/>
                  </a:lnTo>
                  <a:lnTo>
                    <a:pt x="1390" y="57"/>
                  </a:lnTo>
                  <a:lnTo>
                    <a:pt x="1380" y="55"/>
                  </a:lnTo>
                  <a:lnTo>
                    <a:pt x="1371" y="54"/>
                  </a:lnTo>
                  <a:lnTo>
                    <a:pt x="1362" y="51"/>
                  </a:lnTo>
                  <a:lnTo>
                    <a:pt x="1352" y="48"/>
                  </a:lnTo>
                  <a:lnTo>
                    <a:pt x="1343" y="45"/>
                  </a:lnTo>
                  <a:lnTo>
                    <a:pt x="1335" y="41"/>
                  </a:lnTo>
                  <a:lnTo>
                    <a:pt x="1325" y="38"/>
                  </a:lnTo>
                  <a:lnTo>
                    <a:pt x="1317" y="35"/>
                  </a:lnTo>
                  <a:lnTo>
                    <a:pt x="1308" y="32"/>
                  </a:lnTo>
                  <a:lnTo>
                    <a:pt x="1299" y="29"/>
                  </a:lnTo>
                  <a:lnTo>
                    <a:pt x="1290" y="26"/>
                  </a:lnTo>
                  <a:lnTo>
                    <a:pt x="1280" y="25"/>
                  </a:lnTo>
                  <a:lnTo>
                    <a:pt x="1271" y="23"/>
                  </a:lnTo>
                  <a:lnTo>
                    <a:pt x="1262" y="21"/>
                  </a:lnTo>
                  <a:lnTo>
                    <a:pt x="1261" y="21"/>
                  </a:lnTo>
                  <a:lnTo>
                    <a:pt x="1260" y="21"/>
                  </a:lnTo>
                  <a:lnTo>
                    <a:pt x="1259" y="21"/>
                  </a:lnTo>
                  <a:lnTo>
                    <a:pt x="1258" y="21"/>
                  </a:lnTo>
                  <a:lnTo>
                    <a:pt x="1251" y="21"/>
                  </a:lnTo>
                  <a:lnTo>
                    <a:pt x="1243" y="23"/>
                  </a:lnTo>
                  <a:lnTo>
                    <a:pt x="1234" y="25"/>
                  </a:lnTo>
                  <a:lnTo>
                    <a:pt x="1225" y="27"/>
                  </a:lnTo>
                  <a:lnTo>
                    <a:pt x="1216" y="29"/>
                  </a:lnTo>
                  <a:lnTo>
                    <a:pt x="1206" y="32"/>
                  </a:lnTo>
                  <a:lnTo>
                    <a:pt x="1196" y="35"/>
                  </a:lnTo>
                  <a:lnTo>
                    <a:pt x="1185" y="39"/>
                  </a:lnTo>
                  <a:lnTo>
                    <a:pt x="1174" y="43"/>
                  </a:lnTo>
                  <a:lnTo>
                    <a:pt x="1163" y="46"/>
                  </a:lnTo>
                  <a:lnTo>
                    <a:pt x="1152" y="50"/>
                  </a:lnTo>
                  <a:lnTo>
                    <a:pt x="1141" y="52"/>
                  </a:lnTo>
                  <a:lnTo>
                    <a:pt x="1129" y="55"/>
                  </a:lnTo>
                  <a:lnTo>
                    <a:pt x="1118" y="57"/>
                  </a:lnTo>
                  <a:lnTo>
                    <a:pt x="1107" y="58"/>
                  </a:lnTo>
                  <a:lnTo>
                    <a:pt x="1096" y="59"/>
                  </a:lnTo>
                  <a:lnTo>
                    <a:pt x="1085" y="58"/>
                  </a:lnTo>
                  <a:lnTo>
                    <a:pt x="1075" y="58"/>
                  </a:lnTo>
                  <a:lnTo>
                    <a:pt x="1065" y="55"/>
                  </a:lnTo>
                  <a:lnTo>
                    <a:pt x="1056" y="53"/>
                  </a:lnTo>
                  <a:lnTo>
                    <a:pt x="1046" y="51"/>
                  </a:lnTo>
                  <a:lnTo>
                    <a:pt x="1036" y="47"/>
                  </a:lnTo>
                  <a:lnTo>
                    <a:pt x="1027" y="44"/>
                  </a:lnTo>
                  <a:lnTo>
                    <a:pt x="1018" y="40"/>
                  </a:lnTo>
                  <a:lnTo>
                    <a:pt x="1009" y="37"/>
                  </a:lnTo>
                  <a:lnTo>
                    <a:pt x="1000" y="34"/>
                  </a:lnTo>
                  <a:lnTo>
                    <a:pt x="991" y="30"/>
                  </a:lnTo>
                  <a:lnTo>
                    <a:pt x="982" y="28"/>
                  </a:lnTo>
                  <a:lnTo>
                    <a:pt x="973" y="26"/>
                  </a:lnTo>
                  <a:lnTo>
                    <a:pt x="964" y="23"/>
                  </a:lnTo>
                  <a:lnTo>
                    <a:pt x="954" y="23"/>
                  </a:lnTo>
                  <a:lnTo>
                    <a:pt x="944" y="22"/>
                  </a:lnTo>
                  <a:lnTo>
                    <a:pt x="937" y="23"/>
                  </a:lnTo>
                  <a:lnTo>
                    <a:pt x="929" y="24"/>
                  </a:lnTo>
                  <a:lnTo>
                    <a:pt x="920" y="26"/>
                  </a:lnTo>
                  <a:lnTo>
                    <a:pt x="911" y="28"/>
                  </a:lnTo>
                  <a:lnTo>
                    <a:pt x="901" y="31"/>
                  </a:lnTo>
                  <a:lnTo>
                    <a:pt x="891" y="34"/>
                  </a:lnTo>
                  <a:lnTo>
                    <a:pt x="881" y="37"/>
                  </a:lnTo>
                  <a:lnTo>
                    <a:pt x="870" y="41"/>
                  </a:lnTo>
                  <a:lnTo>
                    <a:pt x="859" y="44"/>
                  </a:lnTo>
                  <a:lnTo>
                    <a:pt x="848" y="48"/>
                  </a:lnTo>
                  <a:lnTo>
                    <a:pt x="837" y="51"/>
                  </a:lnTo>
                  <a:lnTo>
                    <a:pt x="825" y="54"/>
                  </a:lnTo>
                  <a:lnTo>
                    <a:pt x="814" y="56"/>
                  </a:lnTo>
                  <a:lnTo>
                    <a:pt x="803" y="58"/>
                  </a:lnTo>
                  <a:lnTo>
                    <a:pt x="791" y="59"/>
                  </a:lnTo>
                  <a:lnTo>
                    <a:pt x="780" y="59"/>
                  </a:lnTo>
                  <a:lnTo>
                    <a:pt x="770" y="59"/>
                  </a:lnTo>
                  <a:lnTo>
                    <a:pt x="759" y="58"/>
                  </a:lnTo>
                  <a:lnTo>
                    <a:pt x="750" y="56"/>
                  </a:lnTo>
                  <a:lnTo>
                    <a:pt x="740" y="54"/>
                  </a:lnTo>
                  <a:lnTo>
                    <a:pt x="730" y="51"/>
                  </a:lnTo>
                  <a:lnTo>
                    <a:pt x="721" y="48"/>
                  </a:lnTo>
                  <a:lnTo>
                    <a:pt x="713" y="45"/>
                  </a:lnTo>
                  <a:lnTo>
                    <a:pt x="703" y="41"/>
                  </a:lnTo>
                  <a:lnTo>
                    <a:pt x="695" y="38"/>
                  </a:lnTo>
                  <a:lnTo>
                    <a:pt x="686" y="34"/>
                  </a:lnTo>
                  <a:lnTo>
                    <a:pt x="676" y="31"/>
                  </a:lnTo>
                  <a:lnTo>
                    <a:pt x="668" y="29"/>
                  </a:lnTo>
                  <a:lnTo>
                    <a:pt x="658" y="26"/>
                  </a:lnTo>
                  <a:lnTo>
                    <a:pt x="650" y="25"/>
                  </a:lnTo>
                  <a:lnTo>
                    <a:pt x="639" y="24"/>
                  </a:lnTo>
                  <a:lnTo>
                    <a:pt x="630" y="23"/>
                  </a:lnTo>
                  <a:lnTo>
                    <a:pt x="623" y="24"/>
                  </a:lnTo>
                  <a:lnTo>
                    <a:pt x="615" y="25"/>
                  </a:lnTo>
                  <a:lnTo>
                    <a:pt x="606" y="27"/>
                  </a:lnTo>
                  <a:lnTo>
                    <a:pt x="597" y="29"/>
                  </a:lnTo>
                  <a:lnTo>
                    <a:pt x="588" y="32"/>
                  </a:lnTo>
                  <a:lnTo>
                    <a:pt x="577" y="35"/>
                  </a:lnTo>
                  <a:lnTo>
                    <a:pt x="567" y="38"/>
                  </a:lnTo>
                  <a:lnTo>
                    <a:pt x="556" y="42"/>
                  </a:lnTo>
                  <a:lnTo>
                    <a:pt x="545" y="45"/>
                  </a:lnTo>
                  <a:lnTo>
                    <a:pt x="534" y="48"/>
                  </a:lnTo>
                  <a:lnTo>
                    <a:pt x="523" y="52"/>
                  </a:lnTo>
                  <a:lnTo>
                    <a:pt x="511" y="55"/>
                  </a:lnTo>
                  <a:lnTo>
                    <a:pt x="500" y="57"/>
                  </a:lnTo>
                  <a:lnTo>
                    <a:pt x="489" y="59"/>
                  </a:lnTo>
                  <a:lnTo>
                    <a:pt x="477" y="60"/>
                  </a:lnTo>
                  <a:lnTo>
                    <a:pt x="467" y="60"/>
                  </a:lnTo>
                  <a:lnTo>
                    <a:pt x="456" y="60"/>
                  </a:lnTo>
                  <a:lnTo>
                    <a:pt x="445" y="59"/>
                  </a:lnTo>
                  <a:lnTo>
                    <a:pt x="436" y="58"/>
                  </a:lnTo>
                  <a:lnTo>
                    <a:pt x="426" y="56"/>
                  </a:lnTo>
                  <a:lnTo>
                    <a:pt x="417" y="53"/>
                  </a:lnTo>
                  <a:lnTo>
                    <a:pt x="407" y="50"/>
                  </a:lnTo>
                  <a:lnTo>
                    <a:pt x="399" y="47"/>
                  </a:lnTo>
                  <a:lnTo>
                    <a:pt x="390" y="44"/>
                  </a:lnTo>
                  <a:lnTo>
                    <a:pt x="381" y="41"/>
                  </a:lnTo>
                  <a:lnTo>
                    <a:pt x="372" y="37"/>
                  </a:lnTo>
                  <a:lnTo>
                    <a:pt x="363" y="34"/>
                  </a:lnTo>
                  <a:lnTo>
                    <a:pt x="354" y="31"/>
                  </a:lnTo>
                  <a:lnTo>
                    <a:pt x="345" y="29"/>
                  </a:lnTo>
                  <a:lnTo>
                    <a:pt x="336" y="27"/>
                  </a:lnTo>
                  <a:lnTo>
                    <a:pt x="326" y="25"/>
                  </a:lnTo>
                  <a:lnTo>
                    <a:pt x="317" y="24"/>
                  </a:lnTo>
                  <a:lnTo>
                    <a:pt x="316" y="24"/>
                  </a:lnTo>
                  <a:lnTo>
                    <a:pt x="316" y="23"/>
                  </a:lnTo>
                  <a:lnTo>
                    <a:pt x="314" y="23"/>
                  </a:lnTo>
                  <a:lnTo>
                    <a:pt x="313" y="23"/>
                  </a:lnTo>
                  <a:lnTo>
                    <a:pt x="306" y="23"/>
                  </a:lnTo>
                  <a:lnTo>
                    <a:pt x="298" y="25"/>
                  </a:lnTo>
                  <a:lnTo>
                    <a:pt x="289" y="26"/>
                  </a:lnTo>
                  <a:lnTo>
                    <a:pt x="281" y="29"/>
                  </a:lnTo>
                  <a:lnTo>
                    <a:pt x="271" y="31"/>
                  </a:lnTo>
                  <a:lnTo>
                    <a:pt x="261" y="34"/>
                  </a:lnTo>
                  <a:lnTo>
                    <a:pt x="251" y="38"/>
                  </a:lnTo>
                  <a:lnTo>
                    <a:pt x="240" y="41"/>
                  </a:lnTo>
                  <a:lnTo>
                    <a:pt x="229" y="45"/>
                  </a:lnTo>
                  <a:lnTo>
                    <a:pt x="218" y="48"/>
                  </a:lnTo>
                  <a:lnTo>
                    <a:pt x="207" y="52"/>
                  </a:lnTo>
                  <a:lnTo>
                    <a:pt x="196" y="55"/>
                  </a:lnTo>
                  <a:lnTo>
                    <a:pt x="184" y="57"/>
                  </a:lnTo>
                  <a:lnTo>
                    <a:pt x="174" y="59"/>
                  </a:lnTo>
                  <a:lnTo>
                    <a:pt x="162" y="60"/>
                  </a:lnTo>
                  <a:lnTo>
                    <a:pt x="151" y="61"/>
                  </a:lnTo>
                  <a:lnTo>
                    <a:pt x="140" y="60"/>
                  </a:lnTo>
                  <a:lnTo>
                    <a:pt x="130" y="59"/>
                  </a:lnTo>
                  <a:lnTo>
                    <a:pt x="120" y="58"/>
                  </a:lnTo>
                  <a:lnTo>
                    <a:pt x="111" y="55"/>
                  </a:lnTo>
                  <a:lnTo>
                    <a:pt x="101" y="52"/>
                  </a:lnTo>
                  <a:lnTo>
                    <a:pt x="92" y="50"/>
                  </a:lnTo>
                  <a:lnTo>
                    <a:pt x="82" y="46"/>
                  </a:lnTo>
                  <a:lnTo>
                    <a:pt x="74" y="42"/>
                  </a:lnTo>
                  <a:lnTo>
                    <a:pt x="64" y="39"/>
                  </a:lnTo>
                  <a:lnTo>
                    <a:pt x="56" y="35"/>
                  </a:lnTo>
                  <a:lnTo>
                    <a:pt x="46" y="32"/>
                  </a:lnTo>
                  <a:lnTo>
                    <a:pt x="38" y="30"/>
                  </a:lnTo>
                  <a:lnTo>
                    <a:pt x="28" y="27"/>
                  </a:lnTo>
                  <a:lnTo>
                    <a:pt x="19" y="26"/>
                  </a:lnTo>
                  <a:lnTo>
                    <a:pt x="10" y="25"/>
                  </a:lnTo>
                  <a:lnTo>
                    <a:pt x="0" y="25"/>
                  </a:lnTo>
                  <a:lnTo>
                    <a:pt x="1" y="5"/>
                  </a:lnTo>
                </a:path>
              </a:pathLst>
            </a:custGeom>
            <a:solidFill>
              <a:srgbClr val="aaff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Freeform 21"/>
            <p:cNvSpPr/>
            <p:nvPr/>
          </p:nvSpPr>
          <p:spPr>
            <a:xfrm>
              <a:off x="4560120" y="311040"/>
              <a:ext cx="3558600" cy="98640"/>
            </a:xfrm>
            <a:custGeom>
              <a:avLst/>
              <a:gdLst/>
              <a:ahLst/>
              <a:rect l="l" t="t" r="r" b="b"/>
              <a:pathLst>
                <a:path w="2447" h="62">
                  <a:moveTo>
                    <a:pt x="0" y="5"/>
                  </a:moveTo>
                  <a:lnTo>
                    <a:pt x="10" y="6"/>
                  </a:lnTo>
                  <a:lnTo>
                    <a:pt x="19" y="7"/>
                  </a:lnTo>
                  <a:lnTo>
                    <a:pt x="28" y="10"/>
                  </a:lnTo>
                  <a:lnTo>
                    <a:pt x="38" y="13"/>
                  </a:lnTo>
                  <a:lnTo>
                    <a:pt x="46" y="15"/>
                  </a:lnTo>
                  <a:lnTo>
                    <a:pt x="55" y="19"/>
                  </a:lnTo>
                  <a:lnTo>
                    <a:pt x="64" y="21"/>
                  </a:lnTo>
                  <a:lnTo>
                    <a:pt x="73" y="25"/>
                  </a:lnTo>
                  <a:lnTo>
                    <a:pt x="82" y="29"/>
                  </a:lnTo>
                  <a:lnTo>
                    <a:pt x="91" y="31"/>
                  </a:lnTo>
                  <a:lnTo>
                    <a:pt x="101" y="34"/>
                  </a:lnTo>
                  <a:lnTo>
                    <a:pt x="110" y="37"/>
                  </a:lnTo>
                  <a:lnTo>
                    <a:pt x="119" y="39"/>
                  </a:lnTo>
                  <a:lnTo>
                    <a:pt x="130" y="41"/>
                  </a:lnTo>
                  <a:lnTo>
                    <a:pt x="140" y="42"/>
                  </a:lnTo>
                  <a:lnTo>
                    <a:pt x="151" y="42"/>
                  </a:lnTo>
                  <a:lnTo>
                    <a:pt x="161" y="41"/>
                  </a:lnTo>
                  <a:lnTo>
                    <a:pt x="173" y="40"/>
                  </a:lnTo>
                  <a:lnTo>
                    <a:pt x="184" y="38"/>
                  </a:lnTo>
                  <a:lnTo>
                    <a:pt x="196" y="35"/>
                  </a:lnTo>
                  <a:lnTo>
                    <a:pt x="207" y="32"/>
                  </a:lnTo>
                  <a:lnTo>
                    <a:pt x="218" y="30"/>
                  </a:lnTo>
                  <a:lnTo>
                    <a:pt x="229" y="26"/>
                  </a:lnTo>
                  <a:lnTo>
                    <a:pt x="241" y="22"/>
                  </a:lnTo>
                  <a:lnTo>
                    <a:pt x="252" y="19"/>
                  </a:lnTo>
                  <a:lnTo>
                    <a:pt x="263" y="16"/>
                  </a:lnTo>
                  <a:lnTo>
                    <a:pt x="273" y="12"/>
                  </a:lnTo>
                  <a:lnTo>
                    <a:pt x="282" y="10"/>
                  </a:lnTo>
                  <a:lnTo>
                    <a:pt x="292" y="7"/>
                  </a:lnTo>
                  <a:lnTo>
                    <a:pt x="300" y="6"/>
                  </a:lnTo>
                  <a:lnTo>
                    <a:pt x="308" y="5"/>
                  </a:lnTo>
                  <a:lnTo>
                    <a:pt x="316" y="5"/>
                  </a:lnTo>
                  <a:lnTo>
                    <a:pt x="315" y="5"/>
                  </a:lnTo>
                  <a:lnTo>
                    <a:pt x="316" y="5"/>
                  </a:lnTo>
                  <a:lnTo>
                    <a:pt x="325" y="5"/>
                  </a:lnTo>
                  <a:lnTo>
                    <a:pt x="334" y="6"/>
                  </a:lnTo>
                  <a:lnTo>
                    <a:pt x="344" y="8"/>
                  </a:lnTo>
                  <a:lnTo>
                    <a:pt x="353" y="11"/>
                  </a:lnTo>
                  <a:lnTo>
                    <a:pt x="362" y="13"/>
                  </a:lnTo>
                  <a:lnTo>
                    <a:pt x="371" y="16"/>
                  </a:lnTo>
                  <a:lnTo>
                    <a:pt x="380" y="20"/>
                  </a:lnTo>
                  <a:lnTo>
                    <a:pt x="388" y="23"/>
                  </a:lnTo>
                  <a:lnTo>
                    <a:pt x="397" y="26"/>
                  </a:lnTo>
                  <a:lnTo>
                    <a:pt x="407" y="30"/>
                  </a:lnTo>
                  <a:lnTo>
                    <a:pt x="416" y="33"/>
                  </a:lnTo>
                  <a:lnTo>
                    <a:pt x="425" y="35"/>
                  </a:lnTo>
                  <a:lnTo>
                    <a:pt x="435" y="38"/>
                  </a:lnTo>
                  <a:lnTo>
                    <a:pt x="445" y="40"/>
                  </a:lnTo>
                  <a:lnTo>
                    <a:pt x="455" y="41"/>
                  </a:lnTo>
                  <a:lnTo>
                    <a:pt x="466" y="41"/>
                  </a:lnTo>
                  <a:lnTo>
                    <a:pt x="477" y="41"/>
                  </a:lnTo>
                  <a:lnTo>
                    <a:pt x="488" y="40"/>
                  </a:lnTo>
                  <a:lnTo>
                    <a:pt x="499" y="37"/>
                  </a:lnTo>
                  <a:lnTo>
                    <a:pt x="511" y="35"/>
                  </a:lnTo>
                  <a:lnTo>
                    <a:pt x="523" y="32"/>
                  </a:lnTo>
                  <a:lnTo>
                    <a:pt x="534" y="29"/>
                  </a:lnTo>
                  <a:lnTo>
                    <a:pt x="545" y="26"/>
                  </a:lnTo>
                  <a:lnTo>
                    <a:pt x="556" y="21"/>
                  </a:lnTo>
                  <a:lnTo>
                    <a:pt x="566" y="18"/>
                  </a:lnTo>
                  <a:lnTo>
                    <a:pt x="577" y="15"/>
                  </a:lnTo>
                  <a:lnTo>
                    <a:pt x="587" y="12"/>
                  </a:lnTo>
                  <a:lnTo>
                    <a:pt x="597" y="9"/>
                  </a:lnTo>
                  <a:lnTo>
                    <a:pt x="606" y="7"/>
                  </a:lnTo>
                  <a:lnTo>
                    <a:pt x="615" y="5"/>
                  </a:lnTo>
                  <a:lnTo>
                    <a:pt x="623" y="4"/>
                  </a:lnTo>
                  <a:lnTo>
                    <a:pt x="630" y="4"/>
                  </a:lnTo>
                  <a:lnTo>
                    <a:pt x="640" y="5"/>
                  </a:lnTo>
                  <a:lnTo>
                    <a:pt x="649" y="5"/>
                  </a:lnTo>
                  <a:lnTo>
                    <a:pt x="658" y="7"/>
                  </a:lnTo>
                  <a:lnTo>
                    <a:pt x="668" y="10"/>
                  </a:lnTo>
                  <a:lnTo>
                    <a:pt x="677" y="12"/>
                  </a:lnTo>
                  <a:lnTo>
                    <a:pt x="685" y="16"/>
                  </a:lnTo>
                  <a:lnTo>
                    <a:pt x="695" y="19"/>
                  </a:lnTo>
                  <a:lnTo>
                    <a:pt x="703" y="22"/>
                  </a:lnTo>
                  <a:lnTo>
                    <a:pt x="712" y="26"/>
                  </a:lnTo>
                  <a:lnTo>
                    <a:pt x="722" y="29"/>
                  </a:lnTo>
                  <a:lnTo>
                    <a:pt x="731" y="32"/>
                  </a:lnTo>
                  <a:lnTo>
                    <a:pt x="740" y="35"/>
                  </a:lnTo>
                  <a:lnTo>
                    <a:pt x="750" y="37"/>
                  </a:lnTo>
                  <a:lnTo>
                    <a:pt x="760" y="40"/>
                  </a:lnTo>
                  <a:lnTo>
                    <a:pt x="770" y="40"/>
                  </a:lnTo>
                  <a:lnTo>
                    <a:pt x="781" y="41"/>
                  </a:lnTo>
                  <a:lnTo>
                    <a:pt x="792" y="40"/>
                  </a:lnTo>
                  <a:lnTo>
                    <a:pt x="803" y="39"/>
                  </a:lnTo>
                  <a:lnTo>
                    <a:pt x="814" y="37"/>
                  </a:lnTo>
                  <a:lnTo>
                    <a:pt x="826" y="34"/>
                  </a:lnTo>
                  <a:lnTo>
                    <a:pt x="837" y="31"/>
                  </a:lnTo>
                  <a:lnTo>
                    <a:pt x="848" y="28"/>
                  </a:lnTo>
                  <a:lnTo>
                    <a:pt x="860" y="25"/>
                  </a:lnTo>
                  <a:lnTo>
                    <a:pt x="871" y="21"/>
                  </a:lnTo>
                  <a:lnTo>
                    <a:pt x="881" y="17"/>
                  </a:lnTo>
                  <a:lnTo>
                    <a:pt x="892" y="14"/>
                  </a:lnTo>
                  <a:lnTo>
                    <a:pt x="901" y="11"/>
                  </a:lnTo>
                  <a:lnTo>
                    <a:pt x="911" y="8"/>
                  </a:lnTo>
                  <a:lnTo>
                    <a:pt x="921" y="6"/>
                  </a:lnTo>
                  <a:lnTo>
                    <a:pt x="929" y="4"/>
                  </a:lnTo>
                  <a:lnTo>
                    <a:pt x="937" y="3"/>
                  </a:lnTo>
                  <a:lnTo>
                    <a:pt x="944" y="3"/>
                  </a:lnTo>
                  <a:lnTo>
                    <a:pt x="954" y="4"/>
                  </a:lnTo>
                  <a:lnTo>
                    <a:pt x="964" y="5"/>
                  </a:lnTo>
                  <a:lnTo>
                    <a:pt x="973" y="7"/>
                  </a:lnTo>
                  <a:lnTo>
                    <a:pt x="982" y="11"/>
                  </a:lnTo>
                  <a:lnTo>
                    <a:pt x="991" y="13"/>
                  </a:lnTo>
                  <a:lnTo>
                    <a:pt x="1000" y="16"/>
                  </a:lnTo>
                  <a:lnTo>
                    <a:pt x="1009" y="19"/>
                  </a:lnTo>
                  <a:lnTo>
                    <a:pt x="1018" y="23"/>
                  </a:lnTo>
                  <a:lnTo>
                    <a:pt x="1027" y="26"/>
                  </a:lnTo>
                  <a:lnTo>
                    <a:pt x="1036" y="29"/>
                  </a:lnTo>
                  <a:lnTo>
                    <a:pt x="1046" y="32"/>
                  </a:lnTo>
                  <a:lnTo>
                    <a:pt x="1055" y="34"/>
                  </a:lnTo>
                  <a:lnTo>
                    <a:pt x="1064" y="37"/>
                  </a:lnTo>
                  <a:lnTo>
                    <a:pt x="1075" y="38"/>
                  </a:lnTo>
                  <a:lnTo>
                    <a:pt x="1085" y="40"/>
                  </a:lnTo>
                  <a:lnTo>
                    <a:pt x="1095" y="40"/>
                  </a:lnTo>
                  <a:lnTo>
                    <a:pt x="1107" y="39"/>
                  </a:lnTo>
                  <a:lnTo>
                    <a:pt x="1118" y="38"/>
                  </a:lnTo>
                  <a:lnTo>
                    <a:pt x="1129" y="35"/>
                  </a:lnTo>
                  <a:lnTo>
                    <a:pt x="1140" y="33"/>
                  </a:lnTo>
                  <a:lnTo>
                    <a:pt x="1152" y="30"/>
                  </a:lnTo>
                  <a:lnTo>
                    <a:pt x="1164" y="27"/>
                  </a:lnTo>
                  <a:lnTo>
                    <a:pt x="1174" y="24"/>
                  </a:lnTo>
                  <a:lnTo>
                    <a:pt x="1186" y="20"/>
                  </a:lnTo>
                  <a:lnTo>
                    <a:pt x="1197" y="16"/>
                  </a:lnTo>
                  <a:lnTo>
                    <a:pt x="1208" y="13"/>
                  </a:lnTo>
                  <a:lnTo>
                    <a:pt x="1218" y="10"/>
                  </a:lnTo>
                  <a:lnTo>
                    <a:pt x="1227" y="7"/>
                  </a:lnTo>
                  <a:lnTo>
                    <a:pt x="1237" y="5"/>
                  </a:lnTo>
                  <a:lnTo>
                    <a:pt x="1245" y="3"/>
                  </a:lnTo>
                  <a:lnTo>
                    <a:pt x="1253" y="2"/>
                  </a:lnTo>
                  <a:lnTo>
                    <a:pt x="1261" y="2"/>
                  </a:lnTo>
                  <a:lnTo>
                    <a:pt x="1260" y="2"/>
                  </a:lnTo>
                  <a:lnTo>
                    <a:pt x="1261" y="2"/>
                  </a:lnTo>
                  <a:lnTo>
                    <a:pt x="1270" y="3"/>
                  </a:lnTo>
                  <a:lnTo>
                    <a:pt x="1279" y="4"/>
                  </a:lnTo>
                  <a:lnTo>
                    <a:pt x="1289" y="6"/>
                  </a:lnTo>
                  <a:lnTo>
                    <a:pt x="1298" y="8"/>
                  </a:lnTo>
                  <a:lnTo>
                    <a:pt x="1307" y="11"/>
                  </a:lnTo>
                  <a:lnTo>
                    <a:pt x="1315" y="14"/>
                  </a:lnTo>
                  <a:lnTo>
                    <a:pt x="1325" y="17"/>
                  </a:lnTo>
                  <a:lnTo>
                    <a:pt x="1334" y="21"/>
                  </a:lnTo>
                  <a:lnTo>
                    <a:pt x="1342" y="25"/>
                  </a:lnTo>
                  <a:lnTo>
                    <a:pt x="1352" y="28"/>
                  </a:lnTo>
                  <a:lnTo>
                    <a:pt x="1361" y="31"/>
                  </a:lnTo>
                  <a:lnTo>
                    <a:pt x="1371" y="34"/>
                  </a:lnTo>
                  <a:lnTo>
                    <a:pt x="1380" y="36"/>
                  </a:lnTo>
                  <a:lnTo>
                    <a:pt x="1390" y="38"/>
                  </a:lnTo>
                  <a:lnTo>
                    <a:pt x="1400" y="39"/>
                  </a:lnTo>
                  <a:lnTo>
                    <a:pt x="1411" y="40"/>
                  </a:lnTo>
                  <a:lnTo>
                    <a:pt x="1422" y="39"/>
                  </a:lnTo>
                  <a:lnTo>
                    <a:pt x="1434" y="38"/>
                  </a:lnTo>
                  <a:lnTo>
                    <a:pt x="1444" y="35"/>
                  </a:lnTo>
                  <a:lnTo>
                    <a:pt x="1456" y="33"/>
                  </a:lnTo>
                  <a:lnTo>
                    <a:pt x="1468" y="30"/>
                  </a:lnTo>
                  <a:lnTo>
                    <a:pt x="1479" y="27"/>
                  </a:lnTo>
                  <a:lnTo>
                    <a:pt x="1490" y="23"/>
                  </a:lnTo>
                  <a:lnTo>
                    <a:pt x="1501" y="20"/>
                  </a:lnTo>
                  <a:lnTo>
                    <a:pt x="1512" y="16"/>
                  </a:lnTo>
                  <a:lnTo>
                    <a:pt x="1522" y="13"/>
                  </a:lnTo>
                  <a:lnTo>
                    <a:pt x="1533" y="10"/>
                  </a:lnTo>
                  <a:lnTo>
                    <a:pt x="1542" y="7"/>
                  </a:lnTo>
                  <a:lnTo>
                    <a:pt x="1551" y="5"/>
                  </a:lnTo>
                  <a:lnTo>
                    <a:pt x="1560" y="3"/>
                  </a:lnTo>
                  <a:lnTo>
                    <a:pt x="1568" y="2"/>
                  </a:lnTo>
                  <a:lnTo>
                    <a:pt x="1575" y="2"/>
                  </a:lnTo>
                  <a:lnTo>
                    <a:pt x="1585" y="3"/>
                  </a:lnTo>
                  <a:lnTo>
                    <a:pt x="1594" y="4"/>
                  </a:lnTo>
                  <a:lnTo>
                    <a:pt x="1604" y="6"/>
                  </a:lnTo>
                  <a:lnTo>
                    <a:pt x="1613" y="9"/>
                  </a:lnTo>
                  <a:lnTo>
                    <a:pt x="1622" y="12"/>
                  </a:lnTo>
                  <a:lnTo>
                    <a:pt x="1630" y="15"/>
                  </a:lnTo>
                  <a:lnTo>
                    <a:pt x="1640" y="18"/>
                  </a:lnTo>
                  <a:lnTo>
                    <a:pt x="1648" y="21"/>
                  </a:lnTo>
                  <a:lnTo>
                    <a:pt x="1657" y="25"/>
                  </a:lnTo>
                  <a:lnTo>
                    <a:pt x="1666" y="28"/>
                  </a:lnTo>
                  <a:lnTo>
                    <a:pt x="1676" y="31"/>
                  </a:lnTo>
                  <a:lnTo>
                    <a:pt x="1685" y="33"/>
                  </a:lnTo>
                  <a:lnTo>
                    <a:pt x="1695" y="35"/>
                  </a:lnTo>
                  <a:lnTo>
                    <a:pt x="1705" y="37"/>
                  </a:lnTo>
                  <a:lnTo>
                    <a:pt x="1715" y="38"/>
                  </a:lnTo>
                  <a:lnTo>
                    <a:pt x="1726" y="38"/>
                  </a:lnTo>
                  <a:lnTo>
                    <a:pt x="1737" y="38"/>
                  </a:lnTo>
                  <a:lnTo>
                    <a:pt x="1748" y="37"/>
                  </a:lnTo>
                  <a:lnTo>
                    <a:pt x="1759" y="34"/>
                  </a:lnTo>
                  <a:lnTo>
                    <a:pt x="1771" y="32"/>
                  </a:lnTo>
                  <a:lnTo>
                    <a:pt x="1782" y="29"/>
                  </a:lnTo>
                  <a:lnTo>
                    <a:pt x="1793" y="26"/>
                  </a:lnTo>
                  <a:lnTo>
                    <a:pt x="1804" y="23"/>
                  </a:lnTo>
                  <a:lnTo>
                    <a:pt x="1815" y="19"/>
                  </a:lnTo>
                  <a:lnTo>
                    <a:pt x="1826" y="15"/>
                  </a:lnTo>
                  <a:lnTo>
                    <a:pt x="1836" y="12"/>
                  </a:lnTo>
                  <a:lnTo>
                    <a:pt x="1846" y="9"/>
                  </a:lnTo>
                  <a:lnTo>
                    <a:pt x="1855" y="6"/>
                  </a:lnTo>
                  <a:lnTo>
                    <a:pt x="1864" y="3"/>
                  </a:lnTo>
                  <a:lnTo>
                    <a:pt x="1873" y="2"/>
                  </a:lnTo>
                  <a:lnTo>
                    <a:pt x="1881" y="1"/>
                  </a:lnTo>
                  <a:lnTo>
                    <a:pt x="1888" y="1"/>
                  </a:lnTo>
                  <a:lnTo>
                    <a:pt x="1897" y="2"/>
                  </a:lnTo>
                  <a:lnTo>
                    <a:pt x="1907" y="3"/>
                  </a:lnTo>
                  <a:lnTo>
                    <a:pt x="1916" y="5"/>
                  </a:lnTo>
                  <a:lnTo>
                    <a:pt x="1926" y="8"/>
                  </a:lnTo>
                  <a:lnTo>
                    <a:pt x="1934" y="11"/>
                  </a:lnTo>
                  <a:lnTo>
                    <a:pt x="1943" y="14"/>
                  </a:lnTo>
                  <a:lnTo>
                    <a:pt x="1952" y="17"/>
                  </a:lnTo>
                  <a:lnTo>
                    <a:pt x="1961" y="20"/>
                  </a:lnTo>
                  <a:lnTo>
                    <a:pt x="1970" y="24"/>
                  </a:lnTo>
                  <a:lnTo>
                    <a:pt x="1979" y="27"/>
                  </a:lnTo>
                  <a:lnTo>
                    <a:pt x="1989" y="30"/>
                  </a:lnTo>
                  <a:lnTo>
                    <a:pt x="1998" y="32"/>
                  </a:lnTo>
                  <a:lnTo>
                    <a:pt x="2007" y="34"/>
                  </a:lnTo>
                  <a:lnTo>
                    <a:pt x="2018" y="36"/>
                  </a:lnTo>
                  <a:lnTo>
                    <a:pt x="2027" y="37"/>
                  </a:lnTo>
                  <a:lnTo>
                    <a:pt x="2039" y="37"/>
                  </a:lnTo>
                  <a:lnTo>
                    <a:pt x="2049" y="37"/>
                  </a:lnTo>
                  <a:lnTo>
                    <a:pt x="2060" y="35"/>
                  </a:lnTo>
                  <a:lnTo>
                    <a:pt x="2071" y="34"/>
                  </a:lnTo>
                  <a:lnTo>
                    <a:pt x="2082" y="31"/>
                  </a:lnTo>
                  <a:lnTo>
                    <a:pt x="2093" y="29"/>
                  </a:lnTo>
                  <a:lnTo>
                    <a:pt x="2104" y="25"/>
                  </a:lnTo>
                  <a:lnTo>
                    <a:pt x="2114" y="22"/>
                  </a:lnTo>
                  <a:lnTo>
                    <a:pt x="2125" y="19"/>
                  </a:lnTo>
                  <a:lnTo>
                    <a:pt x="2135" y="15"/>
                  </a:lnTo>
                  <a:lnTo>
                    <a:pt x="2146" y="12"/>
                  </a:lnTo>
                  <a:lnTo>
                    <a:pt x="2156" y="9"/>
                  </a:lnTo>
                  <a:lnTo>
                    <a:pt x="2165" y="6"/>
                  </a:lnTo>
                  <a:lnTo>
                    <a:pt x="2174" y="3"/>
                  </a:lnTo>
                  <a:lnTo>
                    <a:pt x="2183" y="2"/>
                  </a:lnTo>
                  <a:lnTo>
                    <a:pt x="2190" y="1"/>
                  </a:lnTo>
                  <a:lnTo>
                    <a:pt x="2197" y="0"/>
                  </a:lnTo>
                  <a:lnTo>
                    <a:pt x="2207" y="1"/>
                  </a:lnTo>
                  <a:lnTo>
                    <a:pt x="2217" y="1"/>
                  </a:lnTo>
                  <a:lnTo>
                    <a:pt x="2226" y="3"/>
                  </a:lnTo>
                  <a:lnTo>
                    <a:pt x="2235" y="6"/>
                  </a:lnTo>
                  <a:lnTo>
                    <a:pt x="2244" y="8"/>
                  </a:lnTo>
                  <a:lnTo>
                    <a:pt x="2253" y="12"/>
                  </a:lnTo>
                  <a:lnTo>
                    <a:pt x="2262" y="15"/>
                  </a:lnTo>
                  <a:lnTo>
                    <a:pt x="2271" y="18"/>
                  </a:lnTo>
                  <a:lnTo>
                    <a:pt x="2279" y="21"/>
                  </a:lnTo>
                  <a:lnTo>
                    <a:pt x="2289" y="25"/>
                  </a:lnTo>
                  <a:lnTo>
                    <a:pt x="2298" y="29"/>
                  </a:lnTo>
                  <a:lnTo>
                    <a:pt x="2308" y="31"/>
                  </a:lnTo>
                  <a:lnTo>
                    <a:pt x="2317" y="33"/>
                  </a:lnTo>
                  <a:lnTo>
                    <a:pt x="2327" y="35"/>
                  </a:lnTo>
                  <a:lnTo>
                    <a:pt x="2337" y="36"/>
                  </a:lnTo>
                  <a:lnTo>
                    <a:pt x="2348" y="37"/>
                  </a:lnTo>
                  <a:lnTo>
                    <a:pt x="2361" y="36"/>
                  </a:lnTo>
                  <a:lnTo>
                    <a:pt x="2373" y="35"/>
                  </a:lnTo>
                  <a:lnTo>
                    <a:pt x="2385" y="32"/>
                  </a:lnTo>
                  <a:lnTo>
                    <a:pt x="2397" y="30"/>
                  </a:lnTo>
                  <a:lnTo>
                    <a:pt x="2410" y="26"/>
                  </a:lnTo>
                  <a:lnTo>
                    <a:pt x="2422" y="23"/>
                  </a:lnTo>
                  <a:lnTo>
                    <a:pt x="2434" y="19"/>
                  </a:lnTo>
                  <a:lnTo>
                    <a:pt x="2446" y="15"/>
                  </a:lnTo>
                  <a:lnTo>
                    <a:pt x="2446" y="20"/>
                  </a:lnTo>
                  <a:lnTo>
                    <a:pt x="2446" y="26"/>
                  </a:lnTo>
                  <a:lnTo>
                    <a:pt x="2446" y="30"/>
                  </a:lnTo>
                  <a:lnTo>
                    <a:pt x="2446" y="34"/>
                  </a:lnTo>
                  <a:lnTo>
                    <a:pt x="2434" y="38"/>
                  </a:lnTo>
                  <a:lnTo>
                    <a:pt x="2422" y="42"/>
                  </a:lnTo>
                  <a:lnTo>
                    <a:pt x="2410" y="45"/>
                  </a:lnTo>
                  <a:lnTo>
                    <a:pt x="2397" y="48"/>
                  </a:lnTo>
                  <a:lnTo>
                    <a:pt x="2385" y="51"/>
                  </a:lnTo>
                  <a:lnTo>
                    <a:pt x="2373" y="54"/>
                  </a:lnTo>
                  <a:lnTo>
                    <a:pt x="2361" y="55"/>
                  </a:lnTo>
                  <a:lnTo>
                    <a:pt x="2348" y="56"/>
                  </a:lnTo>
                  <a:lnTo>
                    <a:pt x="2337" y="55"/>
                  </a:lnTo>
                  <a:lnTo>
                    <a:pt x="2327" y="54"/>
                  </a:lnTo>
                  <a:lnTo>
                    <a:pt x="2317" y="52"/>
                  </a:lnTo>
                  <a:lnTo>
                    <a:pt x="2308" y="50"/>
                  </a:lnTo>
                  <a:lnTo>
                    <a:pt x="2298" y="47"/>
                  </a:lnTo>
                  <a:lnTo>
                    <a:pt x="2289" y="44"/>
                  </a:lnTo>
                  <a:lnTo>
                    <a:pt x="2280" y="41"/>
                  </a:lnTo>
                  <a:lnTo>
                    <a:pt x="2271" y="37"/>
                  </a:lnTo>
                  <a:lnTo>
                    <a:pt x="2262" y="34"/>
                  </a:lnTo>
                  <a:lnTo>
                    <a:pt x="2254" y="30"/>
                  </a:lnTo>
                  <a:lnTo>
                    <a:pt x="2244" y="27"/>
                  </a:lnTo>
                  <a:lnTo>
                    <a:pt x="2235" y="25"/>
                  </a:lnTo>
                  <a:lnTo>
                    <a:pt x="2226" y="22"/>
                  </a:lnTo>
                  <a:lnTo>
                    <a:pt x="2217" y="20"/>
                  </a:lnTo>
                  <a:lnTo>
                    <a:pt x="2207" y="19"/>
                  </a:lnTo>
                  <a:lnTo>
                    <a:pt x="2197" y="19"/>
                  </a:lnTo>
                  <a:lnTo>
                    <a:pt x="2190" y="20"/>
                  </a:lnTo>
                  <a:lnTo>
                    <a:pt x="2183" y="21"/>
                  </a:lnTo>
                  <a:lnTo>
                    <a:pt x="2174" y="23"/>
                  </a:lnTo>
                  <a:lnTo>
                    <a:pt x="2165" y="25"/>
                  </a:lnTo>
                  <a:lnTo>
                    <a:pt x="2156" y="28"/>
                  </a:lnTo>
                  <a:lnTo>
                    <a:pt x="2146" y="31"/>
                  </a:lnTo>
                  <a:lnTo>
                    <a:pt x="2135" y="34"/>
                  </a:lnTo>
                  <a:lnTo>
                    <a:pt x="2125" y="38"/>
                  </a:lnTo>
                  <a:lnTo>
                    <a:pt x="2114" y="41"/>
                  </a:lnTo>
                  <a:lnTo>
                    <a:pt x="2104" y="44"/>
                  </a:lnTo>
                  <a:lnTo>
                    <a:pt x="2093" y="48"/>
                  </a:lnTo>
                  <a:lnTo>
                    <a:pt x="2082" y="50"/>
                  </a:lnTo>
                  <a:lnTo>
                    <a:pt x="2071" y="52"/>
                  </a:lnTo>
                  <a:lnTo>
                    <a:pt x="2060" y="54"/>
                  </a:lnTo>
                  <a:lnTo>
                    <a:pt x="2050" y="55"/>
                  </a:lnTo>
                  <a:lnTo>
                    <a:pt x="2039" y="56"/>
                  </a:lnTo>
                  <a:lnTo>
                    <a:pt x="2028" y="56"/>
                  </a:lnTo>
                  <a:lnTo>
                    <a:pt x="2018" y="55"/>
                  </a:lnTo>
                  <a:lnTo>
                    <a:pt x="2008" y="53"/>
                  </a:lnTo>
                  <a:lnTo>
                    <a:pt x="1999" y="51"/>
                  </a:lnTo>
                  <a:lnTo>
                    <a:pt x="1989" y="48"/>
                  </a:lnTo>
                  <a:lnTo>
                    <a:pt x="1980" y="45"/>
                  </a:lnTo>
                  <a:lnTo>
                    <a:pt x="1970" y="42"/>
                  </a:lnTo>
                  <a:lnTo>
                    <a:pt x="1962" y="39"/>
                  </a:lnTo>
                  <a:lnTo>
                    <a:pt x="1952" y="35"/>
                  </a:lnTo>
                  <a:lnTo>
                    <a:pt x="1944" y="32"/>
                  </a:lnTo>
                  <a:lnTo>
                    <a:pt x="1935" y="29"/>
                  </a:lnTo>
                  <a:lnTo>
                    <a:pt x="1926" y="27"/>
                  </a:lnTo>
                  <a:lnTo>
                    <a:pt x="1917" y="24"/>
                  </a:lnTo>
                  <a:lnTo>
                    <a:pt x="1907" y="22"/>
                  </a:lnTo>
                  <a:lnTo>
                    <a:pt x="1897" y="20"/>
                  </a:lnTo>
                  <a:lnTo>
                    <a:pt x="1888" y="20"/>
                  </a:lnTo>
                  <a:lnTo>
                    <a:pt x="1881" y="20"/>
                  </a:lnTo>
                  <a:lnTo>
                    <a:pt x="1873" y="21"/>
                  </a:lnTo>
                  <a:lnTo>
                    <a:pt x="1864" y="23"/>
                  </a:lnTo>
                  <a:lnTo>
                    <a:pt x="1855" y="25"/>
                  </a:lnTo>
                  <a:lnTo>
                    <a:pt x="1846" y="28"/>
                  </a:lnTo>
                  <a:lnTo>
                    <a:pt x="1836" y="31"/>
                  </a:lnTo>
                  <a:lnTo>
                    <a:pt x="1826" y="34"/>
                  </a:lnTo>
                  <a:lnTo>
                    <a:pt x="1815" y="38"/>
                  </a:lnTo>
                  <a:lnTo>
                    <a:pt x="1804" y="41"/>
                  </a:lnTo>
                  <a:lnTo>
                    <a:pt x="1793" y="45"/>
                  </a:lnTo>
                  <a:lnTo>
                    <a:pt x="1782" y="48"/>
                  </a:lnTo>
                  <a:lnTo>
                    <a:pt x="1771" y="51"/>
                  </a:lnTo>
                  <a:lnTo>
                    <a:pt x="1760" y="54"/>
                  </a:lnTo>
                  <a:lnTo>
                    <a:pt x="1748" y="56"/>
                  </a:lnTo>
                  <a:lnTo>
                    <a:pt x="1737" y="57"/>
                  </a:lnTo>
                  <a:lnTo>
                    <a:pt x="1727" y="58"/>
                  </a:lnTo>
                  <a:lnTo>
                    <a:pt x="1716" y="57"/>
                  </a:lnTo>
                  <a:lnTo>
                    <a:pt x="1705" y="56"/>
                  </a:lnTo>
                  <a:lnTo>
                    <a:pt x="1695" y="54"/>
                  </a:lnTo>
                  <a:lnTo>
                    <a:pt x="1686" y="52"/>
                  </a:lnTo>
                  <a:lnTo>
                    <a:pt x="1677" y="50"/>
                  </a:lnTo>
                  <a:lnTo>
                    <a:pt x="1667" y="46"/>
                  </a:lnTo>
                  <a:lnTo>
                    <a:pt x="1658" y="42"/>
                  </a:lnTo>
                  <a:lnTo>
                    <a:pt x="1648" y="39"/>
                  </a:lnTo>
                  <a:lnTo>
                    <a:pt x="1640" y="36"/>
                  </a:lnTo>
                  <a:lnTo>
                    <a:pt x="1630" y="32"/>
                  </a:lnTo>
                  <a:lnTo>
                    <a:pt x="1622" y="29"/>
                  </a:lnTo>
                  <a:lnTo>
                    <a:pt x="1612" y="27"/>
                  </a:lnTo>
                  <a:lnTo>
                    <a:pt x="1604" y="25"/>
                  </a:lnTo>
                  <a:lnTo>
                    <a:pt x="1594" y="22"/>
                  </a:lnTo>
                  <a:lnTo>
                    <a:pt x="1585" y="21"/>
                  </a:lnTo>
                  <a:lnTo>
                    <a:pt x="1575" y="21"/>
                  </a:lnTo>
                  <a:lnTo>
                    <a:pt x="1567" y="21"/>
                  </a:lnTo>
                  <a:lnTo>
                    <a:pt x="1559" y="23"/>
                  </a:lnTo>
                  <a:lnTo>
                    <a:pt x="1551" y="25"/>
                  </a:lnTo>
                  <a:lnTo>
                    <a:pt x="1542" y="27"/>
                  </a:lnTo>
                  <a:lnTo>
                    <a:pt x="1532" y="30"/>
                  </a:lnTo>
                  <a:lnTo>
                    <a:pt x="1522" y="32"/>
                  </a:lnTo>
                  <a:lnTo>
                    <a:pt x="1512" y="36"/>
                  </a:lnTo>
                  <a:lnTo>
                    <a:pt x="1501" y="40"/>
                  </a:lnTo>
                  <a:lnTo>
                    <a:pt x="1490" y="43"/>
                  </a:lnTo>
                  <a:lnTo>
                    <a:pt x="1479" y="46"/>
                  </a:lnTo>
                  <a:lnTo>
                    <a:pt x="1468" y="50"/>
                  </a:lnTo>
                  <a:lnTo>
                    <a:pt x="1456" y="52"/>
                  </a:lnTo>
                  <a:lnTo>
                    <a:pt x="1445" y="55"/>
                  </a:lnTo>
                  <a:lnTo>
                    <a:pt x="1434" y="56"/>
                  </a:lnTo>
                  <a:lnTo>
                    <a:pt x="1422" y="58"/>
                  </a:lnTo>
                  <a:lnTo>
                    <a:pt x="1411" y="58"/>
                  </a:lnTo>
                  <a:lnTo>
                    <a:pt x="1400" y="58"/>
                  </a:lnTo>
                  <a:lnTo>
                    <a:pt x="1390" y="57"/>
                  </a:lnTo>
                  <a:lnTo>
                    <a:pt x="1381" y="55"/>
                  </a:lnTo>
                  <a:lnTo>
                    <a:pt x="1371" y="54"/>
                  </a:lnTo>
                  <a:lnTo>
                    <a:pt x="1362" y="51"/>
                  </a:lnTo>
                  <a:lnTo>
                    <a:pt x="1352" y="48"/>
                  </a:lnTo>
                  <a:lnTo>
                    <a:pt x="1344" y="45"/>
                  </a:lnTo>
                  <a:lnTo>
                    <a:pt x="1334" y="41"/>
                  </a:lnTo>
                  <a:lnTo>
                    <a:pt x="1326" y="38"/>
                  </a:lnTo>
                  <a:lnTo>
                    <a:pt x="1317" y="35"/>
                  </a:lnTo>
                  <a:lnTo>
                    <a:pt x="1308" y="32"/>
                  </a:lnTo>
                  <a:lnTo>
                    <a:pt x="1299" y="29"/>
                  </a:lnTo>
                  <a:lnTo>
                    <a:pt x="1290" y="26"/>
                  </a:lnTo>
                  <a:lnTo>
                    <a:pt x="1281" y="25"/>
                  </a:lnTo>
                  <a:lnTo>
                    <a:pt x="1271" y="23"/>
                  </a:lnTo>
                  <a:lnTo>
                    <a:pt x="1262" y="21"/>
                  </a:lnTo>
                  <a:lnTo>
                    <a:pt x="1261" y="21"/>
                  </a:lnTo>
                  <a:lnTo>
                    <a:pt x="1259" y="21"/>
                  </a:lnTo>
                  <a:lnTo>
                    <a:pt x="1258" y="21"/>
                  </a:lnTo>
                  <a:lnTo>
                    <a:pt x="1251" y="21"/>
                  </a:lnTo>
                  <a:lnTo>
                    <a:pt x="1243" y="23"/>
                  </a:lnTo>
                  <a:lnTo>
                    <a:pt x="1235" y="25"/>
                  </a:lnTo>
                  <a:lnTo>
                    <a:pt x="1226" y="27"/>
                  </a:lnTo>
                  <a:lnTo>
                    <a:pt x="1216" y="29"/>
                  </a:lnTo>
                  <a:lnTo>
                    <a:pt x="1206" y="32"/>
                  </a:lnTo>
                  <a:lnTo>
                    <a:pt x="1195" y="35"/>
                  </a:lnTo>
                  <a:lnTo>
                    <a:pt x="1185" y="39"/>
                  </a:lnTo>
                  <a:lnTo>
                    <a:pt x="1174" y="43"/>
                  </a:lnTo>
                  <a:lnTo>
                    <a:pt x="1163" y="46"/>
                  </a:lnTo>
                  <a:lnTo>
                    <a:pt x="1151" y="50"/>
                  </a:lnTo>
                  <a:lnTo>
                    <a:pt x="1140" y="52"/>
                  </a:lnTo>
                  <a:lnTo>
                    <a:pt x="1129" y="55"/>
                  </a:lnTo>
                  <a:lnTo>
                    <a:pt x="1118" y="57"/>
                  </a:lnTo>
                  <a:lnTo>
                    <a:pt x="1107" y="58"/>
                  </a:lnTo>
                  <a:lnTo>
                    <a:pt x="1095" y="59"/>
                  </a:lnTo>
                  <a:lnTo>
                    <a:pt x="1085" y="58"/>
                  </a:lnTo>
                  <a:lnTo>
                    <a:pt x="1075" y="58"/>
                  </a:lnTo>
                  <a:lnTo>
                    <a:pt x="1064" y="55"/>
                  </a:lnTo>
                  <a:lnTo>
                    <a:pt x="1055" y="53"/>
                  </a:lnTo>
                  <a:lnTo>
                    <a:pt x="1046" y="51"/>
                  </a:lnTo>
                  <a:lnTo>
                    <a:pt x="1036" y="47"/>
                  </a:lnTo>
                  <a:lnTo>
                    <a:pt x="1027" y="44"/>
                  </a:lnTo>
                  <a:lnTo>
                    <a:pt x="1018" y="40"/>
                  </a:lnTo>
                  <a:lnTo>
                    <a:pt x="1009" y="37"/>
                  </a:lnTo>
                  <a:lnTo>
                    <a:pt x="1000" y="34"/>
                  </a:lnTo>
                  <a:lnTo>
                    <a:pt x="991" y="30"/>
                  </a:lnTo>
                  <a:lnTo>
                    <a:pt x="982" y="28"/>
                  </a:lnTo>
                  <a:lnTo>
                    <a:pt x="973" y="26"/>
                  </a:lnTo>
                  <a:lnTo>
                    <a:pt x="964" y="23"/>
                  </a:lnTo>
                  <a:lnTo>
                    <a:pt x="954" y="23"/>
                  </a:lnTo>
                  <a:lnTo>
                    <a:pt x="944" y="22"/>
                  </a:lnTo>
                  <a:lnTo>
                    <a:pt x="937" y="23"/>
                  </a:lnTo>
                  <a:lnTo>
                    <a:pt x="929" y="24"/>
                  </a:lnTo>
                  <a:lnTo>
                    <a:pt x="921" y="26"/>
                  </a:lnTo>
                  <a:lnTo>
                    <a:pt x="911" y="28"/>
                  </a:lnTo>
                  <a:lnTo>
                    <a:pt x="901" y="31"/>
                  </a:lnTo>
                  <a:lnTo>
                    <a:pt x="892" y="34"/>
                  </a:lnTo>
                  <a:lnTo>
                    <a:pt x="881" y="37"/>
                  </a:lnTo>
                  <a:lnTo>
                    <a:pt x="871" y="41"/>
                  </a:lnTo>
                  <a:lnTo>
                    <a:pt x="860" y="44"/>
                  </a:lnTo>
                  <a:lnTo>
                    <a:pt x="848" y="48"/>
                  </a:lnTo>
                  <a:lnTo>
                    <a:pt x="837" y="51"/>
                  </a:lnTo>
                  <a:lnTo>
                    <a:pt x="826" y="54"/>
                  </a:lnTo>
                  <a:lnTo>
                    <a:pt x="814" y="56"/>
                  </a:lnTo>
                  <a:lnTo>
                    <a:pt x="803" y="58"/>
                  </a:lnTo>
                  <a:lnTo>
                    <a:pt x="792" y="59"/>
                  </a:lnTo>
                  <a:lnTo>
                    <a:pt x="781" y="59"/>
                  </a:lnTo>
                  <a:lnTo>
                    <a:pt x="770" y="59"/>
                  </a:lnTo>
                  <a:lnTo>
                    <a:pt x="760" y="58"/>
                  </a:lnTo>
                  <a:lnTo>
                    <a:pt x="750" y="56"/>
                  </a:lnTo>
                  <a:lnTo>
                    <a:pt x="740" y="54"/>
                  </a:lnTo>
                  <a:lnTo>
                    <a:pt x="731" y="51"/>
                  </a:lnTo>
                  <a:lnTo>
                    <a:pt x="722" y="48"/>
                  </a:lnTo>
                  <a:lnTo>
                    <a:pt x="713" y="45"/>
                  </a:lnTo>
                  <a:lnTo>
                    <a:pt x="703" y="41"/>
                  </a:lnTo>
                  <a:lnTo>
                    <a:pt x="695" y="38"/>
                  </a:lnTo>
                  <a:lnTo>
                    <a:pt x="686" y="34"/>
                  </a:lnTo>
                  <a:lnTo>
                    <a:pt x="677" y="31"/>
                  </a:lnTo>
                  <a:lnTo>
                    <a:pt x="668" y="29"/>
                  </a:lnTo>
                  <a:lnTo>
                    <a:pt x="658" y="26"/>
                  </a:lnTo>
                  <a:lnTo>
                    <a:pt x="650" y="25"/>
                  </a:lnTo>
                  <a:lnTo>
                    <a:pt x="640" y="23"/>
                  </a:lnTo>
                  <a:lnTo>
                    <a:pt x="630" y="23"/>
                  </a:lnTo>
                  <a:lnTo>
                    <a:pt x="623" y="23"/>
                  </a:lnTo>
                  <a:lnTo>
                    <a:pt x="615" y="25"/>
                  </a:lnTo>
                  <a:lnTo>
                    <a:pt x="606" y="26"/>
                  </a:lnTo>
                  <a:lnTo>
                    <a:pt x="597" y="29"/>
                  </a:lnTo>
                  <a:lnTo>
                    <a:pt x="587" y="31"/>
                  </a:lnTo>
                  <a:lnTo>
                    <a:pt x="577" y="35"/>
                  </a:lnTo>
                  <a:lnTo>
                    <a:pt x="567" y="38"/>
                  </a:lnTo>
                  <a:lnTo>
                    <a:pt x="557" y="41"/>
                  </a:lnTo>
                  <a:lnTo>
                    <a:pt x="545" y="45"/>
                  </a:lnTo>
                  <a:lnTo>
                    <a:pt x="534" y="48"/>
                  </a:lnTo>
                  <a:lnTo>
                    <a:pt x="523" y="52"/>
                  </a:lnTo>
                  <a:lnTo>
                    <a:pt x="512" y="55"/>
                  </a:lnTo>
                  <a:lnTo>
                    <a:pt x="500" y="57"/>
                  </a:lnTo>
                  <a:lnTo>
                    <a:pt x="489" y="59"/>
                  </a:lnTo>
                  <a:lnTo>
                    <a:pt x="478" y="60"/>
                  </a:lnTo>
                  <a:lnTo>
                    <a:pt x="467" y="60"/>
                  </a:lnTo>
                  <a:lnTo>
                    <a:pt x="456" y="60"/>
                  </a:lnTo>
                  <a:lnTo>
                    <a:pt x="446" y="59"/>
                  </a:lnTo>
                  <a:lnTo>
                    <a:pt x="436" y="58"/>
                  </a:lnTo>
                  <a:lnTo>
                    <a:pt x="426" y="56"/>
                  </a:lnTo>
                  <a:lnTo>
                    <a:pt x="417" y="53"/>
                  </a:lnTo>
                  <a:lnTo>
                    <a:pt x="407" y="50"/>
                  </a:lnTo>
                  <a:lnTo>
                    <a:pt x="399" y="47"/>
                  </a:lnTo>
                  <a:lnTo>
                    <a:pt x="390" y="44"/>
                  </a:lnTo>
                  <a:lnTo>
                    <a:pt x="380" y="41"/>
                  </a:lnTo>
                  <a:lnTo>
                    <a:pt x="372" y="37"/>
                  </a:lnTo>
                  <a:lnTo>
                    <a:pt x="363" y="34"/>
                  </a:lnTo>
                  <a:lnTo>
                    <a:pt x="354" y="31"/>
                  </a:lnTo>
                  <a:lnTo>
                    <a:pt x="345" y="29"/>
                  </a:lnTo>
                  <a:lnTo>
                    <a:pt x="336" y="27"/>
                  </a:lnTo>
                  <a:lnTo>
                    <a:pt x="326" y="25"/>
                  </a:lnTo>
                  <a:lnTo>
                    <a:pt x="317" y="24"/>
                  </a:lnTo>
                  <a:lnTo>
                    <a:pt x="316" y="24"/>
                  </a:lnTo>
                  <a:lnTo>
                    <a:pt x="316" y="23"/>
                  </a:lnTo>
                  <a:lnTo>
                    <a:pt x="314" y="23"/>
                  </a:lnTo>
                  <a:lnTo>
                    <a:pt x="313" y="23"/>
                  </a:lnTo>
                  <a:lnTo>
                    <a:pt x="306" y="23"/>
                  </a:lnTo>
                  <a:lnTo>
                    <a:pt x="298" y="25"/>
                  </a:lnTo>
                  <a:lnTo>
                    <a:pt x="289" y="26"/>
                  </a:lnTo>
                  <a:lnTo>
                    <a:pt x="281" y="29"/>
                  </a:lnTo>
                  <a:lnTo>
                    <a:pt x="271" y="31"/>
                  </a:lnTo>
                  <a:lnTo>
                    <a:pt x="261" y="34"/>
                  </a:lnTo>
                  <a:lnTo>
                    <a:pt x="251" y="38"/>
                  </a:lnTo>
                  <a:lnTo>
                    <a:pt x="240" y="41"/>
                  </a:lnTo>
                  <a:lnTo>
                    <a:pt x="229" y="45"/>
                  </a:lnTo>
                  <a:lnTo>
                    <a:pt x="218" y="48"/>
                  </a:lnTo>
                  <a:lnTo>
                    <a:pt x="207" y="52"/>
                  </a:lnTo>
                  <a:lnTo>
                    <a:pt x="196" y="55"/>
                  </a:lnTo>
                  <a:lnTo>
                    <a:pt x="184" y="57"/>
                  </a:lnTo>
                  <a:lnTo>
                    <a:pt x="174" y="59"/>
                  </a:lnTo>
                  <a:lnTo>
                    <a:pt x="162" y="60"/>
                  </a:lnTo>
                  <a:lnTo>
                    <a:pt x="151" y="61"/>
                  </a:lnTo>
                  <a:lnTo>
                    <a:pt x="140" y="60"/>
                  </a:lnTo>
                  <a:lnTo>
                    <a:pt x="130" y="60"/>
                  </a:lnTo>
                  <a:lnTo>
                    <a:pt x="120" y="58"/>
                  </a:lnTo>
                  <a:lnTo>
                    <a:pt x="111" y="55"/>
                  </a:lnTo>
                  <a:lnTo>
                    <a:pt x="101" y="53"/>
                  </a:lnTo>
                  <a:lnTo>
                    <a:pt x="92" y="50"/>
                  </a:lnTo>
                  <a:lnTo>
                    <a:pt x="82" y="46"/>
                  </a:lnTo>
                  <a:lnTo>
                    <a:pt x="74" y="42"/>
                  </a:lnTo>
                  <a:lnTo>
                    <a:pt x="64" y="40"/>
                  </a:lnTo>
                  <a:lnTo>
                    <a:pt x="56" y="36"/>
                  </a:lnTo>
                  <a:lnTo>
                    <a:pt x="46" y="32"/>
                  </a:lnTo>
                  <a:lnTo>
                    <a:pt x="38" y="30"/>
                  </a:lnTo>
                  <a:lnTo>
                    <a:pt x="28" y="28"/>
                  </a:lnTo>
                  <a:lnTo>
                    <a:pt x="19" y="26"/>
                  </a:lnTo>
                  <a:lnTo>
                    <a:pt x="10" y="25"/>
                  </a:lnTo>
                  <a:lnTo>
                    <a:pt x="0" y="25"/>
                  </a:lnTo>
                  <a:lnTo>
                    <a:pt x="0" y="5"/>
                  </a:lnTo>
                </a:path>
              </a:pathLst>
            </a:custGeom>
            <a:solidFill>
              <a:srgbClr val="aaff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Freeform 22"/>
            <p:cNvSpPr/>
            <p:nvPr/>
          </p:nvSpPr>
          <p:spPr>
            <a:xfrm>
              <a:off x="4552920" y="378000"/>
              <a:ext cx="3567240" cy="96840"/>
            </a:xfrm>
            <a:custGeom>
              <a:avLst/>
              <a:gdLst/>
              <a:ahLst/>
              <a:rect l="l" t="t" r="r" b="b"/>
              <a:pathLst>
                <a:path w="2447" h="61">
                  <a:moveTo>
                    <a:pt x="0" y="24"/>
                  </a:moveTo>
                  <a:lnTo>
                    <a:pt x="10" y="25"/>
                  </a:lnTo>
                  <a:lnTo>
                    <a:pt x="19" y="27"/>
                  </a:lnTo>
                  <a:lnTo>
                    <a:pt x="28" y="29"/>
                  </a:lnTo>
                  <a:lnTo>
                    <a:pt x="38" y="31"/>
                  </a:lnTo>
                  <a:lnTo>
                    <a:pt x="46" y="34"/>
                  </a:lnTo>
                  <a:lnTo>
                    <a:pt x="55" y="37"/>
                  </a:lnTo>
                  <a:lnTo>
                    <a:pt x="64" y="40"/>
                  </a:lnTo>
                  <a:lnTo>
                    <a:pt x="73" y="43"/>
                  </a:lnTo>
                  <a:lnTo>
                    <a:pt x="82" y="47"/>
                  </a:lnTo>
                  <a:lnTo>
                    <a:pt x="91" y="50"/>
                  </a:lnTo>
                  <a:lnTo>
                    <a:pt x="101" y="53"/>
                  </a:lnTo>
                  <a:lnTo>
                    <a:pt x="110" y="55"/>
                  </a:lnTo>
                  <a:lnTo>
                    <a:pt x="119" y="57"/>
                  </a:lnTo>
                  <a:lnTo>
                    <a:pt x="130" y="59"/>
                  </a:lnTo>
                  <a:lnTo>
                    <a:pt x="139" y="60"/>
                  </a:lnTo>
                  <a:lnTo>
                    <a:pt x="151" y="60"/>
                  </a:lnTo>
                  <a:lnTo>
                    <a:pt x="161" y="59"/>
                  </a:lnTo>
                  <a:lnTo>
                    <a:pt x="173" y="58"/>
                  </a:lnTo>
                  <a:lnTo>
                    <a:pt x="184" y="57"/>
                  </a:lnTo>
                  <a:lnTo>
                    <a:pt x="195" y="54"/>
                  </a:lnTo>
                  <a:lnTo>
                    <a:pt x="207" y="51"/>
                  </a:lnTo>
                  <a:lnTo>
                    <a:pt x="218" y="48"/>
                  </a:lnTo>
                  <a:lnTo>
                    <a:pt x="229" y="44"/>
                  </a:lnTo>
                  <a:lnTo>
                    <a:pt x="240" y="41"/>
                  </a:lnTo>
                  <a:lnTo>
                    <a:pt x="250" y="38"/>
                  </a:lnTo>
                  <a:lnTo>
                    <a:pt x="261" y="34"/>
                  </a:lnTo>
                  <a:lnTo>
                    <a:pt x="271" y="31"/>
                  </a:lnTo>
                  <a:lnTo>
                    <a:pt x="281" y="28"/>
                  </a:lnTo>
                  <a:lnTo>
                    <a:pt x="289" y="27"/>
                  </a:lnTo>
                  <a:lnTo>
                    <a:pt x="298" y="25"/>
                  </a:lnTo>
                  <a:lnTo>
                    <a:pt x="306" y="24"/>
                  </a:lnTo>
                  <a:lnTo>
                    <a:pt x="313" y="24"/>
                  </a:lnTo>
                  <a:lnTo>
                    <a:pt x="314" y="24"/>
                  </a:lnTo>
                  <a:lnTo>
                    <a:pt x="316" y="24"/>
                  </a:lnTo>
                  <a:lnTo>
                    <a:pt x="317" y="24"/>
                  </a:lnTo>
                  <a:lnTo>
                    <a:pt x="326" y="25"/>
                  </a:lnTo>
                  <a:lnTo>
                    <a:pt x="336" y="27"/>
                  </a:lnTo>
                  <a:lnTo>
                    <a:pt x="345" y="28"/>
                  </a:lnTo>
                  <a:lnTo>
                    <a:pt x="354" y="31"/>
                  </a:lnTo>
                  <a:lnTo>
                    <a:pt x="363" y="34"/>
                  </a:lnTo>
                  <a:lnTo>
                    <a:pt x="372" y="37"/>
                  </a:lnTo>
                  <a:lnTo>
                    <a:pt x="380" y="40"/>
                  </a:lnTo>
                  <a:lnTo>
                    <a:pt x="389" y="43"/>
                  </a:lnTo>
                  <a:lnTo>
                    <a:pt x="399" y="47"/>
                  </a:lnTo>
                  <a:lnTo>
                    <a:pt x="407" y="50"/>
                  </a:lnTo>
                  <a:lnTo>
                    <a:pt x="417" y="53"/>
                  </a:lnTo>
                  <a:lnTo>
                    <a:pt x="426" y="55"/>
                  </a:lnTo>
                  <a:lnTo>
                    <a:pt x="436" y="57"/>
                  </a:lnTo>
                  <a:lnTo>
                    <a:pt x="445" y="59"/>
                  </a:lnTo>
                  <a:lnTo>
                    <a:pt x="455" y="59"/>
                  </a:lnTo>
                  <a:lnTo>
                    <a:pt x="466" y="60"/>
                  </a:lnTo>
                  <a:lnTo>
                    <a:pt x="477" y="59"/>
                  </a:lnTo>
                  <a:lnTo>
                    <a:pt x="488" y="58"/>
                  </a:lnTo>
                  <a:lnTo>
                    <a:pt x="500" y="56"/>
                  </a:lnTo>
                  <a:lnTo>
                    <a:pt x="511" y="54"/>
                  </a:lnTo>
                  <a:lnTo>
                    <a:pt x="522" y="51"/>
                  </a:lnTo>
                  <a:lnTo>
                    <a:pt x="534" y="48"/>
                  </a:lnTo>
                  <a:lnTo>
                    <a:pt x="545" y="44"/>
                  </a:lnTo>
                  <a:lnTo>
                    <a:pt x="556" y="40"/>
                  </a:lnTo>
                  <a:lnTo>
                    <a:pt x="567" y="37"/>
                  </a:lnTo>
                  <a:lnTo>
                    <a:pt x="577" y="34"/>
                  </a:lnTo>
                  <a:lnTo>
                    <a:pt x="587" y="31"/>
                  </a:lnTo>
                  <a:lnTo>
                    <a:pt x="597" y="28"/>
                  </a:lnTo>
                  <a:lnTo>
                    <a:pt x="606" y="26"/>
                  </a:lnTo>
                  <a:lnTo>
                    <a:pt x="615" y="24"/>
                  </a:lnTo>
                  <a:lnTo>
                    <a:pt x="623" y="23"/>
                  </a:lnTo>
                  <a:lnTo>
                    <a:pt x="630" y="23"/>
                  </a:lnTo>
                  <a:lnTo>
                    <a:pt x="640" y="24"/>
                  </a:lnTo>
                  <a:lnTo>
                    <a:pt x="649" y="25"/>
                  </a:lnTo>
                  <a:lnTo>
                    <a:pt x="658" y="27"/>
                  </a:lnTo>
                  <a:lnTo>
                    <a:pt x="668" y="30"/>
                  </a:lnTo>
                  <a:lnTo>
                    <a:pt x="676" y="32"/>
                  </a:lnTo>
                  <a:lnTo>
                    <a:pt x="685" y="36"/>
                  </a:lnTo>
                  <a:lnTo>
                    <a:pt x="694" y="39"/>
                  </a:lnTo>
                  <a:lnTo>
                    <a:pt x="703" y="42"/>
                  </a:lnTo>
                  <a:lnTo>
                    <a:pt x="712" y="45"/>
                  </a:lnTo>
                  <a:lnTo>
                    <a:pt x="721" y="49"/>
                  </a:lnTo>
                  <a:lnTo>
                    <a:pt x="731" y="52"/>
                  </a:lnTo>
                  <a:lnTo>
                    <a:pt x="740" y="54"/>
                  </a:lnTo>
                  <a:lnTo>
                    <a:pt x="750" y="56"/>
                  </a:lnTo>
                  <a:lnTo>
                    <a:pt x="760" y="58"/>
                  </a:lnTo>
                  <a:lnTo>
                    <a:pt x="770" y="59"/>
                  </a:lnTo>
                  <a:lnTo>
                    <a:pt x="781" y="59"/>
                  </a:lnTo>
                  <a:lnTo>
                    <a:pt x="792" y="58"/>
                  </a:lnTo>
                  <a:lnTo>
                    <a:pt x="803" y="57"/>
                  </a:lnTo>
                  <a:lnTo>
                    <a:pt x="814" y="55"/>
                  </a:lnTo>
                  <a:lnTo>
                    <a:pt x="825" y="53"/>
                  </a:lnTo>
                  <a:lnTo>
                    <a:pt x="837" y="50"/>
                  </a:lnTo>
                  <a:lnTo>
                    <a:pt x="848" y="47"/>
                  </a:lnTo>
                  <a:lnTo>
                    <a:pt x="859" y="43"/>
                  </a:lnTo>
                  <a:lnTo>
                    <a:pt x="870" y="40"/>
                  </a:lnTo>
                  <a:lnTo>
                    <a:pt x="881" y="37"/>
                  </a:lnTo>
                  <a:lnTo>
                    <a:pt x="891" y="33"/>
                  </a:lnTo>
                  <a:lnTo>
                    <a:pt x="901" y="30"/>
                  </a:lnTo>
                  <a:lnTo>
                    <a:pt x="911" y="27"/>
                  </a:lnTo>
                  <a:lnTo>
                    <a:pt x="920" y="25"/>
                  </a:lnTo>
                  <a:lnTo>
                    <a:pt x="929" y="24"/>
                  </a:lnTo>
                  <a:lnTo>
                    <a:pt x="937" y="23"/>
                  </a:lnTo>
                  <a:lnTo>
                    <a:pt x="944" y="23"/>
                  </a:lnTo>
                  <a:lnTo>
                    <a:pt x="954" y="23"/>
                  </a:lnTo>
                  <a:lnTo>
                    <a:pt x="963" y="25"/>
                  </a:lnTo>
                  <a:lnTo>
                    <a:pt x="972" y="27"/>
                  </a:lnTo>
                  <a:lnTo>
                    <a:pt x="982" y="29"/>
                  </a:lnTo>
                  <a:lnTo>
                    <a:pt x="991" y="32"/>
                  </a:lnTo>
                  <a:lnTo>
                    <a:pt x="1000" y="35"/>
                  </a:lnTo>
                  <a:lnTo>
                    <a:pt x="1008" y="38"/>
                  </a:lnTo>
                  <a:lnTo>
                    <a:pt x="1018" y="41"/>
                  </a:lnTo>
                  <a:lnTo>
                    <a:pt x="1027" y="44"/>
                  </a:lnTo>
                  <a:lnTo>
                    <a:pt x="1036" y="47"/>
                  </a:lnTo>
                  <a:lnTo>
                    <a:pt x="1045" y="50"/>
                  </a:lnTo>
                  <a:lnTo>
                    <a:pt x="1055" y="53"/>
                  </a:lnTo>
                  <a:lnTo>
                    <a:pt x="1064" y="55"/>
                  </a:lnTo>
                  <a:lnTo>
                    <a:pt x="1074" y="57"/>
                  </a:lnTo>
                  <a:lnTo>
                    <a:pt x="1085" y="58"/>
                  </a:lnTo>
                  <a:lnTo>
                    <a:pt x="1095" y="58"/>
                  </a:lnTo>
                  <a:lnTo>
                    <a:pt x="1106" y="58"/>
                  </a:lnTo>
                  <a:lnTo>
                    <a:pt x="1118" y="57"/>
                  </a:lnTo>
                  <a:lnTo>
                    <a:pt x="1128" y="54"/>
                  </a:lnTo>
                  <a:lnTo>
                    <a:pt x="1140" y="52"/>
                  </a:lnTo>
                  <a:lnTo>
                    <a:pt x="1151" y="49"/>
                  </a:lnTo>
                  <a:lnTo>
                    <a:pt x="1163" y="46"/>
                  </a:lnTo>
                  <a:lnTo>
                    <a:pt x="1173" y="43"/>
                  </a:lnTo>
                  <a:lnTo>
                    <a:pt x="1185" y="39"/>
                  </a:lnTo>
                  <a:lnTo>
                    <a:pt x="1195" y="35"/>
                  </a:lnTo>
                  <a:lnTo>
                    <a:pt x="1205" y="32"/>
                  </a:lnTo>
                  <a:lnTo>
                    <a:pt x="1215" y="29"/>
                  </a:lnTo>
                  <a:lnTo>
                    <a:pt x="1226" y="27"/>
                  </a:lnTo>
                  <a:lnTo>
                    <a:pt x="1234" y="24"/>
                  </a:lnTo>
                  <a:lnTo>
                    <a:pt x="1243" y="23"/>
                  </a:lnTo>
                  <a:lnTo>
                    <a:pt x="1251" y="22"/>
                  </a:lnTo>
                  <a:lnTo>
                    <a:pt x="1258" y="22"/>
                  </a:lnTo>
                  <a:lnTo>
                    <a:pt x="1259" y="22"/>
                  </a:lnTo>
                  <a:lnTo>
                    <a:pt x="1260" y="22"/>
                  </a:lnTo>
                  <a:lnTo>
                    <a:pt x="1261" y="22"/>
                  </a:lnTo>
                  <a:lnTo>
                    <a:pt x="1270" y="23"/>
                  </a:lnTo>
                  <a:lnTo>
                    <a:pt x="1281" y="25"/>
                  </a:lnTo>
                  <a:lnTo>
                    <a:pt x="1289" y="27"/>
                  </a:lnTo>
                  <a:lnTo>
                    <a:pt x="1298" y="29"/>
                  </a:lnTo>
                  <a:lnTo>
                    <a:pt x="1307" y="32"/>
                  </a:lnTo>
                  <a:lnTo>
                    <a:pt x="1316" y="35"/>
                  </a:lnTo>
                  <a:lnTo>
                    <a:pt x="1326" y="38"/>
                  </a:lnTo>
                  <a:lnTo>
                    <a:pt x="1334" y="42"/>
                  </a:lnTo>
                  <a:lnTo>
                    <a:pt x="1343" y="44"/>
                  </a:lnTo>
                  <a:lnTo>
                    <a:pt x="1352" y="48"/>
                  </a:lnTo>
                  <a:lnTo>
                    <a:pt x="1361" y="50"/>
                  </a:lnTo>
                  <a:lnTo>
                    <a:pt x="1370" y="53"/>
                  </a:lnTo>
                  <a:lnTo>
                    <a:pt x="1380" y="55"/>
                  </a:lnTo>
                  <a:lnTo>
                    <a:pt x="1390" y="57"/>
                  </a:lnTo>
                  <a:lnTo>
                    <a:pt x="1400" y="58"/>
                  </a:lnTo>
                  <a:lnTo>
                    <a:pt x="1411" y="58"/>
                  </a:lnTo>
                  <a:lnTo>
                    <a:pt x="1422" y="57"/>
                  </a:lnTo>
                  <a:lnTo>
                    <a:pt x="1433" y="56"/>
                  </a:lnTo>
                  <a:lnTo>
                    <a:pt x="1444" y="54"/>
                  </a:lnTo>
                  <a:lnTo>
                    <a:pt x="1455" y="52"/>
                  </a:lnTo>
                  <a:lnTo>
                    <a:pt x="1467" y="49"/>
                  </a:lnTo>
                  <a:lnTo>
                    <a:pt x="1478" y="46"/>
                  </a:lnTo>
                  <a:lnTo>
                    <a:pt x="1490" y="42"/>
                  </a:lnTo>
                  <a:lnTo>
                    <a:pt x="1500" y="39"/>
                  </a:lnTo>
                  <a:lnTo>
                    <a:pt x="1512" y="35"/>
                  </a:lnTo>
                  <a:lnTo>
                    <a:pt x="1521" y="32"/>
                  </a:lnTo>
                  <a:lnTo>
                    <a:pt x="1532" y="29"/>
                  </a:lnTo>
                  <a:lnTo>
                    <a:pt x="1541" y="26"/>
                  </a:lnTo>
                  <a:lnTo>
                    <a:pt x="1550" y="24"/>
                  </a:lnTo>
                  <a:lnTo>
                    <a:pt x="1559" y="23"/>
                  </a:lnTo>
                  <a:lnTo>
                    <a:pt x="1567" y="22"/>
                  </a:lnTo>
                  <a:lnTo>
                    <a:pt x="1574" y="22"/>
                  </a:lnTo>
                  <a:lnTo>
                    <a:pt x="1584" y="22"/>
                  </a:lnTo>
                  <a:lnTo>
                    <a:pt x="1594" y="24"/>
                  </a:lnTo>
                  <a:lnTo>
                    <a:pt x="1603" y="25"/>
                  </a:lnTo>
                  <a:lnTo>
                    <a:pt x="1612" y="28"/>
                  </a:lnTo>
                  <a:lnTo>
                    <a:pt x="1621" y="31"/>
                  </a:lnTo>
                  <a:lnTo>
                    <a:pt x="1630" y="33"/>
                  </a:lnTo>
                  <a:lnTo>
                    <a:pt x="1640" y="37"/>
                  </a:lnTo>
                  <a:lnTo>
                    <a:pt x="1648" y="40"/>
                  </a:lnTo>
                  <a:lnTo>
                    <a:pt x="1657" y="43"/>
                  </a:lnTo>
                  <a:lnTo>
                    <a:pt x="1667" y="46"/>
                  </a:lnTo>
                  <a:lnTo>
                    <a:pt x="1676" y="49"/>
                  </a:lnTo>
                  <a:lnTo>
                    <a:pt x="1686" y="52"/>
                  </a:lnTo>
                  <a:lnTo>
                    <a:pt x="1695" y="54"/>
                  </a:lnTo>
                  <a:lnTo>
                    <a:pt x="1705" y="55"/>
                  </a:lnTo>
                  <a:lnTo>
                    <a:pt x="1715" y="57"/>
                  </a:lnTo>
                  <a:lnTo>
                    <a:pt x="1726" y="57"/>
                  </a:lnTo>
                  <a:lnTo>
                    <a:pt x="1737" y="56"/>
                  </a:lnTo>
                  <a:lnTo>
                    <a:pt x="1748" y="55"/>
                  </a:lnTo>
                  <a:lnTo>
                    <a:pt x="1760" y="53"/>
                  </a:lnTo>
                  <a:lnTo>
                    <a:pt x="1770" y="51"/>
                  </a:lnTo>
                  <a:lnTo>
                    <a:pt x="1782" y="48"/>
                  </a:lnTo>
                  <a:lnTo>
                    <a:pt x="1793" y="44"/>
                  </a:lnTo>
                  <a:lnTo>
                    <a:pt x="1804" y="41"/>
                  </a:lnTo>
                  <a:lnTo>
                    <a:pt x="1814" y="38"/>
                  </a:lnTo>
                  <a:lnTo>
                    <a:pt x="1826" y="34"/>
                  </a:lnTo>
                  <a:lnTo>
                    <a:pt x="1835" y="31"/>
                  </a:lnTo>
                  <a:lnTo>
                    <a:pt x="1846" y="28"/>
                  </a:lnTo>
                  <a:lnTo>
                    <a:pt x="1855" y="25"/>
                  </a:lnTo>
                  <a:lnTo>
                    <a:pt x="1864" y="23"/>
                  </a:lnTo>
                  <a:lnTo>
                    <a:pt x="1872" y="22"/>
                  </a:lnTo>
                  <a:lnTo>
                    <a:pt x="1880" y="20"/>
                  </a:lnTo>
                  <a:lnTo>
                    <a:pt x="1888" y="20"/>
                  </a:lnTo>
                  <a:lnTo>
                    <a:pt x="1897" y="21"/>
                  </a:lnTo>
                  <a:lnTo>
                    <a:pt x="1907" y="23"/>
                  </a:lnTo>
                  <a:lnTo>
                    <a:pt x="1916" y="24"/>
                  </a:lnTo>
                  <a:lnTo>
                    <a:pt x="1925" y="27"/>
                  </a:lnTo>
                  <a:lnTo>
                    <a:pt x="1934" y="29"/>
                  </a:lnTo>
                  <a:lnTo>
                    <a:pt x="1943" y="32"/>
                  </a:lnTo>
                  <a:lnTo>
                    <a:pt x="1952" y="36"/>
                  </a:lnTo>
                  <a:lnTo>
                    <a:pt x="1961" y="39"/>
                  </a:lnTo>
                  <a:lnTo>
                    <a:pt x="1970" y="42"/>
                  </a:lnTo>
                  <a:lnTo>
                    <a:pt x="1979" y="45"/>
                  </a:lnTo>
                  <a:lnTo>
                    <a:pt x="1988" y="48"/>
                  </a:lnTo>
                  <a:lnTo>
                    <a:pt x="1997" y="50"/>
                  </a:lnTo>
                  <a:lnTo>
                    <a:pt x="2007" y="53"/>
                  </a:lnTo>
                  <a:lnTo>
                    <a:pt x="2017" y="54"/>
                  </a:lnTo>
                  <a:lnTo>
                    <a:pt x="2027" y="55"/>
                  </a:lnTo>
                  <a:lnTo>
                    <a:pt x="2038" y="55"/>
                  </a:lnTo>
                  <a:lnTo>
                    <a:pt x="2049" y="55"/>
                  </a:lnTo>
                  <a:lnTo>
                    <a:pt x="2060" y="54"/>
                  </a:lnTo>
                  <a:lnTo>
                    <a:pt x="2071" y="52"/>
                  </a:lnTo>
                  <a:lnTo>
                    <a:pt x="2082" y="50"/>
                  </a:lnTo>
                  <a:lnTo>
                    <a:pt x="2092" y="47"/>
                  </a:lnTo>
                  <a:lnTo>
                    <a:pt x="2103" y="44"/>
                  </a:lnTo>
                  <a:lnTo>
                    <a:pt x="2114" y="41"/>
                  </a:lnTo>
                  <a:lnTo>
                    <a:pt x="2125" y="38"/>
                  </a:lnTo>
                  <a:lnTo>
                    <a:pt x="2135" y="34"/>
                  </a:lnTo>
                  <a:lnTo>
                    <a:pt x="2145" y="31"/>
                  </a:lnTo>
                  <a:lnTo>
                    <a:pt x="2155" y="28"/>
                  </a:lnTo>
                  <a:lnTo>
                    <a:pt x="2165" y="25"/>
                  </a:lnTo>
                  <a:lnTo>
                    <a:pt x="2174" y="23"/>
                  </a:lnTo>
                  <a:lnTo>
                    <a:pt x="2182" y="21"/>
                  </a:lnTo>
                  <a:lnTo>
                    <a:pt x="2190" y="20"/>
                  </a:lnTo>
                  <a:lnTo>
                    <a:pt x="2197" y="19"/>
                  </a:lnTo>
                  <a:lnTo>
                    <a:pt x="2207" y="19"/>
                  </a:lnTo>
                  <a:lnTo>
                    <a:pt x="2216" y="20"/>
                  </a:lnTo>
                  <a:lnTo>
                    <a:pt x="2225" y="22"/>
                  </a:lnTo>
                  <a:lnTo>
                    <a:pt x="2235" y="24"/>
                  </a:lnTo>
                  <a:lnTo>
                    <a:pt x="2244" y="27"/>
                  </a:lnTo>
                  <a:lnTo>
                    <a:pt x="2252" y="30"/>
                  </a:lnTo>
                  <a:lnTo>
                    <a:pt x="2262" y="33"/>
                  </a:lnTo>
                  <a:lnTo>
                    <a:pt x="2270" y="37"/>
                  </a:lnTo>
                  <a:lnTo>
                    <a:pt x="2279" y="40"/>
                  </a:lnTo>
                  <a:lnTo>
                    <a:pt x="2288" y="44"/>
                  </a:lnTo>
                  <a:lnTo>
                    <a:pt x="2298" y="47"/>
                  </a:lnTo>
                  <a:lnTo>
                    <a:pt x="2307" y="50"/>
                  </a:lnTo>
                  <a:lnTo>
                    <a:pt x="2317" y="52"/>
                  </a:lnTo>
                  <a:lnTo>
                    <a:pt x="2327" y="54"/>
                  </a:lnTo>
                  <a:lnTo>
                    <a:pt x="2337" y="55"/>
                  </a:lnTo>
                  <a:lnTo>
                    <a:pt x="2348" y="55"/>
                  </a:lnTo>
                  <a:lnTo>
                    <a:pt x="2360" y="55"/>
                  </a:lnTo>
                  <a:lnTo>
                    <a:pt x="2372" y="53"/>
                  </a:lnTo>
                  <a:lnTo>
                    <a:pt x="2385" y="51"/>
                  </a:lnTo>
                  <a:lnTo>
                    <a:pt x="2397" y="48"/>
                  </a:lnTo>
                  <a:lnTo>
                    <a:pt x="2409" y="45"/>
                  </a:lnTo>
                  <a:lnTo>
                    <a:pt x="2422" y="41"/>
                  </a:lnTo>
                  <a:lnTo>
                    <a:pt x="2434" y="38"/>
                  </a:lnTo>
                  <a:lnTo>
                    <a:pt x="2446" y="33"/>
                  </a:lnTo>
                  <a:lnTo>
                    <a:pt x="2446" y="29"/>
                  </a:lnTo>
                  <a:lnTo>
                    <a:pt x="2446" y="25"/>
                  </a:lnTo>
                  <a:lnTo>
                    <a:pt x="2445" y="21"/>
                  </a:lnTo>
                  <a:lnTo>
                    <a:pt x="2445" y="16"/>
                  </a:lnTo>
                  <a:lnTo>
                    <a:pt x="2434" y="19"/>
                  </a:lnTo>
                  <a:lnTo>
                    <a:pt x="2422" y="23"/>
                  </a:lnTo>
                  <a:lnTo>
                    <a:pt x="2409" y="27"/>
                  </a:lnTo>
                  <a:lnTo>
                    <a:pt x="2397" y="29"/>
                  </a:lnTo>
                  <a:lnTo>
                    <a:pt x="2384" y="32"/>
                  </a:lnTo>
                  <a:lnTo>
                    <a:pt x="2372" y="35"/>
                  </a:lnTo>
                  <a:lnTo>
                    <a:pt x="2359" y="37"/>
                  </a:lnTo>
                  <a:lnTo>
                    <a:pt x="2348" y="37"/>
                  </a:lnTo>
                  <a:lnTo>
                    <a:pt x="2337" y="37"/>
                  </a:lnTo>
                  <a:lnTo>
                    <a:pt x="2327" y="36"/>
                  </a:lnTo>
                  <a:lnTo>
                    <a:pt x="2317" y="33"/>
                  </a:lnTo>
                  <a:lnTo>
                    <a:pt x="2307" y="31"/>
                  </a:lnTo>
                  <a:lnTo>
                    <a:pt x="2298" y="29"/>
                  </a:lnTo>
                  <a:lnTo>
                    <a:pt x="2288" y="25"/>
                  </a:lnTo>
                  <a:lnTo>
                    <a:pt x="2279" y="22"/>
                  </a:lnTo>
                  <a:lnTo>
                    <a:pt x="2270" y="18"/>
                  </a:lnTo>
                  <a:lnTo>
                    <a:pt x="2262" y="15"/>
                  </a:lnTo>
                  <a:lnTo>
                    <a:pt x="2252" y="12"/>
                  </a:lnTo>
                  <a:lnTo>
                    <a:pt x="2244" y="9"/>
                  </a:lnTo>
                  <a:lnTo>
                    <a:pt x="2235" y="6"/>
                  </a:lnTo>
                  <a:lnTo>
                    <a:pt x="2225" y="3"/>
                  </a:lnTo>
                  <a:lnTo>
                    <a:pt x="2216" y="2"/>
                  </a:lnTo>
                  <a:lnTo>
                    <a:pt x="2207" y="1"/>
                  </a:lnTo>
                  <a:lnTo>
                    <a:pt x="2197" y="0"/>
                  </a:lnTo>
                  <a:lnTo>
                    <a:pt x="2190" y="1"/>
                  </a:lnTo>
                  <a:lnTo>
                    <a:pt x="2182" y="2"/>
                  </a:lnTo>
                  <a:lnTo>
                    <a:pt x="2174" y="3"/>
                  </a:lnTo>
                  <a:lnTo>
                    <a:pt x="2165" y="6"/>
                  </a:lnTo>
                  <a:lnTo>
                    <a:pt x="2154" y="9"/>
                  </a:lnTo>
                  <a:lnTo>
                    <a:pt x="2145" y="12"/>
                  </a:lnTo>
                  <a:lnTo>
                    <a:pt x="2135" y="15"/>
                  </a:lnTo>
                  <a:lnTo>
                    <a:pt x="2124" y="18"/>
                  </a:lnTo>
                  <a:lnTo>
                    <a:pt x="2114" y="22"/>
                  </a:lnTo>
                  <a:lnTo>
                    <a:pt x="2103" y="25"/>
                  </a:lnTo>
                  <a:lnTo>
                    <a:pt x="2092" y="28"/>
                  </a:lnTo>
                  <a:lnTo>
                    <a:pt x="2082" y="31"/>
                  </a:lnTo>
                  <a:lnTo>
                    <a:pt x="2070" y="33"/>
                  </a:lnTo>
                  <a:lnTo>
                    <a:pt x="2059" y="35"/>
                  </a:lnTo>
                  <a:lnTo>
                    <a:pt x="2049" y="37"/>
                  </a:lnTo>
                  <a:lnTo>
                    <a:pt x="2038" y="37"/>
                  </a:lnTo>
                  <a:lnTo>
                    <a:pt x="2027" y="37"/>
                  </a:lnTo>
                  <a:lnTo>
                    <a:pt x="2017" y="36"/>
                  </a:lnTo>
                  <a:lnTo>
                    <a:pt x="2008" y="34"/>
                  </a:lnTo>
                  <a:lnTo>
                    <a:pt x="1997" y="32"/>
                  </a:lnTo>
                  <a:lnTo>
                    <a:pt x="1988" y="29"/>
                  </a:lnTo>
                  <a:lnTo>
                    <a:pt x="1979" y="26"/>
                  </a:lnTo>
                  <a:lnTo>
                    <a:pt x="1970" y="23"/>
                  </a:lnTo>
                  <a:lnTo>
                    <a:pt x="1961" y="19"/>
                  </a:lnTo>
                  <a:lnTo>
                    <a:pt x="1952" y="16"/>
                  </a:lnTo>
                  <a:lnTo>
                    <a:pt x="1943" y="13"/>
                  </a:lnTo>
                  <a:lnTo>
                    <a:pt x="1934" y="10"/>
                  </a:lnTo>
                  <a:lnTo>
                    <a:pt x="1925" y="7"/>
                  </a:lnTo>
                  <a:lnTo>
                    <a:pt x="1916" y="5"/>
                  </a:lnTo>
                  <a:lnTo>
                    <a:pt x="1906" y="3"/>
                  </a:lnTo>
                  <a:lnTo>
                    <a:pt x="1897" y="2"/>
                  </a:lnTo>
                  <a:lnTo>
                    <a:pt x="1888" y="1"/>
                  </a:lnTo>
                  <a:lnTo>
                    <a:pt x="1880" y="2"/>
                  </a:lnTo>
                  <a:lnTo>
                    <a:pt x="1872" y="3"/>
                  </a:lnTo>
                  <a:lnTo>
                    <a:pt x="1864" y="5"/>
                  </a:lnTo>
                  <a:lnTo>
                    <a:pt x="1855" y="7"/>
                  </a:lnTo>
                  <a:lnTo>
                    <a:pt x="1846" y="10"/>
                  </a:lnTo>
                  <a:lnTo>
                    <a:pt x="1835" y="13"/>
                  </a:lnTo>
                  <a:lnTo>
                    <a:pt x="1826" y="16"/>
                  </a:lnTo>
                  <a:lnTo>
                    <a:pt x="1814" y="20"/>
                  </a:lnTo>
                  <a:lnTo>
                    <a:pt x="1804" y="23"/>
                  </a:lnTo>
                  <a:lnTo>
                    <a:pt x="1793" y="27"/>
                  </a:lnTo>
                  <a:lnTo>
                    <a:pt x="1781" y="29"/>
                  </a:lnTo>
                  <a:lnTo>
                    <a:pt x="1770" y="32"/>
                  </a:lnTo>
                  <a:lnTo>
                    <a:pt x="1759" y="35"/>
                  </a:lnTo>
                  <a:lnTo>
                    <a:pt x="1748" y="37"/>
                  </a:lnTo>
                  <a:lnTo>
                    <a:pt x="1736" y="38"/>
                  </a:lnTo>
                  <a:lnTo>
                    <a:pt x="1726" y="39"/>
                  </a:lnTo>
                  <a:lnTo>
                    <a:pt x="1715" y="38"/>
                  </a:lnTo>
                  <a:lnTo>
                    <a:pt x="1704" y="38"/>
                  </a:lnTo>
                  <a:lnTo>
                    <a:pt x="1695" y="36"/>
                  </a:lnTo>
                  <a:lnTo>
                    <a:pt x="1685" y="33"/>
                  </a:lnTo>
                  <a:lnTo>
                    <a:pt x="1676" y="31"/>
                  </a:lnTo>
                  <a:lnTo>
                    <a:pt x="1666" y="28"/>
                  </a:lnTo>
                  <a:lnTo>
                    <a:pt x="1657" y="24"/>
                  </a:lnTo>
                  <a:lnTo>
                    <a:pt x="1648" y="21"/>
                  </a:lnTo>
                  <a:lnTo>
                    <a:pt x="1640" y="17"/>
                  </a:lnTo>
                  <a:lnTo>
                    <a:pt x="1630" y="14"/>
                  </a:lnTo>
                  <a:lnTo>
                    <a:pt x="1621" y="11"/>
                  </a:lnTo>
                  <a:lnTo>
                    <a:pt x="1612" y="8"/>
                  </a:lnTo>
                  <a:lnTo>
                    <a:pt x="1603" y="6"/>
                  </a:lnTo>
                  <a:lnTo>
                    <a:pt x="1594" y="4"/>
                  </a:lnTo>
                  <a:lnTo>
                    <a:pt x="1584" y="3"/>
                  </a:lnTo>
                  <a:lnTo>
                    <a:pt x="1575" y="2"/>
                  </a:lnTo>
                  <a:lnTo>
                    <a:pt x="1568" y="3"/>
                  </a:lnTo>
                  <a:lnTo>
                    <a:pt x="1560" y="4"/>
                  </a:lnTo>
                  <a:lnTo>
                    <a:pt x="1551" y="6"/>
                  </a:lnTo>
                  <a:lnTo>
                    <a:pt x="1542" y="8"/>
                  </a:lnTo>
                  <a:lnTo>
                    <a:pt x="1532" y="11"/>
                  </a:lnTo>
                  <a:lnTo>
                    <a:pt x="1522" y="14"/>
                  </a:lnTo>
                  <a:lnTo>
                    <a:pt x="1512" y="17"/>
                  </a:lnTo>
                  <a:lnTo>
                    <a:pt x="1500" y="21"/>
                  </a:lnTo>
                  <a:lnTo>
                    <a:pt x="1490" y="24"/>
                  </a:lnTo>
                  <a:lnTo>
                    <a:pt x="1479" y="27"/>
                  </a:lnTo>
                  <a:lnTo>
                    <a:pt x="1467" y="31"/>
                  </a:lnTo>
                  <a:lnTo>
                    <a:pt x="1455" y="33"/>
                  </a:lnTo>
                  <a:lnTo>
                    <a:pt x="1444" y="36"/>
                  </a:lnTo>
                  <a:lnTo>
                    <a:pt x="1433" y="38"/>
                  </a:lnTo>
                  <a:lnTo>
                    <a:pt x="1422" y="39"/>
                  </a:lnTo>
                  <a:lnTo>
                    <a:pt x="1411" y="39"/>
                  </a:lnTo>
                  <a:lnTo>
                    <a:pt x="1400" y="39"/>
                  </a:lnTo>
                  <a:lnTo>
                    <a:pt x="1390" y="38"/>
                  </a:lnTo>
                  <a:lnTo>
                    <a:pt x="1380" y="36"/>
                  </a:lnTo>
                  <a:lnTo>
                    <a:pt x="1370" y="33"/>
                  </a:lnTo>
                  <a:lnTo>
                    <a:pt x="1361" y="31"/>
                  </a:lnTo>
                  <a:lnTo>
                    <a:pt x="1352" y="28"/>
                  </a:lnTo>
                  <a:lnTo>
                    <a:pt x="1343" y="24"/>
                  </a:lnTo>
                  <a:lnTo>
                    <a:pt x="1334" y="21"/>
                  </a:lnTo>
                  <a:lnTo>
                    <a:pt x="1326" y="18"/>
                  </a:lnTo>
                  <a:lnTo>
                    <a:pt x="1316" y="14"/>
                  </a:lnTo>
                  <a:lnTo>
                    <a:pt x="1307" y="11"/>
                  </a:lnTo>
                  <a:lnTo>
                    <a:pt x="1298" y="9"/>
                  </a:lnTo>
                  <a:lnTo>
                    <a:pt x="1289" y="6"/>
                  </a:lnTo>
                  <a:lnTo>
                    <a:pt x="1281" y="4"/>
                  </a:lnTo>
                  <a:lnTo>
                    <a:pt x="1270" y="3"/>
                  </a:lnTo>
                  <a:lnTo>
                    <a:pt x="1261" y="3"/>
                  </a:lnTo>
                  <a:lnTo>
                    <a:pt x="1260" y="3"/>
                  </a:lnTo>
                  <a:lnTo>
                    <a:pt x="1258" y="3"/>
                  </a:lnTo>
                  <a:lnTo>
                    <a:pt x="1257" y="3"/>
                  </a:lnTo>
                  <a:lnTo>
                    <a:pt x="1250" y="3"/>
                  </a:lnTo>
                  <a:lnTo>
                    <a:pt x="1242" y="4"/>
                  </a:lnTo>
                  <a:lnTo>
                    <a:pt x="1234" y="6"/>
                  </a:lnTo>
                  <a:lnTo>
                    <a:pt x="1225" y="8"/>
                  </a:lnTo>
                  <a:lnTo>
                    <a:pt x="1215" y="10"/>
                  </a:lnTo>
                  <a:lnTo>
                    <a:pt x="1205" y="14"/>
                  </a:lnTo>
                  <a:lnTo>
                    <a:pt x="1195" y="17"/>
                  </a:lnTo>
                  <a:lnTo>
                    <a:pt x="1185" y="20"/>
                  </a:lnTo>
                  <a:lnTo>
                    <a:pt x="1173" y="24"/>
                  </a:lnTo>
                  <a:lnTo>
                    <a:pt x="1163" y="28"/>
                  </a:lnTo>
                  <a:lnTo>
                    <a:pt x="1151" y="31"/>
                  </a:lnTo>
                  <a:lnTo>
                    <a:pt x="1140" y="33"/>
                  </a:lnTo>
                  <a:lnTo>
                    <a:pt x="1128" y="36"/>
                  </a:lnTo>
                  <a:lnTo>
                    <a:pt x="1118" y="38"/>
                  </a:lnTo>
                  <a:lnTo>
                    <a:pt x="1106" y="39"/>
                  </a:lnTo>
                  <a:lnTo>
                    <a:pt x="1095" y="40"/>
                  </a:lnTo>
                  <a:lnTo>
                    <a:pt x="1085" y="39"/>
                  </a:lnTo>
                  <a:lnTo>
                    <a:pt x="1074" y="39"/>
                  </a:lnTo>
                  <a:lnTo>
                    <a:pt x="1065" y="37"/>
                  </a:lnTo>
                  <a:lnTo>
                    <a:pt x="1055" y="35"/>
                  </a:lnTo>
                  <a:lnTo>
                    <a:pt x="1045" y="32"/>
                  </a:lnTo>
                  <a:lnTo>
                    <a:pt x="1036" y="29"/>
                  </a:lnTo>
                  <a:lnTo>
                    <a:pt x="1027" y="25"/>
                  </a:lnTo>
                  <a:lnTo>
                    <a:pt x="1018" y="22"/>
                  </a:lnTo>
                  <a:lnTo>
                    <a:pt x="1008" y="18"/>
                  </a:lnTo>
                  <a:lnTo>
                    <a:pt x="1000" y="15"/>
                  </a:lnTo>
                  <a:lnTo>
                    <a:pt x="991" y="12"/>
                  </a:lnTo>
                  <a:lnTo>
                    <a:pt x="982" y="9"/>
                  </a:lnTo>
                  <a:lnTo>
                    <a:pt x="972" y="7"/>
                  </a:lnTo>
                  <a:lnTo>
                    <a:pt x="963" y="5"/>
                  </a:lnTo>
                  <a:lnTo>
                    <a:pt x="954" y="4"/>
                  </a:lnTo>
                  <a:lnTo>
                    <a:pt x="944" y="3"/>
                  </a:lnTo>
                  <a:lnTo>
                    <a:pt x="937" y="4"/>
                  </a:lnTo>
                  <a:lnTo>
                    <a:pt x="929" y="5"/>
                  </a:lnTo>
                  <a:lnTo>
                    <a:pt x="920" y="7"/>
                  </a:lnTo>
                  <a:lnTo>
                    <a:pt x="911" y="9"/>
                  </a:lnTo>
                  <a:lnTo>
                    <a:pt x="901" y="12"/>
                  </a:lnTo>
                  <a:lnTo>
                    <a:pt x="891" y="15"/>
                  </a:lnTo>
                  <a:lnTo>
                    <a:pt x="881" y="18"/>
                  </a:lnTo>
                  <a:lnTo>
                    <a:pt x="870" y="22"/>
                  </a:lnTo>
                  <a:lnTo>
                    <a:pt x="859" y="25"/>
                  </a:lnTo>
                  <a:lnTo>
                    <a:pt x="848" y="28"/>
                  </a:lnTo>
                  <a:lnTo>
                    <a:pt x="836" y="32"/>
                  </a:lnTo>
                  <a:lnTo>
                    <a:pt x="825" y="35"/>
                  </a:lnTo>
                  <a:lnTo>
                    <a:pt x="814" y="37"/>
                  </a:lnTo>
                  <a:lnTo>
                    <a:pt x="802" y="39"/>
                  </a:lnTo>
                  <a:lnTo>
                    <a:pt x="791" y="40"/>
                  </a:lnTo>
                  <a:lnTo>
                    <a:pt x="780" y="40"/>
                  </a:lnTo>
                  <a:lnTo>
                    <a:pt x="769" y="40"/>
                  </a:lnTo>
                  <a:lnTo>
                    <a:pt x="759" y="39"/>
                  </a:lnTo>
                  <a:lnTo>
                    <a:pt x="750" y="38"/>
                  </a:lnTo>
                  <a:lnTo>
                    <a:pt x="739" y="35"/>
                  </a:lnTo>
                  <a:lnTo>
                    <a:pt x="730" y="32"/>
                  </a:lnTo>
                  <a:lnTo>
                    <a:pt x="721" y="29"/>
                  </a:lnTo>
                  <a:lnTo>
                    <a:pt x="712" y="26"/>
                  </a:lnTo>
                  <a:lnTo>
                    <a:pt x="703" y="23"/>
                  </a:lnTo>
                  <a:lnTo>
                    <a:pt x="694" y="19"/>
                  </a:lnTo>
                  <a:lnTo>
                    <a:pt x="685" y="16"/>
                  </a:lnTo>
                  <a:lnTo>
                    <a:pt x="676" y="13"/>
                  </a:lnTo>
                  <a:lnTo>
                    <a:pt x="668" y="10"/>
                  </a:lnTo>
                  <a:lnTo>
                    <a:pt x="658" y="8"/>
                  </a:lnTo>
                  <a:lnTo>
                    <a:pt x="649" y="6"/>
                  </a:lnTo>
                  <a:lnTo>
                    <a:pt x="640" y="5"/>
                  </a:lnTo>
                  <a:lnTo>
                    <a:pt x="630" y="4"/>
                  </a:lnTo>
                  <a:lnTo>
                    <a:pt x="623" y="5"/>
                  </a:lnTo>
                  <a:lnTo>
                    <a:pt x="615" y="6"/>
                  </a:lnTo>
                  <a:lnTo>
                    <a:pt x="606" y="8"/>
                  </a:lnTo>
                  <a:lnTo>
                    <a:pt x="597" y="10"/>
                  </a:lnTo>
                  <a:lnTo>
                    <a:pt x="587" y="13"/>
                  </a:lnTo>
                  <a:lnTo>
                    <a:pt x="577" y="16"/>
                  </a:lnTo>
                  <a:lnTo>
                    <a:pt x="566" y="20"/>
                  </a:lnTo>
                  <a:lnTo>
                    <a:pt x="556" y="23"/>
                  </a:lnTo>
                  <a:lnTo>
                    <a:pt x="545" y="26"/>
                  </a:lnTo>
                  <a:lnTo>
                    <a:pt x="534" y="29"/>
                  </a:lnTo>
                  <a:lnTo>
                    <a:pt x="522" y="33"/>
                  </a:lnTo>
                  <a:lnTo>
                    <a:pt x="511" y="36"/>
                  </a:lnTo>
                  <a:lnTo>
                    <a:pt x="499" y="38"/>
                  </a:lnTo>
                  <a:lnTo>
                    <a:pt x="488" y="40"/>
                  </a:lnTo>
                  <a:lnTo>
                    <a:pt x="477" y="41"/>
                  </a:lnTo>
                  <a:lnTo>
                    <a:pt x="466" y="42"/>
                  </a:lnTo>
                  <a:lnTo>
                    <a:pt x="455" y="41"/>
                  </a:lnTo>
                  <a:lnTo>
                    <a:pt x="445" y="40"/>
                  </a:lnTo>
                  <a:lnTo>
                    <a:pt x="435" y="38"/>
                  </a:lnTo>
                  <a:lnTo>
                    <a:pt x="425" y="36"/>
                  </a:lnTo>
                  <a:lnTo>
                    <a:pt x="416" y="33"/>
                  </a:lnTo>
                  <a:lnTo>
                    <a:pt x="407" y="30"/>
                  </a:lnTo>
                  <a:lnTo>
                    <a:pt x="398" y="27"/>
                  </a:lnTo>
                  <a:lnTo>
                    <a:pt x="389" y="23"/>
                  </a:lnTo>
                  <a:lnTo>
                    <a:pt x="380" y="20"/>
                  </a:lnTo>
                  <a:lnTo>
                    <a:pt x="372" y="17"/>
                  </a:lnTo>
                  <a:lnTo>
                    <a:pt x="363" y="13"/>
                  </a:lnTo>
                  <a:lnTo>
                    <a:pt x="354" y="11"/>
                  </a:lnTo>
                  <a:lnTo>
                    <a:pt x="345" y="9"/>
                  </a:lnTo>
                  <a:lnTo>
                    <a:pt x="336" y="6"/>
                  </a:lnTo>
                  <a:lnTo>
                    <a:pt x="326" y="6"/>
                  </a:lnTo>
                  <a:lnTo>
                    <a:pt x="317" y="5"/>
                  </a:lnTo>
                  <a:lnTo>
                    <a:pt x="316" y="5"/>
                  </a:lnTo>
                  <a:lnTo>
                    <a:pt x="315" y="5"/>
                  </a:lnTo>
                  <a:lnTo>
                    <a:pt x="314" y="5"/>
                  </a:lnTo>
                  <a:lnTo>
                    <a:pt x="313" y="5"/>
                  </a:lnTo>
                  <a:lnTo>
                    <a:pt x="305" y="5"/>
                  </a:lnTo>
                  <a:lnTo>
                    <a:pt x="297" y="6"/>
                  </a:lnTo>
                  <a:lnTo>
                    <a:pt x="289" y="8"/>
                  </a:lnTo>
                  <a:lnTo>
                    <a:pt x="280" y="10"/>
                  </a:lnTo>
                  <a:lnTo>
                    <a:pt x="271" y="13"/>
                  </a:lnTo>
                  <a:lnTo>
                    <a:pt x="260" y="16"/>
                  </a:lnTo>
                  <a:lnTo>
                    <a:pt x="250" y="19"/>
                  </a:lnTo>
                  <a:lnTo>
                    <a:pt x="239" y="23"/>
                  </a:lnTo>
                  <a:lnTo>
                    <a:pt x="229" y="26"/>
                  </a:lnTo>
                  <a:lnTo>
                    <a:pt x="218" y="29"/>
                  </a:lnTo>
                  <a:lnTo>
                    <a:pt x="206" y="33"/>
                  </a:lnTo>
                  <a:lnTo>
                    <a:pt x="195" y="36"/>
                  </a:lnTo>
                  <a:lnTo>
                    <a:pt x="184" y="38"/>
                  </a:lnTo>
                  <a:lnTo>
                    <a:pt x="173" y="40"/>
                  </a:lnTo>
                  <a:lnTo>
                    <a:pt x="161" y="42"/>
                  </a:lnTo>
                  <a:lnTo>
                    <a:pt x="151" y="42"/>
                  </a:lnTo>
                  <a:lnTo>
                    <a:pt x="139" y="42"/>
                  </a:lnTo>
                  <a:lnTo>
                    <a:pt x="130" y="40"/>
                  </a:lnTo>
                  <a:lnTo>
                    <a:pt x="120" y="39"/>
                  </a:lnTo>
                  <a:lnTo>
                    <a:pt x="110" y="37"/>
                  </a:lnTo>
                  <a:lnTo>
                    <a:pt x="101" y="33"/>
                  </a:lnTo>
                  <a:lnTo>
                    <a:pt x="91" y="31"/>
                  </a:lnTo>
                  <a:lnTo>
                    <a:pt x="82" y="27"/>
                  </a:lnTo>
                  <a:lnTo>
                    <a:pt x="73" y="24"/>
                  </a:lnTo>
                  <a:lnTo>
                    <a:pt x="64" y="21"/>
                  </a:lnTo>
                  <a:lnTo>
                    <a:pt x="55" y="17"/>
                  </a:lnTo>
                  <a:lnTo>
                    <a:pt x="46" y="14"/>
                  </a:lnTo>
                  <a:lnTo>
                    <a:pt x="38" y="12"/>
                  </a:lnTo>
                  <a:lnTo>
                    <a:pt x="28" y="9"/>
                  </a:lnTo>
                  <a:lnTo>
                    <a:pt x="19" y="8"/>
                  </a:lnTo>
                  <a:lnTo>
                    <a:pt x="10" y="6"/>
                  </a:lnTo>
                  <a:lnTo>
                    <a:pt x="1" y="6"/>
                  </a:lnTo>
                  <a:lnTo>
                    <a:pt x="0" y="24"/>
                  </a:lnTo>
                </a:path>
              </a:pathLst>
            </a:custGeom>
            <a:solidFill>
              <a:srgbClr val="aaff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Freeform 23"/>
            <p:cNvSpPr/>
            <p:nvPr/>
          </p:nvSpPr>
          <p:spPr>
            <a:xfrm>
              <a:off x="1001160" y="385920"/>
              <a:ext cx="3560040" cy="98280"/>
            </a:xfrm>
            <a:custGeom>
              <a:avLst/>
              <a:gdLst/>
              <a:ahLst/>
              <a:rect l="l" t="t" r="r" b="b"/>
              <a:pathLst>
                <a:path w="2444" h="62">
                  <a:moveTo>
                    <a:pt x="2442" y="19"/>
                  </a:moveTo>
                  <a:lnTo>
                    <a:pt x="2436" y="19"/>
                  </a:lnTo>
                  <a:lnTo>
                    <a:pt x="2429" y="20"/>
                  </a:lnTo>
                  <a:lnTo>
                    <a:pt x="2421" y="21"/>
                  </a:lnTo>
                  <a:lnTo>
                    <a:pt x="2413" y="23"/>
                  </a:lnTo>
                  <a:lnTo>
                    <a:pt x="2405" y="25"/>
                  </a:lnTo>
                  <a:lnTo>
                    <a:pt x="2396" y="28"/>
                  </a:lnTo>
                  <a:lnTo>
                    <a:pt x="2387" y="31"/>
                  </a:lnTo>
                  <a:lnTo>
                    <a:pt x="2377" y="34"/>
                  </a:lnTo>
                  <a:lnTo>
                    <a:pt x="2366" y="38"/>
                  </a:lnTo>
                  <a:lnTo>
                    <a:pt x="2353" y="42"/>
                  </a:lnTo>
                  <a:lnTo>
                    <a:pt x="2341" y="46"/>
                  </a:lnTo>
                  <a:lnTo>
                    <a:pt x="2328" y="49"/>
                  </a:lnTo>
                  <a:lnTo>
                    <a:pt x="2316" y="52"/>
                  </a:lnTo>
                  <a:lnTo>
                    <a:pt x="2303" y="54"/>
                  </a:lnTo>
                  <a:lnTo>
                    <a:pt x="2291" y="56"/>
                  </a:lnTo>
                  <a:lnTo>
                    <a:pt x="2279" y="56"/>
                  </a:lnTo>
                  <a:lnTo>
                    <a:pt x="2268" y="56"/>
                  </a:lnTo>
                  <a:lnTo>
                    <a:pt x="2258" y="54"/>
                  </a:lnTo>
                  <a:lnTo>
                    <a:pt x="2247" y="53"/>
                  </a:lnTo>
                  <a:lnTo>
                    <a:pt x="2238" y="50"/>
                  </a:lnTo>
                  <a:lnTo>
                    <a:pt x="2229" y="48"/>
                  </a:lnTo>
                  <a:lnTo>
                    <a:pt x="2219" y="45"/>
                  </a:lnTo>
                  <a:lnTo>
                    <a:pt x="2210" y="41"/>
                  </a:lnTo>
                  <a:lnTo>
                    <a:pt x="2201" y="38"/>
                  </a:lnTo>
                  <a:lnTo>
                    <a:pt x="2193" y="34"/>
                  </a:lnTo>
                  <a:lnTo>
                    <a:pt x="2184" y="31"/>
                  </a:lnTo>
                  <a:lnTo>
                    <a:pt x="2174" y="27"/>
                  </a:lnTo>
                  <a:lnTo>
                    <a:pt x="2166" y="25"/>
                  </a:lnTo>
                  <a:lnTo>
                    <a:pt x="2156" y="22"/>
                  </a:lnTo>
                  <a:lnTo>
                    <a:pt x="2148" y="21"/>
                  </a:lnTo>
                  <a:lnTo>
                    <a:pt x="2138" y="19"/>
                  </a:lnTo>
                  <a:lnTo>
                    <a:pt x="2128" y="19"/>
                  </a:lnTo>
                  <a:lnTo>
                    <a:pt x="2121" y="20"/>
                  </a:lnTo>
                  <a:lnTo>
                    <a:pt x="2113" y="21"/>
                  </a:lnTo>
                  <a:lnTo>
                    <a:pt x="2104" y="23"/>
                  </a:lnTo>
                  <a:lnTo>
                    <a:pt x="2095" y="26"/>
                  </a:lnTo>
                  <a:lnTo>
                    <a:pt x="2086" y="28"/>
                  </a:lnTo>
                  <a:lnTo>
                    <a:pt x="2076" y="32"/>
                  </a:lnTo>
                  <a:lnTo>
                    <a:pt x="2066" y="35"/>
                  </a:lnTo>
                  <a:lnTo>
                    <a:pt x="2056" y="38"/>
                  </a:lnTo>
                  <a:lnTo>
                    <a:pt x="2045" y="42"/>
                  </a:lnTo>
                  <a:lnTo>
                    <a:pt x="2034" y="45"/>
                  </a:lnTo>
                  <a:lnTo>
                    <a:pt x="2023" y="48"/>
                  </a:lnTo>
                  <a:lnTo>
                    <a:pt x="2012" y="50"/>
                  </a:lnTo>
                  <a:lnTo>
                    <a:pt x="2002" y="53"/>
                  </a:lnTo>
                  <a:lnTo>
                    <a:pt x="1991" y="54"/>
                  </a:lnTo>
                  <a:lnTo>
                    <a:pt x="1980" y="56"/>
                  </a:lnTo>
                  <a:lnTo>
                    <a:pt x="1969" y="56"/>
                  </a:lnTo>
                  <a:lnTo>
                    <a:pt x="1958" y="56"/>
                  </a:lnTo>
                  <a:lnTo>
                    <a:pt x="1948" y="55"/>
                  </a:lnTo>
                  <a:lnTo>
                    <a:pt x="1938" y="53"/>
                  </a:lnTo>
                  <a:lnTo>
                    <a:pt x="1928" y="51"/>
                  </a:lnTo>
                  <a:lnTo>
                    <a:pt x="1919" y="49"/>
                  </a:lnTo>
                  <a:lnTo>
                    <a:pt x="1910" y="46"/>
                  </a:lnTo>
                  <a:lnTo>
                    <a:pt x="1900" y="43"/>
                  </a:lnTo>
                  <a:lnTo>
                    <a:pt x="1891" y="39"/>
                  </a:lnTo>
                  <a:lnTo>
                    <a:pt x="1882" y="36"/>
                  </a:lnTo>
                  <a:lnTo>
                    <a:pt x="1874" y="33"/>
                  </a:lnTo>
                  <a:lnTo>
                    <a:pt x="1865" y="30"/>
                  </a:lnTo>
                  <a:lnTo>
                    <a:pt x="1855" y="27"/>
                  </a:lnTo>
                  <a:lnTo>
                    <a:pt x="1846" y="25"/>
                  </a:lnTo>
                  <a:lnTo>
                    <a:pt x="1837" y="22"/>
                  </a:lnTo>
                  <a:lnTo>
                    <a:pt x="1827" y="21"/>
                  </a:lnTo>
                  <a:lnTo>
                    <a:pt x="1818" y="20"/>
                  </a:lnTo>
                  <a:lnTo>
                    <a:pt x="1813" y="20"/>
                  </a:lnTo>
                  <a:lnTo>
                    <a:pt x="1808" y="20"/>
                  </a:lnTo>
                  <a:lnTo>
                    <a:pt x="1804" y="21"/>
                  </a:lnTo>
                  <a:lnTo>
                    <a:pt x="1799" y="22"/>
                  </a:lnTo>
                  <a:lnTo>
                    <a:pt x="1793" y="23"/>
                  </a:lnTo>
                  <a:lnTo>
                    <a:pt x="1788" y="24"/>
                  </a:lnTo>
                  <a:lnTo>
                    <a:pt x="1782" y="26"/>
                  </a:lnTo>
                  <a:lnTo>
                    <a:pt x="1776" y="27"/>
                  </a:lnTo>
                  <a:lnTo>
                    <a:pt x="1768" y="30"/>
                  </a:lnTo>
                  <a:lnTo>
                    <a:pt x="1762" y="32"/>
                  </a:lnTo>
                  <a:lnTo>
                    <a:pt x="1755" y="35"/>
                  </a:lnTo>
                  <a:lnTo>
                    <a:pt x="1747" y="37"/>
                  </a:lnTo>
                  <a:lnTo>
                    <a:pt x="1739" y="39"/>
                  </a:lnTo>
                  <a:lnTo>
                    <a:pt x="1732" y="42"/>
                  </a:lnTo>
                  <a:lnTo>
                    <a:pt x="1724" y="44"/>
                  </a:lnTo>
                  <a:lnTo>
                    <a:pt x="1716" y="46"/>
                  </a:lnTo>
                  <a:lnTo>
                    <a:pt x="1708" y="49"/>
                  </a:lnTo>
                  <a:lnTo>
                    <a:pt x="1701" y="50"/>
                  </a:lnTo>
                  <a:lnTo>
                    <a:pt x="1693" y="53"/>
                  </a:lnTo>
                  <a:lnTo>
                    <a:pt x="1685" y="54"/>
                  </a:lnTo>
                  <a:lnTo>
                    <a:pt x="1677" y="56"/>
                  </a:lnTo>
                  <a:lnTo>
                    <a:pt x="1669" y="56"/>
                  </a:lnTo>
                  <a:lnTo>
                    <a:pt x="1662" y="57"/>
                  </a:lnTo>
                  <a:lnTo>
                    <a:pt x="1654" y="58"/>
                  </a:lnTo>
                  <a:lnTo>
                    <a:pt x="1643" y="58"/>
                  </a:lnTo>
                  <a:lnTo>
                    <a:pt x="1633" y="56"/>
                  </a:lnTo>
                  <a:lnTo>
                    <a:pt x="1623" y="54"/>
                  </a:lnTo>
                  <a:lnTo>
                    <a:pt x="1614" y="53"/>
                  </a:lnTo>
                  <a:lnTo>
                    <a:pt x="1604" y="50"/>
                  </a:lnTo>
                  <a:lnTo>
                    <a:pt x="1596" y="48"/>
                  </a:lnTo>
                  <a:lnTo>
                    <a:pt x="1586" y="44"/>
                  </a:lnTo>
                  <a:lnTo>
                    <a:pt x="1577" y="41"/>
                  </a:lnTo>
                  <a:lnTo>
                    <a:pt x="1569" y="38"/>
                  </a:lnTo>
                  <a:lnTo>
                    <a:pt x="1559" y="35"/>
                  </a:lnTo>
                  <a:lnTo>
                    <a:pt x="1551" y="32"/>
                  </a:lnTo>
                  <a:lnTo>
                    <a:pt x="1542" y="29"/>
                  </a:lnTo>
                  <a:lnTo>
                    <a:pt x="1533" y="26"/>
                  </a:lnTo>
                  <a:lnTo>
                    <a:pt x="1524" y="24"/>
                  </a:lnTo>
                  <a:lnTo>
                    <a:pt x="1514" y="22"/>
                  </a:lnTo>
                  <a:lnTo>
                    <a:pt x="1505" y="21"/>
                  </a:lnTo>
                  <a:lnTo>
                    <a:pt x="1504" y="21"/>
                  </a:lnTo>
                  <a:lnTo>
                    <a:pt x="1503" y="21"/>
                  </a:lnTo>
                  <a:lnTo>
                    <a:pt x="1501" y="21"/>
                  </a:lnTo>
                  <a:lnTo>
                    <a:pt x="1493" y="21"/>
                  </a:lnTo>
                  <a:lnTo>
                    <a:pt x="1485" y="22"/>
                  </a:lnTo>
                  <a:lnTo>
                    <a:pt x="1477" y="23"/>
                  </a:lnTo>
                  <a:lnTo>
                    <a:pt x="1468" y="26"/>
                  </a:lnTo>
                  <a:lnTo>
                    <a:pt x="1459" y="28"/>
                  </a:lnTo>
                  <a:lnTo>
                    <a:pt x="1448" y="32"/>
                  </a:lnTo>
                  <a:lnTo>
                    <a:pt x="1439" y="35"/>
                  </a:lnTo>
                  <a:lnTo>
                    <a:pt x="1428" y="38"/>
                  </a:lnTo>
                  <a:lnTo>
                    <a:pt x="1417" y="42"/>
                  </a:lnTo>
                  <a:lnTo>
                    <a:pt x="1406" y="45"/>
                  </a:lnTo>
                  <a:lnTo>
                    <a:pt x="1394" y="49"/>
                  </a:lnTo>
                  <a:lnTo>
                    <a:pt x="1383" y="52"/>
                  </a:lnTo>
                  <a:lnTo>
                    <a:pt x="1372" y="54"/>
                  </a:lnTo>
                  <a:lnTo>
                    <a:pt x="1361" y="56"/>
                  </a:lnTo>
                  <a:lnTo>
                    <a:pt x="1349" y="57"/>
                  </a:lnTo>
                  <a:lnTo>
                    <a:pt x="1339" y="58"/>
                  </a:lnTo>
                  <a:lnTo>
                    <a:pt x="1328" y="58"/>
                  </a:lnTo>
                  <a:lnTo>
                    <a:pt x="1318" y="56"/>
                  </a:lnTo>
                  <a:lnTo>
                    <a:pt x="1307" y="54"/>
                  </a:lnTo>
                  <a:lnTo>
                    <a:pt x="1298" y="52"/>
                  </a:lnTo>
                  <a:lnTo>
                    <a:pt x="1289" y="50"/>
                  </a:lnTo>
                  <a:lnTo>
                    <a:pt x="1279" y="47"/>
                  </a:lnTo>
                  <a:lnTo>
                    <a:pt x="1270" y="44"/>
                  </a:lnTo>
                  <a:lnTo>
                    <a:pt x="1261" y="40"/>
                  </a:lnTo>
                  <a:lnTo>
                    <a:pt x="1252" y="38"/>
                  </a:lnTo>
                  <a:lnTo>
                    <a:pt x="1243" y="34"/>
                  </a:lnTo>
                  <a:lnTo>
                    <a:pt x="1234" y="31"/>
                  </a:lnTo>
                  <a:lnTo>
                    <a:pt x="1225" y="28"/>
                  </a:lnTo>
                  <a:lnTo>
                    <a:pt x="1216" y="26"/>
                  </a:lnTo>
                  <a:lnTo>
                    <a:pt x="1206" y="24"/>
                  </a:lnTo>
                  <a:lnTo>
                    <a:pt x="1197" y="22"/>
                  </a:lnTo>
                  <a:lnTo>
                    <a:pt x="1187" y="22"/>
                  </a:lnTo>
                  <a:lnTo>
                    <a:pt x="1180" y="22"/>
                  </a:lnTo>
                  <a:lnTo>
                    <a:pt x="1172" y="23"/>
                  </a:lnTo>
                  <a:lnTo>
                    <a:pt x="1163" y="24"/>
                  </a:lnTo>
                  <a:lnTo>
                    <a:pt x="1154" y="26"/>
                  </a:lnTo>
                  <a:lnTo>
                    <a:pt x="1145" y="29"/>
                  </a:lnTo>
                  <a:lnTo>
                    <a:pt x="1134" y="32"/>
                  </a:lnTo>
                  <a:lnTo>
                    <a:pt x="1124" y="36"/>
                  </a:lnTo>
                  <a:lnTo>
                    <a:pt x="1113" y="39"/>
                  </a:lnTo>
                  <a:lnTo>
                    <a:pt x="1103" y="43"/>
                  </a:lnTo>
                  <a:lnTo>
                    <a:pt x="1091" y="46"/>
                  </a:lnTo>
                  <a:lnTo>
                    <a:pt x="1080" y="49"/>
                  </a:lnTo>
                  <a:lnTo>
                    <a:pt x="1069" y="52"/>
                  </a:lnTo>
                  <a:lnTo>
                    <a:pt x="1057" y="54"/>
                  </a:lnTo>
                  <a:lnTo>
                    <a:pt x="1046" y="57"/>
                  </a:lnTo>
                  <a:lnTo>
                    <a:pt x="1035" y="58"/>
                  </a:lnTo>
                  <a:lnTo>
                    <a:pt x="1024" y="59"/>
                  </a:lnTo>
                  <a:lnTo>
                    <a:pt x="1013" y="59"/>
                  </a:lnTo>
                  <a:lnTo>
                    <a:pt x="1003" y="58"/>
                  </a:lnTo>
                  <a:lnTo>
                    <a:pt x="993" y="56"/>
                  </a:lnTo>
                  <a:lnTo>
                    <a:pt x="983" y="53"/>
                  </a:lnTo>
                  <a:lnTo>
                    <a:pt x="974" y="51"/>
                  </a:lnTo>
                  <a:lnTo>
                    <a:pt x="964" y="48"/>
                  </a:lnTo>
                  <a:lnTo>
                    <a:pt x="955" y="45"/>
                  </a:lnTo>
                  <a:lnTo>
                    <a:pt x="946" y="42"/>
                  </a:lnTo>
                  <a:lnTo>
                    <a:pt x="938" y="38"/>
                  </a:lnTo>
                  <a:lnTo>
                    <a:pt x="928" y="35"/>
                  </a:lnTo>
                  <a:lnTo>
                    <a:pt x="920" y="32"/>
                  </a:lnTo>
                  <a:lnTo>
                    <a:pt x="911" y="29"/>
                  </a:lnTo>
                  <a:lnTo>
                    <a:pt x="901" y="26"/>
                  </a:lnTo>
                  <a:lnTo>
                    <a:pt x="892" y="25"/>
                  </a:lnTo>
                  <a:lnTo>
                    <a:pt x="883" y="23"/>
                  </a:lnTo>
                  <a:lnTo>
                    <a:pt x="873" y="22"/>
                  </a:lnTo>
                  <a:lnTo>
                    <a:pt x="866" y="22"/>
                  </a:lnTo>
                  <a:lnTo>
                    <a:pt x="858" y="23"/>
                  </a:lnTo>
                  <a:lnTo>
                    <a:pt x="849" y="25"/>
                  </a:lnTo>
                  <a:lnTo>
                    <a:pt x="840" y="27"/>
                  </a:lnTo>
                  <a:lnTo>
                    <a:pt x="831" y="30"/>
                  </a:lnTo>
                  <a:lnTo>
                    <a:pt x="821" y="34"/>
                  </a:lnTo>
                  <a:lnTo>
                    <a:pt x="810" y="36"/>
                  </a:lnTo>
                  <a:lnTo>
                    <a:pt x="799" y="40"/>
                  </a:lnTo>
                  <a:lnTo>
                    <a:pt x="788" y="44"/>
                  </a:lnTo>
                  <a:lnTo>
                    <a:pt x="777" y="47"/>
                  </a:lnTo>
                  <a:lnTo>
                    <a:pt x="765" y="50"/>
                  </a:lnTo>
                  <a:lnTo>
                    <a:pt x="754" y="53"/>
                  </a:lnTo>
                  <a:lnTo>
                    <a:pt x="743" y="56"/>
                  </a:lnTo>
                  <a:lnTo>
                    <a:pt x="731" y="58"/>
                  </a:lnTo>
                  <a:lnTo>
                    <a:pt x="720" y="59"/>
                  </a:lnTo>
                  <a:lnTo>
                    <a:pt x="709" y="59"/>
                  </a:lnTo>
                  <a:lnTo>
                    <a:pt x="698" y="59"/>
                  </a:lnTo>
                  <a:lnTo>
                    <a:pt x="688" y="58"/>
                  </a:lnTo>
                  <a:lnTo>
                    <a:pt x="678" y="56"/>
                  </a:lnTo>
                  <a:lnTo>
                    <a:pt x="669" y="54"/>
                  </a:lnTo>
                  <a:lnTo>
                    <a:pt x="659" y="52"/>
                  </a:lnTo>
                  <a:lnTo>
                    <a:pt x="650" y="49"/>
                  </a:lnTo>
                  <a:lnTo>
                    <a:pt x="641" y="46"/>
                  </a:lnTo>
                  <a:lnTo>
                    <a:pt x="632" y="43"/>
                  </a:lnTo>
                  <a:lnTo>
                    <a:pt x="624" y="39"/>
                  </a:lnTo>
                  <a:lnTo>
                    <a:pt x="615" y="36"/>
                  </a:lnTo>
                  <a:lnTo>
                    <a:pt x="606" y="34"/>
                  </a:lnTo>
                  <a:lnTo>
                    <a:pt x="597" y="31"/>
                  </a:lnTo>
                  <a:lnTo>
                    <a:pt x="588" y="27"/>
                  </a:lnTo>
                  <a:lnTo>
                    <a:pt x="579" y="26"/>
                  </a:lnTo>
                  <a:lnTo>
                    <a:pt x="569" y="24"/>
                  </a:lnTo>
                  <a:lnTo>
                    <a:pt x="560" y="23"/>
                  </a:lnTo>
                  <a:lnTo>
                    <a:pt x="559" y="23"/>
                  </a:lnTo>
                  <a:lnTo>
                    <a:pt x="558" y="23"/>
                  </a:lnTo>
                  <a:lnTo>
                    <a:pt x="557" y="23"/>
                  </a:lnTo>
                  <a:lnTo>
                    <a:pt x="549" y="23"/>
                  </a:lnTo>
                  <a:lnTo>
                    <a:pt x="541" y="24"/>
                  </a:lnTo>
                  <a:lnTo>
                    <a:pt x="533" y="26"/>
                  </a:lnTo>
                  <a:lnTo>
                    <a:pt x="524" y="27"/>
                  </a:lnTo>
                  <a:lnTo>
                    <a:pt x="514" y="31"/>
                  </a:lnTo>
                  <a:lnTo>
                    <a:pt x="504" y="34"/>
                  </a:lnTo>
                  <a:lnTo>
                    <a:pt x="493" y="37"/>
                  </a:lnTo>
                  <a:lnTo>
                    <a:pt x="483" y="40"/>
                  </a:lnTo>
                  <a:lnTo>
                    <a:pt x="472" y="44"/>
                  </a:lnTo>
                  <a:lnTo>
                    <a:pt x="461" y="48"/>
                  </a:lnTo>
                  <a:lnTo>
                    <a:pt x="449" y="50"/>
                  </a:lnTo>
                  <a:lnTo>
                    <a:pt x="438" y="53"/>
                  </a:lnTo>
                  <a:lnTo>
                    <a:pt x="427" y="56"/>
                  </a:lnTo>
                  <a:lnTo>
                    <a:pt x="416" y="58"/>
                  </a:lnTo>
                  <a:lnTo>
                    <a:pt x="404" y="59"/>
                  </a:lnTo>
                  <a:lnTo>
                    <a:pt x="393" y="60"/>
                  </a:lnTo>
                  <a:lnTo>
                    <a:pt x="383" y="60"/>
                  </a:lnTo>
                  <a:lnTo>
                    <a:pt x="372" y="59"/>
                  </a:lnTo>
                  <a:lnTo>
                    <a:pt x="363" y="57"/>
                  </a:lnTo>
                  <a:lnTo>
                    <a:pt x="353" y="54"/>
                  </a:lnTo>
                  <a:lnTo>
                    <a:pt x="343" y="52"/>
                  </a:lnTo>
                  <a:lnTo>
                    <a:pt x="334" y="49"/>
                  </a:lnTo>
                  <a:lnTo>
                    <a:pt x="325" y="46"/>
                  </a:lnTo>
                  <a:lnTo>
                    <a:pt x="316" y="43"/>
                  </a:lnTo>
                  <a:lnTo>
                    <a:pt x="307" y="40"/>
                  </a:lnTo>
                  <a:lnTo>
                    <a:pt x="298" y="36"/>
                  </a:lnTo>
                  <a:lnTo>
                    <a:pt x="289" y="34"/>
                  </a:lnTo>
                  <a:lnTo>
                    <a:pt x="280" y="31"/>
                  </a:lnTo>
                  <a:lnTo>
                    <a:pt x="271" y="28"/>
                  </a:lnTo>
                  <a:lnTo>
                    <a:pt x="261" y="26"/>
                  </a:lnTo>
                  <a:lnTo>
                    <a:pt x="252" y="25"/>
                  </a:lnTo>
                  <a:lnTo>
                    <a:pt x="242" y="23"/>
                  </a:lnTo>
                  <a:lnTo>
                    <a:pt x="235" y="23"/>
                  </a:lnTo>
                  <a:lnTo>
                    <a:pt x="227" y="25"/>
                  </a:lnTo>
                  <a:lnTo>
                    <a:pt x="218" y="26"/>
                  </a:lnTo>
                  <a:lnTo>
                    <a:pt x="209" y="29"/>
                  </a:lnTo>
                  <a:lnTo>
                    <a:pt x="200" y="31"/>
                  </a:lnTo>
                  <a:lnTo>
                    <a:pt x="189" y="35"/>
                  </a:lnTo>
                  <a:lnTo>
                    <a:pt x="180" y="38"/>
                  </a:lnTo>
                  <a:lnTo>
                    <a:pt x="168" y="41"/>
                  </a:lnTo>
                  <a:lnTo>
                    <a:pt x="158" y="45"/>
                  </a:lnTo>
                  <a:lnTo>
                    <a:pt x="146" y="49"/>
                  </a:lnTo>
                  <a:lnTo>
                    <a:pt x="135" y="52"/>
                  </a:lnTo>
                  <a:lnTo>
                    <a:pt x="124" y="54"/>
                  </a:lnTo>
                  <a:lnTo>
                    <a:pt x="112" y="57"/>
                  </a:lnTo>
                  <a:lnTo>
                    <a:pt x="101" y="59"/>
                  </a:lnTo>
                  <a:lnTo>
                    <a:pt x="90" y="60"/>
                  </a:lnTo>
                  <a:lnTo>
                    <a:pt x="79" y="61"/>
                  </a:lnTo>
                  <a:lnTo>
                    <a:pt x="68" y="60"/>
                  </a:lnTo>
                  <a:lnTo>
                    <a:pt x="57" y="59"/>
                  </a:lnTo>
                  <a:lnTo>
                    <a:pt x="47" y="58"/>
                  </a:lnTo>
                  <a:lnTo>
                    <a:pt x="37" y="55"/>
                  </a:lnTo>
                  <a:lnTo>
                    <a:pt x="28" y="52"/>
                  </a:lnTo>
                  <a:lnTo>
                    <a:pt x="19" y="49"/>
                  </a:lnTo>
                  <a:lnTo>
                    <a:pt x="9" y="46"/>
                  </a:lnTo>
                  <a:lnTo>
                    <a:pt x="0" y="42"/>
                  </a:lnTo>
                  <a:lnTo>
                    <a:pt x="0" y="38"/>
                  </a:lnTo>
                  <a:lnTo>
                    <a:pt x="0" y="34"/>
                  </a:lnTo>
                  <a:lnTo>
                    <a:pt x="0" y="29"/>
                  </a:lnTo>
                  <a:lnTo>
                    <a:pt x="0" y="23"/>
                  </a:lnTo>
                  <a:lnTo>
                    <a:pt x="9" y="26"/>
                  </a:lnTo>
                  <a:lnTo>
                    <a:pt x="18" y="30"/>
                  </a:lnTo>
                  <a:lnTo>
                    <a:pt x="27" y="34"/>
                  </a:lnTo>
                  <a:lnTo>
                    <a:pt x="37" y="36"/>
                  </a:lnTo>
                  <a:lnTo>
                    <a:pt x="47" y="39"/>
                  </a:lnTo>
                  <a:lnTo>
                    <a:pt x="57" y="40"/>
                  </a:lnTo>
                  <a:lnTo>
                    <a:pt x="68" y="42"/>
                  </a:lnTo>
                  <a:lnTo>
                    <a:pt x="79" y="42"/>
                  </a:lnTo>
                  <a:lnTo>
                    <a:pt x="90" y="42"/>
                  </a:lnTo>
                  <a:lnTo>
                    <a:pt x="101" y="40"/>
                  </a:lnTo>
                  <a:lnTo>
                    <a:pt x="112" y="39"/>
                  </a:lnTo>
                  <a:lnTo>
                    <a:pt x="124" y="36"/>
                  </a:lnTo>
                  <a:lnTo>
                    <a:pt x="135" y="34"/>
                  </a:lnTo>
                  <a:lnTo>
                    <a:pt x="147" y="30"/>
                  </a:lnTo>
                  <a:lnTo>
                    <a:pt x="158" y="26"/>
                  </a:lnTo>
                  <a:lnTo>
                    <a:pt x="168" y="23"/>
                  </a:lnTo>
                  <a:lnTo>
                    <a:pt x="180" y="19"/>
                  </a:lnTo>
                  <a:lnTo>
                    <a:pt x="190" y="17"/>
                  </a:lnTo>
                  <a:lnTo>
                    <a:pt x="201" y="13"/>
                  </a:lnTo>
                  <a:lnTo>
                    <a:pt x="210" y="10"/>
                  </a:lnTo>
                  <a:lnTo>
                    <a:pt x="219" y="8"/>
                  </a:lnTo>
                  <a:lnTo>
                    <a:pt x="228" y="6"/>
                  </a:lnTo>
                  <a:lnTo>
                    <a:pt x="236" y="5"/>
                  </a:lnTo>
                  <a:lnTo>
                    <a:pt x="243" y="5"/>
                  </a:lnTo>
                  <a:lnTo>
                    <a:pt x="252" y="5"/>
                  </a:lnTo>
                  <a:lnTo>
                    <a:pt x="262" y="7"/>
                  </a:lnTo>
                  <a:lnTo>
                    <a:pt x="271" y="8"/>
                  </a:lnTo>
                  <a:lnTo>
                    <a:pt x="280" y="11"/>
                  </a:lnTo>
                  <a:lnTo>
                    <a:pt x="289" y="13"/>
                  </a:lnTo>
                  <a:lnTo>
                    <a:pt x="298" y="17"/>
                  </a:lnTo>
                  <a:lnTo>
                    <a:pt x="308" y="20"/>
                  </a:lnTo>
                  <a:lnTo>
                    <a:pt x="316" y="23"/>
                  </a:lnTo>
                  <a:lnTo>
                    <a:pt x="326" y="26"/>
                  </a:lnTo>
                  <a:lnTo>
                    <a:pt x="334" y="30"/>
                  </a:lnTo>
                  <a:lnTo>
                    <a:pt x="343" y="33"/>
                  </a:lnTo>
                  <a:lnTo>
                    <a:pt x="353" y="36"/>
                  </a:lnTo>
                  <a:lnTo>
                    <a:pt x="363" y="38"/>
                  </a:lnTo>
                  <a:lnTo>
                    <a:pt x="372" y="40"/>
                  </a:lnTo>
                  <a:lnTo>
                    <a:pt x="383" y="40"/>
                  </a:lnTo>
                  <a:lnTo>
                    <a:pt x="393" y="41"/>
                  </a:lnTo>
                  <a:lnTo>
                    <a:pt x="404" y="40"/>
                  </a:lnTo>
                  <a:lnTo>
                    <a:pt x="416" y="39"/>
                  </a:lnTo>
                  <a:lnTo>
                    <a:pt x="427" y="38"/>
                  </a:lnTo>
                  <a:lnTo>
                    <a:pt x="438" y="35"/>
                  </a:lnTo>
                  <a:lnTo>
                    <a:pt x="449" y="32"/>
                  </a:lnTo>
                  <a:lnTo>
                    <a:pt x="461" y="29"/>
                  </a:lnTo>
                  <a:lnTo>
                    <a:pt x="472" y="25"/>
                  </a:lnTo>
                  <a:lnTo>
                    <a:pt x="483" y="22"/>
                  </a:lnTo>
                  <a:lnTo>
                    <a:pt x="493" y="18"/>
                  </a:lnTo>
                  <a:lnTo>
                    <a:pt x="504" y="15"/>
                  </a:lnTo>
                  <a:lnTo>
                    <a:pt x="514" y="12"/>
                  </a:lnTo>
                  <a:lnTo>
                    <a:pt x="523" y="9"/>
                  </a:lnTo>
                  <a:lnTo>
                    <a:pt x="532" y="7"/>
                  </a:lnTo>
                  <a:lnTo>
                    <a:pt x="541" y="5"/>
                  </a:lnTo>
                  <a:lnTo>
                    <a:pt x="549" y="4"/>
                  </a:lnTo>
                  <a:lnTo>
                    <a:pt x="556" y="4"/>
                  </a:lnTo>
                  <a:lnTo>
                    <a:pt x="557" y="4"/>
                  </a:lnTo>
                  <a:lnTo>
                    <a:pt x="558" y="4"/>
                  </a:lnTo>
                  <a:lnTo>
                    <a:pt x="560" y="4"/>
                  </a:lnTo>
                  <a:lnTo>
                    <a:pt x="569" y="5"/>
                  </a:lnTo>
                  <a:lnTo>
                    <a:pt x="579" y="5"/>
                  </a:lnTo>
                  <a:lnTo>
                    <a:pt x="588" y="8"/>
                  </a:lnTo>
                  <a:lnTo>
                    <a:pt x="597" y="10"/>
                  </a:lnTo>
                  <a:lnTo>
                    <a:pt x="606" y="12"/>
                  </a:lnTo>
                  <a:lnTo>
                    <a:pt x="615" y="16"/>
                  </a:lnTo>
                  <a:lnTo>
                    <a:pt x="624" y="19"/>
                  </a:lnTo>
                  <a:lnTo>
                    <a:pt x="632" y="22"/>
                  </a:lnTo>
                  <a:lnTo>
                    <a:pt x="641" y="26"/>
                  </a:lnTo>
                  <a:lnTo>
                    <a:pt x="650" y="29"/>
                  </a:lnTo>
                  <a:lnTo>
                    <a:pt x="659" y="33"/>
                  </a:lnTo>
                  <a:lnTo>
                    <a:pt x="669" y="35"/>
                  </a:lnTo>
                  <a:lnTo>
                    <a:pt x="678" y="38"/>
                  </a:lnTo>
                  <a:lnTo>
                    <a:pt x="688" y="40"/>
                  </a:lnTo>
                  <a:lnTo>
                    <a:pt x="698" y="40"/>
                  </a:lnTo>
                  <a:lnTo>
                    <a:pt x="709" y="41"/>
                  </a:lnTo>
                  <a:lnTo>
                    <a:pt x="720" y="40"/>
                  </a:lnTo>
                  <a:lnTo>
                    <a:pt x="731" y="39"/>
                  </a:lnTo>
                  <a:lnTo>
                    <a:pt x="742" y="38"/>
                  </a:lnTo>
                  <a:lnTo>
                    <a:pt x="754" y="35"/>
                  </a:lnTo>
                  <a:lnTo>
                    <a:pt x="765" y="32"/>
                  </a:lnTo>
                  <a:lnTo>
                    <a:pt x="777" y="29"/>
                  </a:lnTo>
                  <a:lnTo>
                    <a:pt x="788" y="25"/>
                  </a:lnTo>
                  <a:lnTo>
                    <a:pt x="799" y="22"/>
                  </a:lnTo>
                  <a:lnTo>
                    <a:pt x="810" y="19"/>
                  </a:lnTo>
                  <a:lnTo>
                    <a:pt x="821" y="15"/>
                  </a:lnTo>
                  <a:lnTo>
                    <a:pt x="831" y="12"/>
                  </a:lnTo>
                  <a:lnTo>
                    <a:pt x="840" y="9"/>
                  </a:lnTo>
                  <a:lnTo>
                    <a:pt x="849" y="7"/>
                  </a:lnTo>
                  <a:lnTo>
                    <a:pt x="858" y="5"/>
                  </a:lnTo>
                  <a:lnTo>
                    <a:pt x="866" y="4"/>
                  </a:lnTo>
                  <a:lnTo>
                    <a:pt x="873" y="3"/>
                  </a:lnTo>
                  <a:lnTo>
                    <a:pt x="883" y="4"/>
                  </a:lnTo>
                  <a:lnTo>
                    <a:pt x="892" y="4"/>
                  </a:lnTo>
                  <a:lnTo>
                    <a:pt x="901" y="7"/>
                  </a:lnTo>
                  <a:lnTo>
                    <a:pt x="910" y="9"/>
                  </a:lnTo>
                  <a:lnTo>
                    <a:pt x="920" y="11"/>
                  </a:lnTo>
                  <a:lnTo>
                    <a:pt x="928" y="15"/>
                  </a:lnTo>
                  <a:lnTo>
                    <a:pt x="937" y="18"/>
                  </a:lnTo>
                  <a:lnTo>
                    <a:pt x="946" y="21"/>
                  </a:lnTo>
                  <a:lnTo>
                    <a:pt x="955" y="25"/>
                  </a:lnTo>
                  <a:lnTo>
                    <a:pt x="964" y="28"/>
                  </a:lnTo>
                  <a:lnTo>
                    <a:pt x="973" y="32"/>
                  </a:lnTo>
                  <a:lnTo>
                    <a:pt x="983" y="34"/>
                  </a:lnTo>
                  <a:lnTo>
                    <a:pt x="992" y="36"/>
                  </a:lnTo>
                  <a:lnTo>
                    <a:pt x="1002" y="39"/>
                  </a:lnTo>
                  <a:lnTo>
                    <a:pt x="1012" y="39"/>
                  </a:lnTo>
                  <a:lnTo>
                    <a:pt x="1023" y="40"/>
                  </a:lnTo>
                  <a:lnTo>
                    <a:pt x="1034" y="39"/>
                  </a:lnTo>
                  <a:lnTo>
                    <a:pt x="1046" y="38"/>
                  </a:lnTo>
                  <a:lnTo>
                    <a:pt x="1057" y="36"/>
                  </a:lnTo>
                  <a:lnTo>
                    <a:pt x="1068" y="34"/>
                  </a:lnTo>
                  <a:lnTo>
                    <a:pt x="1080" y="31"/>
                  </a:lnTo>
                  <a:lnTo>
                    <a:pt x="1091" y="27"/>
                  </a:lnTo>
                  <a:lnTo>
                    <a:pt x="1102" y="25"/>
                  </a:lnTo>
                  <a:lnTo>
                    <a:pt x="1113" y="21"/>
                  </a:lnTo>
                  <a:lnTo>
                    <a:pt x="1124" y="18"/>
                  </a:lnTo>
                  <a:lnTo>
                    <a:pt x="1134" y="14"/>
                  </a:lnTo>
                  <a:lnTo>
                    <a:pt x="1145" y="11"/>
                  </a:lnTo>
                  <a:lnTo>
                    <a:pt x="1154" y="8"/>
                  </a:lnTo>
                  <a:lnTo>
                    <a:pt x="1163" y="6"/>
                  </a:lnTo>
                  <a:lnTo>
                    <a:pt x="1172" y="4"/>
                  </a:lnTo>
                  <a:lnTo>
                    <a:pt x="1180" y="3"/>
                  </a:lnTo>
                  <a:lnTo>
                    <a:pt x="1187" y="3"/>
                  </a:lnTo>
                  <a:lnTo>
                    <a:pt x="1197" y="3"/>
                  </a:lnTo>
                  <a:lnTo>
                    <a:pt x="1206" y="4"/>
                  </a:lnTo>
                  <a:lnTo>
                    <a:pt x="1216" y="6"/>
                  </a:lnTo>
                  <a:lnTo>
                    <a:pt x="1225" y="8"/>
                  </a:lnTo>
                  <a:lnTo>
                    <a:pt x="1234" y="11"/>
                  </a:lnTo>
                  <a:lnTo>
                    <a:pt x="1243" y="14"/>
                  </a:lnTo>
                  <a:lnTo>
                    <a:pt x="1252" y="18"/>
                  </a:lnTo>
                  <a:lnTo>
                    <a:pt x="1261" y="21"/>
                  </a:lnTo>
                  <a:lnTo>
                    <a:pt x="1270" y="25"/>
                  </a:lnTo>
                  <a:lnTo>
                    <a:pt x="1279" y="28"/>
                  </a:lnTo>
                  <a:lnTo>
                    <a:pt x="1289" y="31"/>
                  </a:lnTo>
                  <a:lnTo>
                    <a:pt x="1298" y="34"/>
                  </a:lnTo>
                  <a:lnTo>
                    <a:pt x="1307" y="36"/>
                  </a:lnTo>
                  <a:lnTo>
                    <a:pt x="1318" y="38"/>
                  </a:lnTo>
                  <a:lnTo>
                    <a:pt x="1328" y="39"/>
                  </a:lnTo>
                  <a:lnTo>
                    <a:pt x="1339" y="39"/>
                  </a:lnTo>
                  <a:lnTo>
                    <a:pt x="1349" y="39"/>
                  </a:lnTo>
                  <a:lnTo>
                    <a:pt x="1361" y="38"/>
                  </a:lnTo>
                  <a:lnTo>
                    <a:pt x="1372" y="35"/>
                  </a:lnTo>
                  <a:lnTo>
                    <a:pt x="1383" y="33"/>
                  </a:lnTo>
                  <a:lnTo>
                    <a:pt x="1394" y="30"/>
                  </a:lnTo>
                  <a:lnTo>
                    <a:pt x="1406" y="26"/>
                  </a:lnTo>
                  <a:lnTo>
                    <a:pt x="1417" y="23"/>
                  </a:lnTo>
                  <a:lnTo>
                    <a:pt x="1428" y="19"/>
                  </a:lnTo>
                  <a:lnTo>
                    <a:pt x="1439" y="16"/>
                  </a:lnTo>
                  <a:lnTo>
                    <a:pt x="1448" y="12"/>
                  </a:lnTo>
                  <a:lnTo>
                    <a:pt x="1459" y="9"/>
                  </a:lnTo>
                  <a:lnTo>
                    <a:pt x="1468" y="7"/>
                  </a:lnTo>
                  <a:lnTo>
                    <a:pt x="1477" y="4"/>
                  </a:lnTo>
                  <a:lnTo>
                    <a:pt x="1485" y="3"/>
                  </a:lnTo>
                  <a:lnTo>
                    <a:pt x="1493" y="2"/>
                  </a:lnTo>
                  <a:lnTo>
                    <a:pt x="1501" y="2"/>
                  </a:lnTo>
                  <a:lnTo>
                    <a:pt x="1503" y="2"/>
                  </a:lnTo>
                  <a:lnTo>
                    <a:pt x="1504" y="2"/>
                  </a:lnTo>
                  <a:lnTo>
                    <a:pt x="1505" y="2"/>
                  </a:lnTo>
                  <a:lnTo>
                    <a:pt x="1514" y="3"/>
                  </a:lnTo>
                  <a:lnTo>
                    <a:pt x="1524" y="3"/>
                  </a:lnTo>
                  <a:lnTo>
                    <a:pt x="1533" y="5"/>
                  </a:lnTo>
                  <a:lnTo>
                    <a:pt x="1542" y="8"/>
                  </a:lnTo>
                  <a:lnTo>
                    <a:pt x="1551" y="10"/>
                  </a:lnTo>
                  <a:lnTo>
                    <a:pt x="1559" y="13"/>
                  </a:lnTo>
                  <a:lnTo>
                    <a:pt x="1569" y="17"/>
                  </a:lnTo>
                  <a:lnTo>
                    <a:pt x="1577" y="20"/>
                  </a:lnTo>
                  <a:lnTo>
                    <a:pt x="1586" y="23"/>
                  </a:lnTo>
                  <a:lnTo>
                    <a:pt x="1596" y="27"/>
                  </a:lnTo>
                  <a:lnTo>
                    <a:pt x="1604" y="31"/>
                  </a:lnTo>
                  <a:lnTo>
                    <a:pt x="1614" y="33"/>
                  </a:lnTo>
                  <a:lnTo>
                    <a:pt x="1623" y="35"/>
                  </a:lnTo>
                  <a:lnTo>
                    <a:pt x="1633" y="38"/>
                  </a:lnTo>
                  <a:lnTo>
                    <a:pt x="1643" y="38"/>
                  </a:lnTo>
                  <a:lnTo>
                    <a:pt x="1654" y="39"/>
                  </a:lnTo>
                  <a:lnTo>
                    <a:pt x="1661" y="39"/>
                  </a:lnTo>
                  <a:lnTo>
                    <a:pt x="1669" y="38"/>
                  </a:lnTo>
                  <a:lnTo>
                    <a:pt x="1677" y="37"/>
                  </a:lnTo>
                  <a:lnTo>
                    <a:pt x="1684" y="36"/>
                  </a:lnTo>
                  <a:lnTo>
                    <a:pt x="1692" y="34"/>
                  </a:lnTo>
                  <a:lnTo>
                    <a:pt x="1700" y="32"/>
                  </a:lnTo>
                  <a:lnTo>
                    <a:pt x="1708" y="31"/>
                  </a:lnTo>
                  <a:lnTo>
                    <a:pt x="1716" y="28"/>
                  </a:lnTo>
                  <a:lnTo>
                    <a:pt x="1724" y="26"/>
                  </a:lnTo>
                  <a:lnTo>
                    <a:pt x="1732" y="23"/>
                  </a:lnTo>
                  <a:lnTo>
                    <a:pt x="1739" y="21"/>
                  </a:lnTo>
                  <a:lnTo>
                    <a:pt x="1747" y="19"/>
                  </a:lnTo>
                  <a:lnTo>
                    <a:pt x="1755" y="17"/>
                  </a:lnTo>
                  <a:lnTo>
                    <a:pt x="1762" y="14"/>
                  </a:lnTo>
                  <a:lnTo>
                    <a:pt x="1768" y="12"/>
                  </a:lnTo>
                  <a:lnTo>
                    <a:pt x="1776" y="9"/>
                  </a:lnTo>
                  <a:lnTo>
                    <a:pt x="1782" y="8"/>
                  </a:lnTo>
                  <a:lnTo>
                    <a:pt x="1788" y="6"/>
                  </a:lnTo>
                  <a:lnTo>
                    <a:pt x="1794" y="5"/>
                  </a:lnTo>
                  <a:lnTo>
                    <a:pt x="1799" y="4"/>
                  </a:lnTo>
                  <a:lnTo>
                    <a:pt x="1804" y="3"/>
                  </a:lnTo>
                  <a:lnTo>
                    <a:pt x="1809" y="2"/>
                  </a:lnTo>
                  <a:lnTo>
                    <a:pt x="1814" y="1"/>
                  </a:lnTo>
                  <a:lnTo>
                    <a:pt x="1818" y="1"/>
                  </a:lnTo>
                  <a:lnTo>
                    <a:pt x="1828" y="2"/>
                  </a:lnTo>
                  <a:lnTo>
                    <a:pt x="1837" y="3"/>
                  </a:lnTo>
                  <a:lnTo>
                    <a:pt x="1846" y="5"/>
                  </a:lnTo>
                  <a:lnTo>
                    <a:pt x="1855" y="7"/>
                  </a:lnTo>
                  <a:lnTo>
                    <a:pt x="1865" y="10"/>
                  </a:lnTo>
                  <a:lnTo>
                    <a:pt x="1874" y="13"/>
                  </a:lnTo>
                  <a:lnTo>
                    <a:pt x="1883" y="17"/>
                  </a:lnTo>
                  <a:lnTo>
                    <a:pt x="1891" y="20"/>
                  </a:lnTo>
                  <a:lnTo>
                    <a:pt x="1901" y="23"/>
                  </a:lnTo>
                  <a:lnTo>
                    <a:pt x="1910" y="27"/>
                  </a:lnTo>
                  <a:lnTo>
                    <a:pt x="1919" y="30"/>
                  </a:lnTo>
                  <a:lnTo>
                    <a:pt x="1928" y="33"/>
                  </a:lnTo>
                  <a:lnTo>
                    <a:pt x="1939" y="35"/>
                  </a:lnTo>
                  <a:lnTo>
                    <a:pt x="1948" y="37"/>
                  </a:lnTo>
                  <a:lnTo>
                    <a:pt x="1958" y="38"/>
                  </a:lnTo>
                  <a:lnTo>
                    <a:pt x="1969" y="38"/>
                  </a:lnTo>
                  <a:lnTo>
                    <a:pt x="1980" y="38"/>
                  </a:lnTo>
                  <a:lnTo>
                    <a:pt x="1991" y="36"/>
                  </a:lnTo>
                  <a:lnTo>
                    <a:pt x="2002" y="35"/>
                  </a:lnTo>
                  <a:lnTo>
                    <a:pt x="2012" y="32"/>
                  </a:lnTo>
                  <a:lnTo>
                    <a:pt x="2023" y="29"/>
                  </a:lnTo>
                  <a:lnTo>
                    <a:pt x="2034" y="26"/>
                  </a:lnTo>
                  <a:lnTo>
                    <a:pt x="2045" y="23"/>
                  </a:lnTo>
                  <a:lnTo>
                    <a:pt x="2056" y="19"/>
                  </a:lnTo>
                  <a:lnTo>
                    <a:pt x="2066" y="16"/>
                  </a:lnTo>
                  <a:lnTo>
                    <a:pt x="2076" y="12"/>
                  </a:lnTo>
                  <a:lnTo>
                    <a:pt x="2086" y="9"/>
                  </a:lnTo>
                  <a:lnTo>
                    <a:pt x="2095" y="7"/>
                  </a:lnTo>
                  <a:lnTo>
                    <a:pt x="2104" y="4"/>
                  </a:lnTo>
                  <a:lnTo>
                    <a:pt x="2113" y="3"/>
                  </a:lnTo>
                  <a:lnTo>
                    <a:pt x="2121" y="1"/>
                  </a:lnTo>
                  <a:lnTo>
                    <a:pt x="2128" y="1"/>
                  </a:lnTo>
                  <a:lnTo>
                    <a:pt x="2138" y="1"/>
                  </a:lnTo>
                  <a:lnTo>
                    <a:pt x="2147" y="2"/>
                  </a:lnTo>
                  <a:lnTo>
                    <a:pt x="2156" y="4"/>
                  </a:lnTo>
                  <a:lnTo>
                    <a:pt x="2166" y="7"/>
                  </a:lnTo>
                  <a:lnTo>
                    <a:pt x="2174" y="9"/>
                  </a:lnTo>
                  <a:lnTo>
                    <a:pt x="2183" y="12"/>
                  </a:lnTo>
                  <a:lnTo>
                    <a:pt x="2193" y="16"/>
                  </a:lnTo>
                  <a:lnTo>
                    <a:pt x="2201" y="19"/>
                  </a:lnTo>
                  <a:lnTo>
                    <a:pt x="2210" y="22"/>
                  </a:lnTo>
                  <a:lnTo>
                    <a:pt x="2219" y="26"/>
                  </a:lnTo>
                  <a:lnTo>
                    <a:pt x="2229" y="29"/>
                  </a:lnTo>
                  <a:lnTo>
                    <a:pt x="2238" y="32"/>
                  </a:lnTo>
                  <a:lnTo>
                    <a:pt x="2247" y="34"/>
                  </a:lnTo>
                  <a:lnTo>
                    <a:pt x="2258" y="36"/>
                  </a:lnTo>
                  <a:lnTo>
                    <a:pt x="2268" y="37"/>
                  </a:lnTo>
                  <a:lnTo>
                    <a:pt x="2279" y="38"/>
                  </a:lnTo>
                  <a:lnTo>
                    <a:pt x="2290" y="37"/>
                  </a:lnTo>
                  <a:lnTo>
                    <a:pt x="2302" y="36"/>
                  </a:lnTo>
                  <a:lnTo>
                    <a:pt x="2315" y="34"/>
                  </a:lnTo>
                  <a:lnTo>
                    <a:pt x="2328" y="31"/>
                  </a:lnTo>
                  <a:lnTo>
                    <a:pt x="2340" y="27"/>
                  </a:lnTo>
                  <a:lnTo>
                    <a:pt x="2352" y="23"/>
                  </a:lnTo>
                  <a:lnTo>
                    <a:pt x="2365" y="19"/>
                  </a:lnTo>
                  <a:lnTo>
                    <a:pt x="2376" y="16"/>
                  </a:lnTo>
                  <a:lnTo>
                    <a:pt x="2386" y="13"/>
                  </a:lnTo>
                  <a:lnTo>
                    <a:pt x="2395" y="10"/>
                  </a:lnTo>
                  <a:lnTo>
                    <a:pt x="2405" y="7"/>
                  </a:lnTo>
                  <a:lnTo>
                    <a:pt x="2413" y="5"/>
                  </a:lnTo>
                  <a:lnTo>
                    <a:pt x="2421" y="3"/>
                  </a:lnTo>
                  <a:lnTo>
                    <a:pt x="2429" y="1"/>
                  </a:lnTo>
                  <a:lnTo>
                    <a:pt x="2437" y="1"/>
                  </a:lnTo>
                  <a:lnTo>
                    <a:pt x="2443" y="0"/>
                  </a:lnTo>
                  <a:lnTo>
                    <a:pt x="2442" y="19"/>
                  </a:lnTo>
                </a:path>
              </a:pathLst>
            </a:custGeom>
            <a:solidFill>
              <a:srgbClr val="aaff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4" name="Picture 26" descr="j0186615"/>
          <p:cNvPicPr/>
          <p:nvPr/>
        </p:nvPicPr>
        <p:blipFill>
          <a:blip r:embed="rId2"/>
          <a:stretch/>
        </p:blipFill>
        <p:spPr>
          <a:xfrm>
            <a:off x="114480" y="136440"/>
            <a:ext cx="1035000" cy="1035000"/>
          </a:xfrm>
          <a:prstGeom prst="rect">
            <a:avLst/>
          </a:prstGeom>
          <a:ln w="0">
            <a:noFill/>
          </a:ln>
        </p:spPr>
      </p:pic>
      <p:pic>
        <p:nvPicPr>
          <p:cNvPr id="15" name="Picture 28" descr="Logo_IDSD"/>
          <p:cNvPicPr/>
          <p:nvPr/>
        </p:nvPicPr>
        <p:blipFill>
          <a:blip r:embed="rId3"/>
          <a:stretch/>
        </p:blipFill>
        <p:spPr>
          <a:xfrm>
            <a:off x="7889760" y="147600"/>
            <a:ext cx="1108080" cy="1073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png"/><Relationship Id="rId3" Type="http://schemas.openxmlformats.org/officeDocument/2006/relationships/package" Target="../embeddings/oleObject2.xlsx"/><Relationship Id="rId4" Type="http://schemas.openxmlformats.org/officeDocument/2006/relationships/image" Target="../media/image10.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1120" y="1961640"/>
            <a:ext cx="7772400" cy="2529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800" spc="-1" strike="noStrike">
                <a:solidFill>
                  <a:srgbClr val="262673"/>
                </a:solidFill>
                <a:latin typeface="Arial"/>
              </a:rPr>
              <a:t>Ціль ІІІ. Міцне здоров’я та благополуччя</a:t>
            </a:r>
            <a:endParaRPr b="0" lang="en-US" sz="3800" spc="-1" strike="noStrike">
              <a:solidFill>
                <a:srgbClr val="000000"/>
              </a:solidFill>
              <a:latin typeface="Arial"/>
            </a:endParaRPr>
          </a:p>
        </p:txBody>
      </p:sp>
      <p:sp>
        <p:nvSpPr>
          <p:cNvPr id="60" name="PlaceHolder 2"/>
          <p:cNvSpPr>
            <a:spLocks noGrp="1"/>
          </p:cNvSpPr>
          <p:nvPr>
            <p:ph type="subTitle"/>
          </p:nvPr>
        </p:nvSpPr>
        <p:spPr>
          <a:xfrm>
            <a:off x="2101680" y="5051520"/>
            <a:ext cx="6778800" cy="853920"/>
          </a:xfrm>
          <a:prstGeom prst="rect">
            <a:avLst/>
          </a:prstGeom>
          <a:noFill/>
          <a:ln w="0">
            <a:noFill/>
          </a:ln>
        </p:spPr>
        <p:txBody>
          <a:bodyPr lIns="92160" rIns="92160" tIns="46080" bIns="4608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262673"/>
                </a:solidFill>
                <a:latin typeface="Arial"/>
              </a:rPr>
              <a:t>Курило І. О.</a:t>
            </a:r>
            <a:endParaRPr b="0" lang="en-US" sz="2800" spc="-1" strike="noStrike">
              <a:solidFill>
                <a:srgbClr val="000000"/>
              </a:solidFill>
              <a:latin typeface="Arial"/>
            </a:endParaRPr>
          </a:p>
        </p:txBody>
      </p:sp>
      <p:pic>
        <p:nvPicPr>
          <p:cNvPr id="61" name="Picture 4" descr=""/>
          <p:cNvPicPr/>
          <p:nvPr/>
        </p:nvPicPr>
        <p:blipFill>
          <a:blip r:embed="rId1"/>
          <a:stretch/>
        </p:blipFill>
        <p:spPr>
          <a:xfrm>
            <a:off x="7315200" y="0"/>
            <a:ext cx="1676520" cy="1219320"/>
          </a:xfrm>
          <a:prstGeom prst="rect">
            <a:avLst/>
          </a:prstGeom>
          <a:ln w="0">
            <a:noFill/>
          </a:ln>
        </p:spPr>
      </p:pic>
    </p:spTree>
  </p:cSld>
  <p:transition spd="med">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8" name="Диаграмма 6"/>
          <p:cNvGraphicFramePr/>
          <p:nvPr/>
        </p:nvGraphicFramePr>
        <p:xfrm>
          <a:off x="334800" y="1847880"/>
          <a:ext cx="8560080" cy="4579920"/>
        </p:xfrm>
        <a:graphic>
          <a:graphicData uri="http://schemas.openxmlformats.org/presentationml/2006/ole">
            <p:oleObj progId="Excel.Sheet.12" r:id="rId1" spid="">
              <p:embed/>
              <p:pic>
                <p:nvPicPr>
                  <p:cNvPr id="89" name="Диаграмма 6" descr=""/>
                  <p:cNvPicPr/>
                  <p:nvPr/>
                </p:nvPicPr>
                <p:blipFill>
                  <a:blip r:embed="rId2"/>
                  <a:stretch/>
                </p:blipFill>
                <p:spPr>
                  <a:xfrm>
                    <a:off x="334800" y="1847880"/>
                    <a:ext cx="8560080" cy="4579920"/>
                  </a:xfrm>
                  <a:prstGeom prst="rect">
                    <a:avLst/>
                  </a:prstGeom>
                  <a:ln w="0">
                    <a:noFill/>
                  </a:ln>
                </p:spPr>
              </p:pic>
            </p:oleObj>
          </a:graphicData>
        </a:graphic>
      </p:graphicFrame>
      <p:pic>
        <p:nvPicPr>
          <p:cNvPr id="90" name="Picture 4" descr=""/>
          <p:cNvPicPr/>
          <p:nvPr/>
        </p:nvPicPr>
        <p:blipFill>
          <a:blip r:embed="rId3"/>
          <a:stretch/>
        </p:blipFill>
        <p:spPr>
          <a:xfrm>
            <a:off x="7315200" y="0"/>
            <a:ext cx="1676520" cy="1219320"/>
          </a:xfrm>
          <a:prstGeom prst="rect">
            <a:avLst/>
          </a:prstGeom>
          <a:ln w="0">
            <a:noFill/>
          </a:ln>
        </p:spPr>
      </p:pic>
      <p:sp>
        <p:nvSpPr>
          <p:cNvPr id="91" name="Title 1"/>
          <p:cNvSpPr/>
          <p:nvPr/>
        </p:nvSpPr>
        <p:spPr>
          <a:xfrm>
            <a:off x="590400" y="754200"/>
            <a:ext cx="7558200" cy="947520"/>
          </a:xfrm>
          <a:prstGeom prst="rect">
            <a:avLst/>
          </a:prstGeom>
          <a:noFill/>
          <a:ln w="0">
            <a:noFill/>
          </a:ln>
        </p:spPr>
        <p:style>
          <a:lnRef idx="0"/>
          <a:fillRef idx="0"/>
          <a:effectRef idx="0"/>
          <a:fontRef idx="minor"/>
        </p:style>
        <p:txBody>
          <a:bodyPr lIns="92160" rIns="92160" tIns="46080" bIns="46080" anchor="t">
            <a:normAutofit fontScale="82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62673"/>
                </a:solidFill>
                <a:latin typeface="Arial"/>
                <a:ea typeface="ＭＳ Ｐゴシック"/>
              </a:rPr>
              <a:t>Розподіл дітей віком від 1 до 5 років, померлих в містах і селах України, за основними причинами смерті в 2017 р.</a:t>
            </a:r>
            <a:endParaRPr b="0" lang="en-US" sz="2400" spc="-1" strike="noStrike">
              <a:solidFill>
                <a:srgbClr val="000000"/>
              </a:solidFill>
              <a:latin typeface="Arial"/>
            </a:endParaRPr>
          </a:p>
        </p:txBody>
      </p:sp>
    </p:spTree>
  </p:cSld>
  <p:transition spd="med">
    <p:split dir="out"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438120" y="1295280"/>
            <a:ext cx="8439120" cy="4525920"/>
          </a:xfrm>
          <a:prstGeom prst="rect">
            <a:avLst/>
          </a:prstGeom>
          <a:noFill/>
          <a:ln w="0">
            <a:noFill/>
          </a:ln>
        </p:spPr>
        <p:txBody>
          <a:bodyPr anchor="t">
            <a:normAutofit fontScale="88000"/>
          </a:bodyPr>
          <a:p>
            <a:pPr marL="301680" indent="-30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Інтервал віку між 5 та 15 роками уособлює собою той проміжок життя, в межах якого ситуація з рівнем та динамікою смертності в Україні виглядає більш благополучною, ніж в інших вікових групах дітей і молоді, при цьому й відмінності щодо  смертності осіб віком від 5 до 15 років  порівняно з іншими європейськими країнами не є такими разючими, як у малюків та тим більше – у дорослих осіб працездатного віку. </a:t>
            </a:r>
            <a:r>
              <a:rPr b="0" lang="uk-UA" sz="2000" spc="-1" strike="noStrike">
                <a:solidFill>
                  <a:srgbClr val="000000"/>
                </a:solidFill>
                <a:latin typeface="Arial"/>
              </a:rPr>
              <a:t>Останнім часом рівні смертності дітей у вікових групах 5-9 та 10-14 років лишаються стабільними.  </a:t>
            </a:r>
            <a:endParaRPr b="0" lang="en-US" sz="2000" spc="-1" strike="noStrike">
              <a:solidFill>
                <a:srgbClr val="000000"/>
              </a:solidFill>
              <a:latin typeface="Arial"/>
            </a:endParaRPr>
          </a:p>
          <a:p>
            <a:pPr marL="301680" indent="-30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Провідну роль в структурі смертності відіграють неприродні смерті від зовнішніх причин, на які в 2017 р. припадало більше третини смертей дітей віком від 5 до  9 років і заледве не половина – померлих у віці від 10 до 14 років.</a:t>
            </a:r>
            <a:endParaRPr b="0" lang="en-US" sz="2000" spc="-1" strike="noStrike">
              <a:solidFill>
                <a:srgbClr val="000000"/>
              </a:solidFill>
              <a:latin typeface="Arial"/>
            </a:endParaRPr>
          </a:p>
          <a:p>
            <a:pPr marL="301680" indent="-30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Можливості скорочення смертності  дітей середнього шкільного віку в Україні асоціюються насамперед із ретельним дотриманням  правил безпечної поведінки на водоймах, на дорогах, з профілактикою самогубств серед підлітків.</a:t>
            </a:r>
            <a:endParaRPr b="0" lang="en-US" sz="2000" spc="-1" strike="noStrike">
              <a:solidFill>
                <a:srgbClr val="000000"/>
              </a:solidFill>
              <a:latin typeface="Arial"/>
            </a:endParaRPr>
          </a:p>
        </p:txBody>
      </p:sp>
      <p:pic>
        <p:nvPicPr>
          <p:cNvPr id="93" name="Picture 4" descr=""/>
          <p:cNvPicPr/>
          <p:nvPr/>
        </p:nvPicPr>
        <p:blipFill>
          <a:blip r:embed="rId1"/>
          <a:stretch/>
        </p:blipFill>
        <p:spPr>
          <a:xfrm>
            <a:off x="7315200" y="0"/>
            <a:ext cx="1676520" cy="1219320"/>
          </a:xfrm>
          <a:prstGeom prst="rect">
            <a:avLst/>
          </a:prstGeom>
          <a:ln w="0">
            <a:noFill/>
          </a:ln>
        </p:spPr>
      </p:pic>
      <p:sp>
        <p:nvSpPr>
          <p:cNvPr id="94" name="PlaceHolder 1"/>
          <p:cNvSpPr>
            <a:spLocks noGrp="1"/>
          </p:cNvSpPr>
          <p:nvPr>
            <p:ph type="title"/>
          </p:nvPr>
        </p:nvSpPr>
        <p:spPr>
          <a:xfrm>
            <a:off x="428760" y="597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99"/>
                </a:solidFill>
                <a:latin typeface="Arial"/>
              </a:rPr>
              <a:t>Смертність дітей віком від 5 до 14 років</a:t>
            </a:r>
            <a:br>
              <a:rPr sz="2400"/>
            </a:br>
            <a:r>
              <a:rPr b="1" lang="uk-UA" sz="2400" spc="-1" strike="noStrike">
                <a:solidFill>
                  <a:srgbClr val="000099"/>
                </a:solidFill>
                <a:latin typeface="Arial"/>
              </a:rPr>
              <a:t> в Україні</a:t>
            </a:r>
            <a:br>
              <a:rPr sz="2400"/>
            </a:br>
            <a:endParaRPr b="0" lang="en-US" sz="2400" spc="-1" strike="noStrike">
              <a:solidFill>
                <a:srgbClr val="000000"/>
              </a:solidFill>
              <a:latin typeface="Arial"/>
            </a:endParaRPr>
          </a:p>
        </p:txBody>
      </p:sp>
    </p:spTree>
  </p:cSld>
  <p:transition spd="med">
    <p:split dir="out"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5" name="Диаграмма 6"/>
          <p:cNvGraphicFramePr/>
          <p:nvPr/>
        </p:nvGraphicFramePr>
        <p:xfrm>
          <a:off x="322200" y="1424160"/>
          <a:ext cx="8499600" cy="4195440"/>
        </p:xfrm>
        <a:graphic>
          <a:graphicData uri="http://schemas.openxmlformats.org/presentationml/2006/ole">
            <p:oleObj progId="Excel.Sheet.12" r:id="rId1" spid="">
              <p:embed/>
              <p:pic>
                <p:nvPicPr>
                  <p:cNvPr id="96" name="Диаграмма 6" descr=""/>
                  <p:cNvPicPr/>
                  <p:nvPr/>
                </p:nvPicPr>
                <p:blipFill>
                  <a:blip r:embed="rId2"/>
                  <a:stretch/>
                </p:blipFill>
                <p:spPr>
                  <a:xfrm>
                    <a:off x="322200" y="1424160"/>
                    <a:ext cx="8499600" cy="4195440"/>
                  </a:xfrm>
                  <a:prstGeom prst="rect">
                    <a:avLst/>
                  </a:prstGeom>
                  <a:ln w="0">
                    <a:noFill/>
                  </a:ln>
                </p:spPr>
              </p:pic>
            </p:oleObj>
          </a:graphicData>
        </a:graphic>
      </p:graphicFrame>
      <p:sp>
        <p:nvSpPr>
          <p:cNvPr id="97" name="Прямоугольник 1"/>
          <p:cNvSpPr/>
          <p:nvPr/>
        </p:nvSpPr>
        <p:spPr>
          <a:xfrm>
            <a:off x="752400" y="5800680"/>
            <a:ext cx="80010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ea typeface="ＭＳ Ｐゴシック"/>
              </a:rPr>
              <a:t>Смертність молоді віком від  15 до 24 років в Україні в півтора рази перевищує таку в Польщі, в  1,7 раза вища за рівень, досягнутий в  Словацькій Республіці,  майже вдвічі  перевищує показник Чехії та більш ніж удвічі – рівень Угорщини</a:t>
            </a:r>
            <a:endParaRPr b="0" lang="en-US" sz="1600" spc="-1" strike="noStrike">
              <a:solidFill>
                <a:srgbClr val="000000"/>
              </a:solidFill>
              <a:latin typeface="Arial"/>
            </a:endParaRPr>
          </a:p>
        </p:txBody>
      </p:sp>
      <p:pic>
        <p:nvPicPr>
          <p:cNvPr id="98" name="Picture 4" descr=""/>
          <p:cNvPicPr/>
          <p:nvPr/>
        </p:nvPicPr>
        <p:blipFill>
          <a:blip r:embed="rId3"/>
          <a:stretch/>
        </p:blipFill>
        <p:spPr>
          <a:xfrm>
            <a:off x="7315200" y="0"/>
            <a:ext cx="1676520" cy="1219320"/>
          </a:xfrm>
          <a:prstGeom prst="rect">
            <a:avLst/>
          </a:prstGeom>
          <a:ln w="0">
            <a:noFill/>
          </a:ln>
        </p:spPr>
      </p:pic>
      <p:sp>
        <p:nvSpPr>
          <p:cNvPr id="99" name="Title 1"/>
          <p:cNvSpPr/>
          <p:nvPr/>
        </p:nvSpPr>
        <p:spPr>
          <a:xfrm>
            <a:off x="752400" y="603360"/>
            <a:ext cx="7319880" cy="947520"/>
          </a:xfrm>
          <a:prstGeom prst="rect">
            <a:avLst/>
          </a:prstGeom>
          <a:noFill/>
          <a:ln w="0">
            <a:noFill/>
          </a:ln>
        </p:spPr>
        <p:style>
          <a:lnRef idx="0"/>
          <a:fillRef idx="0"/>
          <a:effectRef idx="0"/>
          <a:fontRef idx="minor"/>
        </p:style>
        <p:txBody>
          <a:bodyPr lIns="92160" rIns="92160" tIns="46080" bIns="4608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62673"/>
                </a:solidFill>
                <a:latin typeface="Arial"/>
                <a:ea typeface="ＭＳ Ｐゴシック"/>
              </a:rPr>
              <a:t>Коефіцієнти смертності підлітків 15-19 років та 20-24-річної молоді в Україні в 2015-2017 рр.</a:t>
            </a:r>
            <a:endParaRPr b="0" lang="en-US" sz="2400" spc="-1" strike="noStrike">
              <a:solidFill>
                <a:srgbClr val="000000"/>
              </a:solidFill>
              <a:latin typeface="Arial"/>
            </a:endParaRPr>
          </a:p>
        </p:txBody>
      </p:sp>
    </p:spTree>
  </p:cSld>
  <p:transition spd="med">
    <p:split dir="out"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0" name="Диаграмма 2"/>
          <p:cNvGraphicFramePr/>
          <p:nvPr/>
        </p:nvGraphicFramePr>
        <p:xfrm>
          <a:off x="262080" y="1981080"/>
          <a:ext cx="4313160" cy="4753080"/>
        </p:xfrm>
        <a:graphic>
          <a:graphicData uri="http://schemas.openxmlformats.org/presentationml/2006/ole">
            <p:oleObj progId="Excel.Sheet.12" r:id="rId1" spid="">
              <p:embed/>
              <p:pic>
                <p:nvPicPr>
                  <p:cNvPr id="101" name="Диаграмма 2" descr=""/>
                  <p:cNvPicPr/>
                  <p:nvPr/>
                </p:nvPicPr>
                <p:blipFill>
                  <a:blip r:embed="rId2"/>
                  <a:stretch/>
                </p:blipFill>
                <p:spPr>
                  <a:xfrm>
                    <a:off x="262080" y="1981080"/>
                    <a:ext cx="4313160" cy="4753080"/>
                  </a:xfrm>
                  <a:prstGeom prst="rect">
                    <a:avLst/>
                  </a:prstGeom>
                  <a:ln w="0">
                    <a:noFill/>
                  </a:ln>
                </p:spPr>
              </p:pic>
            </p:oleObj>
          </a:graphicData>
        </a:graphic>
      </p:graphicFrame>
      <p:graphicFrame>
        <p:nvGraphicFramePr>
          <p:cNvPr id="102" name="Диаграмма 3"/>
          <p:cNvGraphicFramePr/>
          <p:nvPr/>
        </p:nvGraphicFramePr>
        <p:xfrm>
          <a:off x="4653000" y="1981080"/>
          <a:ext cx="4384800" cy="4638960"/>
        </p:xfrm>
        <a:graphic>
          <a:graphicData uri="http://schemas.openxmlformats.org/presentationml/2006/ole">
            <p:oleObj progId="Excel.Sheet.12" r:id="rId3" spid="">
              <p:embed/>
              <p:pic>
                <p:nvPicPr>
                  <p:cNvPr id="103" name="Диаграмма 3" descr=""/>
                  <p:cNvPicPr/>
                  <p:nvPr/>
                </p:nvPicPr>
                <p:blipFill>
                  <a:blip r:embed="rId4"/>
                  <a:stretch/>
                </p:blipFill>
                <p:spPr>
                  <a:xfrm>
                    <a:off x="4653000" y="1981080"/>
                    <a:ext cx="4384800" cy="4638960"/>
                  </a:xfrm>
                  <a:prstGeom prst="rect">
                    <a:avLst/>
                  </a:prstGeom>
                  <a:ln w="0">
                    <a:noFill/>
                  </a:ln>
                </p:spPr>
              </p:pic>
            </p:oleObj>
          </a:graphicData>
        </a:graphic>
      </p:graphicFrame>
      <p:sp>
        <p:nvSpPr>
          <p:cNvPr id="104" name="Прямоугольник 1"/>
          <p:cNvSpPr/>
          <p:nvPr/>
        </p:nvSpPr>
        <p:spPr>
          <a:xfrm>
            <a:off x="1275120" y="1797120"/>
            <a:ext cx="142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ea typeface="ＭＳ Ｐゴシック"/>
              </a:rPr>
              <a:t>15-19 років</a:t>
            </a:r>
            <a:endParaRPr b="0" lang="en-US" sz="1800" spc="-1" strike="noStrike">
              <a:solidFill>
                <a:srgbClr val="000000"/>
              </a:solidFill>
              <a:latin typeface="Arial"/>
            </a:endParaRPr>
          </a:p>
        </p:txBody>
      </p:sp>
      <p:sp>
        <p:nvSpPr>
          <p:cNvPr id="105" name="Прямоугольник 2"/>
          <p:cNvSpPr/>
          <p:nvPr/>
        </p:nvSpPr>
        <p:spPr>
          <a:xfrm>
            <a:off x="6203880" y="1797120"/>
            <a:ext cx="136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ea typeface="ＭＳ Ｐゴシック"/>
              </a:rPr>
              <a:t>20-24 роки</a:t>
            </a:r>
            <a:endParaRPr b="0" lang="en-US" sz="1800" spc="-1" strike="noStrike">
              <a:solidFill>
                <a:srgbClr val="000000"/>
              </a:solidFill>
              <a:latin typeface="Arial"/>
            </a:endParaRPr>
          </a:p>
        </p:txBody>
      </p:sp>
      <p:pic>
        <p:nvPicPr>
          <p:cNvPr id="106" name="Picture 4" descr=""/>
          <p:cNvPicPr/>
          <p:nvPr/>
        </p:nvPicPr>
        <p:blipFill>
          <a:blip r:embed="rId5"/>
          <a:stretch/>
        </p:blipFill>
        <p:spPr>
          <a:xfrm>
            <a:off x="7315200" y="0"/>
            <a:ext cx="1676520" cy="1219320"/>
          </a:xfrm>
          <a:prstGeom prst="rect">
            <a:avLst/>
          </a:prstGeom>
          <a:ln w="0">
            <a:noFill/>
          </a:ln>
        </p:spPr>
      </p:pic>
      <p:sp>
        <p:nvSpPr>
          <p:cNvPr id="107" name="Title 1"/>
          <p:cNvSpPr/>
          <p:nvPr/>
        </p:nvSpPr>
        <p:spPr>
          <a:xfrm>
            <a:off x="552600" y="911160"/>
            <a:ext cx="8086680" cy="947880"/>
          </a:xfrm>
          <a:prstGeom prst="rect">
            <a:avLst/>
          </a:prstGeom>
          <a:noFill/>
          <a:ln w="0">
            <a:noFill/>
          </a:ln>
        </p:spPr>
        <p:style>
          <a:lnRef idx="0"/>
          <a:fillRef idx="0"/>
          <a:effectRef idx="0"/>
          <a:fontRef idx="minor"/>
        </p:style>
        <p:txBody>
          <a:bodyPr lIns="92160" rIns="92160" tIns="46080" bIns="4608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62673"/>
                </a:solidFill>
                <a:latin typeface="Arial"/>
                <a:ea typeface="ＭＳ Ｐゴシック"/>
              </a:rPr>
              <a:t>Розподіл померлих у віці 15-19 роки та 20-24 роки в Україні у 2017 р. за основними причинами смерті</a:t>
            </a:r>
            <a:endParaRPr b="0" lang="en-US" sz="2400" spc="-1" strike="noStrike">
              <a:solidFill>
                <a:srgbClr val="000000"/>
              </a:solidFill>
              <a:latin typeface="Arial"/>
            </a:endParaRPr>
          </a:p>
        </p:txBody>
      </p:sp>
    </p:spTree>
  </p:cSld>
  <p:transition spd="med">
    <p:split dir="out"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123840" y="1095120"/>
            <a:ext cx="8696160" cy="5373720"/>
          </a:xfrm>
          <a:prstGeom prst="rect">
            <a:avLst/>
          </a:prstGeom>
          <a:noFill/>
          <a:ln w="0">
            <a:noFill/>
          </a:ln>
        </p:spPr>
        <p:txBody>
          <a:bodyPr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Разючими є відмінності між рівнями смертності молоді в Україні та у найближчих її сусідів з ЄС за основними екзогенними причинами смерті. Смертність  української молоді від зовнішніх причин  у півтора рази вища за частоту неприродних смертей їх польських ровесників, вдвічі – за рівень смертності чеської або словацької молоді, у два з половиною рази – порівняно з частотою  фатальних нещасних випадків, отруєнь і травм серед угорців віком 15-24 роки. Частота ж смертей осіб віком 15-24 роки від інфекційних і паразитарних хвороб у нашій країні майже всемеро перевищує таку в Польщі та в дев</a:t>
            </a:r>
            <a:r>
              <a:rPr b="0" lang="ru-RU" sz="2000" spc="-1" strike="noStrike">
                <a:solidFill>
                  <a:srgbClr val="000000"/>
                </a:solidFill>
                <a:latin typeface="Arial"/>
              </a:rPr>
              <a:t>’</a:t>
            </a:r>
            <a:r>
              <a:rPr b="0" lang="uk-UA" sz="2000" spc="-1" strike="noStrike">
                <a:solidFill>
                  <a:srgbClr val="000000"/>
                </a:solidFill>
                <a:latin typeface="Arial"/>
              </a:rPr>
              <a:t>ять разів –  в Угорщині.</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Через нестачу життєвого досліду та відповідні поведінкові особливості молоді особи  в Україні надто часто  потрапляють  в ризиковані ситуації як пішоходи й як водії, ризикують життям у різних сутичках, нехтують безпекою на воді тощо. При цьому  юнаки та молоді чоловіки як схильні до більш ризикованої  поведінки гинуть від неприродних причин у рази частіше, ніж дівчата/жінки. </a:t>
            </a:r>
            <a:endParaRPr b="0" lang="en-US" sz="2000" spc="-1" strike="noStrike">
              <a:solidFill>
                <a:srgbClr val="000000"/>
              </a:solidFill>
              <a:latin typeface="Arial"/>
            </a:endParaRPr>
          </a:p>
        </p:txBody>
      </p:sp>
      <p:pic>
        <p:nvPicPr>
          <p:cNvPr id="109" name="Picture 4" descr=""/>
          <p:cNvPicPr/>
          <p:nvPr/>
        </p:nvPicPr>
        <p:blipFill>
          <a:blip r:embed="rId1"/>
          <a:stretch/>
        </p:blipFill>
        <p:spPr>
          <a:xfrm>
            <a:off x="7315200" y="0"/>
            <a:ext cx="1676520" cy="1219320"/>
          </a:xfrm>
          <a:prstGeom prst="rect">
            <a:avLst/>
          </a:prstGeom>
          <a:ln w="0">
            <a:noFill/>
          </a:ln>
        </p:spPr>
      </p:pic>
    </p:spTree>
  </p:cSld>
  <p:transition spd="med">
    <p:split dir="out"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590400" y="1066680"/>
            <a:ext cx="8305920" cy="5305680"/>
          </a:xfrm>
          <a:prstGeom prst="rect">
            <a:avLst/>
          </a:prstGeom>
          <a:noFill/>
          <a:ln w="0">
            <a:noFill/>
          </a:ln>
        </p:spPr>
        <p:txBody>
          <a:bodyPr anchor="t">
            <a:normAutofit fontScale="94000"/>
          </a:bodyPr>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Найвищі коефіцієнти чоловічої надсмертності характерні  для класу зовнішніх причин смерті. Наприклад, смертність чоловіків 20-24 років від випадкових утоплень в Україні майже вдесятеро перевищує таку серед жінок цього ж віку, більш ніж у п’ятнадцять разів </a:t>
            </a:r>
            <a:r>
              <a:rPr b="1" i="1" lang="uk-UA" sz="2000" spc="-1" strike="noStrike">
                <a:solidFill>
                  <a:srgbClr val="000000"/>
                </a:solidFill>
                <a:latin typeface="Arial"/>
              </a:rPr>
              <a:t> </a:t>
            </a:r>
            <a:r>
              <a:rPr b="0" lang="uk-UA" sz="2000" spc="-1" strike="noStrike">
                <a:solidFill>
                  <a:srgbClr val="000000"/>
                </a:solidFill>
                <a:latin typeface="Arial"/>
              </a:rPr>
              <a:t>частіше чоловіки потерпають від смертельної дії вогню та диму тощо. </a:t>
            </a: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Серед померлих від самогубств значну чисельну перевагу мають саме молоді чоловіки: кількість  чоловічих смертей від цієї причини у віці 15-24 роки станом на 2017 р. майже в 5 разів перевищувала  число смертних випадків у жінок. </a:t>
            </a:r>
            <a:endParaRPr b="0" lang="en-US" sz="2000" spc="-1" strike="noStrike">
              <a:solidFill>
                <a:srgbClr val="000000"/>
              </a:solidFill>
              <a:latin typeface="Arial"/>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Загалом вагома надсмертність молодих чоловіків в Україні  зумовлюється переважно соціальними причинами і уособлює собою вагомий резерв для зниження високої  передчасної смертності в нашій країні.</a:t>
            </a:r>
            <a:endParaRPr b="0" lang="en-US" sz="2000" spc="-1" strike="noStrike">
              <a:solidFill>
                <a:srgbClr val="000000"/>
              </a:solidFill>
              <a:latin typeface="Arial"/>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 </a:t>
            </a: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1" name="Picture 4" descr=""/>
          <p:cNvPicPr/>
          <p:nvPr/>
        </p:nvPicPr>
        <p:blipFill>
          <a:blip r:embed="rId1"/>
          <a:stretch/>
        </p:blipFill>
        <p:spPr>
          <a:xfrm>
            <a:off x="7315200" y="0"/>
            <a:ext cx="1676520" cy="1219320"/>
          </a:xfrm>
          <a:prstGeom prst="rect">
            <a:avLst/>
          </a:prstGeom>
          <a:ln w="0">
            <a:noFill/>
          </a:ln>
        </p:spPr>
      </p:pic>
    </p:spTree>
  </p:cSld>
  <p:transition spd="med">
    <p:split dir="out"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4" descr=""/>
          <p:cNvPicPr/>
          <p:nvPr/>
        </p:nvPicPr>
        <p:blipFill>
          <a:blip r:embed="rId1"/>
          <a:stretch/>
        </p:blipFill>
        <p:spPr>
          <a:xfrm>
            <a:off x="7315200" y="0"/>
            <a:ext cx="1676520" cy="1219320"/>
          </a:xfrm>
          <a:prstGeom prst="rect">
            <a:avLst/>
          </a:prstGeom>
          <a:ln w="0">
            <a:noFill/>
          </a:ln>
        </p:spPr>
      </p:pic>
      <p:sp>
        <p:nvSpPr>
          <p:cNvPr id="113" name=""/>
          <p:cNvSpPr txBox="1"/>
          <p:nvPr/>
        </p:nvSpPr>
        <p:spPr>
          <a:xfrm>
            <a:off x="0" y="1019160"/>
            <a:ext cx="9010800" cy="4525920"/>
          </a:xfrm>
          <a:prstGeom prst="rect">
            <a:avLst/>
          </a:prstGeom>
          <a:noFill/>
          <a:ln w="0">
            <a:noFill/>
          </a:ln>
        </p:spPr>
        <p:txBody>
          <a:bodyPr anchor="t">
            <a:normAutofit fontScale="88000"/>
          </a:bodyPr>
          <a:p>
            <a:pPr marL="301680" indent="-30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Одним з найбільш успішних та економічно ефективних заходів щодо збереження життя і здоров’я дітей наразі визнається вакцинопрофілактика. За  наявними оцінками на глобальному рівні, саме вакцинопрофілактика дає змогу попередити кожен шостий випадок смерті дітей у віці до 5 років, забезпечивши їх  захист від таких захворювань як дифтерія, кашлюк, правець, поліомієліт  та ін.</a:t>
            </a:r>
            <a:endParaRPr b="0" lang="en-US" sz="2000" spc="-1" strike="noStrike">
              <a:solidFill>
                <a:srgbClr val="000000"/>
              </a:solidFill>
              <a:latin typeface="Arial"/>
            </a:endParaRPr>
          </a:p>
          <a:p>
            <a:pPr marL="301680" indent="-30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Основними цілями  імунізації є зменшення захворюваності, смертності й інвалідизації від інфекційних хвороб, формування колективного імунітету та зниження витрат системи охорони здоров’я на лікування та профілактику таких захворювань, яким можна  запобігти засобами специфічної імунопрофілактики.</a:t>
            </a:r>
            <a:endParaRPr b="0" lang="en-US" sz="2000" spc="-1" strike="noStrike">
              <a:solidFill>
                <a:srgbClr val="000000"/>
              </a:solidFill>
              <a:latin typeface="Arial"/>
            </a:endParaRPr>
          </a:p>
          <a:p>
            <a:pPr marL="301680" indent="-30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Епідемічна ситуація в Україні щодо вакцинокерованих  інфекційних останніми роками лишається нестабільною: захворюваність на кір, краснуху, епідемічний паротит, кашлюк, дифтерію набуває некерованого характеру, про що свідчить чергування періодів підйому і спаду відповідних рівнів захворюваності, зменшення міжепідемічних проміжків часу тощо. Всесвітня організація охорони здоров’я оголосила Україну країною з високим ризиком спалаху поліомієліту. </a:t>
            </a:r>
            <a:endParaRPr b="0" lang="en-US" sz="2000" spc="-1" strike="noStrike">
              <a:solidFill>
                <a:srgbClr val="000000"/>
              </a:solidFill>
              <a:latin typeface="Arial"/>
            </a:endParaRPr>
          </a:p>
        </p:txBody>
      </p:sp>
    </p:spTree>
  </p:cSld>
  <p:transition spd="med">
    <p:split dir="out" orient="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Рисунок 2" descr="http://moz.gov.ua/uploads/ckeditor/%D0%B3%D1%80%D0%B0%D1%84%D1%96%D0%BA%D0%B0/%D0%B2%D0%B0%D0%BA%D1%86%D0%B8%D0%BD%D0%B0%D1%86%D1%96%D1%8F/%D0%BA%D0%B0%D0%BB%D0%B5%D0%BD%D0%B4%D0%B0%D1%80%20%D1%89%D0%B5%D0%BF%D0%BB%D0%B5%D0%BD%D1%8C%202018.png"/>
          <p:cNvPicPr/>
          <p:nvPr/>
        </p:nvPicPr>
        <p:blipFill>
          <a:blip r:embed="rId1"/>
          <a:stretch/>
        </p:blipFill>
        <p:spPr>
          <a:xfrm>
            <a:off x="444600" y="1866960"/>
            <a:ext cx="8170920" cy="4822920"/>
          </a:xfrm>
          <a:prstGeom prst="rect">
            <a:avLst/>
          </a:prstGeom>
          <a:ln w="0">
            <a:noFill/>
          </a:ln>
        </p:spPr>
      </p:pic>
      <p:pic>
        <p:nvPicPr>
          <p:cNvPr id="115" name="Picture 4" descr=""/>
          <p:cNvPicPr/>
          <p:nvPr/>
        </p:nvPicPr>
        <p:blipFill>
          <a:blip r:embed="rId2"/>
          <a:stretch/>
        </p:blipFill>
        <p:spPr>
          <a:xfrm>
            <a:off x="7315200" y="0"/>
            <a:ext cx="1676520" cy="1219320"/>
          </a:xfrm>
          <a:prstGeom prst="rect">
            <a:avLst/>
          </a:prstGeom>
          <a:ln w="0">
            <a:noFill/>
          </a:ln>
        </p:spPr>
      </p:pic>
      <p:sp>
        <p:nvSpPr>
          <p:cNvPr id="116" name="Title 1"/>
          <p:cNvSpPr/>
          <p:nvPr/>
        </p:nvSpPr>
        <p:spPr>
          <a:xfrm>
            <a:off x="584280" y="603360"/>
            <a:ext cx="7624800" cy="947520"/>
          </a:xfrm>
          <a:prstGeom prst="rect">
            <a:avLst/>
          </a:prstGeom>
          <a:noFill/>
          <a:ln w="0">
            <a:noFill/>
          </a:ln>
        </p:spPr>
        <p:style>
          <a:lnRef idx="0"/>
          <a:fillRef idx="0"/>
          <a:effectRef idx="0"/>
          <a:fontRef idx="minor"/>
        </p:style>
        <p:txBody>
          <a:bodyPr lIns="92160" rIns="92160" tIns="46080" bIns="46080" anchor="t">
            <a:normAutofit fontScale="8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62673"/>
                </a:solidFill>
                <a:latin typeface="Arial"/>
                <a:ea typeface="ＭＳ Ｐゴシック"/>
              </a:rPr>
              <a:t>Завдання 3.7. Забезпечити загальну якісну  імунізацію з використанням інноваційних препаратів</a:t>
            </a:r>
            <a:endParaRPr b="0" lang="en-US" sz="2400" spc="-1" strike="noStrike">
              <a:solidFill>
                <a:srgbClr val="000000"/>
              </a:solidFill>
              <a:latin typeface="Arial"/>
            </a:endParaRPr>
          </a:p>
        </p:txBody>
      </p:sp>
    </p:spTree>
  </p:cSld>
  <p:transition spd="med">
    <p:split dir="out" orient="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95760" y="1152000"/>
            <a:ext cx="9239400" cy="4526280"/>
          </a:xfrm>
          <a:prstGeom prst="rect">
            <a:avLst/>
          </a:prstGeom>
          <a:noFill/>
          <a:ln w="0">
            <a:noFill/>
          </a:ln>
        </p:spPr>
        <p:txBody>
          <a:bodyPr anchor="t">
            <a:normAutofit fontScale="92000"/>
          </a:bodyPr>
          <a:p>
            <a:pPr marL="315360" indent="-315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Незадовільна ситуація з імунопрофілактикою в Україні складалась тривалий час: рівень охоплення плановими профілактичними щепленнями впав ще десять років тому (з 2008 р.)  і в окремі наступні  роки він був більш ніж вдвічі нижчим від  рекомендованого ВООЗ рівня (95%). Мало місце недофінансування Загальнодержавної програми з імунопрофілактики на 2009–2015рр. з таких важливих напрямів як безпека ін’єкцій, контроль за належним дотриманням умов «холодового ланцюга», проведення нагляду за вакцинокерованими інфекціями, моніторинг та ін., що негативно вплинуло на рівень охоплення профілактичними щепленнями (особливо наймолодших дітей).</a:t>
            </a:r>
            <a:endParaRPr b="0" lang="en-US" sz="1800" spc="-1" strike="noStrike">
              <a:solidFill>
                <a:srgbClr val="000000"/>
              </a:solidFill>
              <a:latin typeface="Arial"/>
            </a:endParaRPr>
          </a:p>
          <a:p>
            <a:pPr marL="315360" indent="-315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Діти, яким не було вчасно зроблено щеплення, в тому числі - через неповне й неритмічне забезпечення імунобіологічними препаратами за рахунок державного бюджету (в 2010-2015 рр.), мали б бути додатково вакцинованими у наступний рік, що, своєю чергою, ускладнювало повну реалізацію планів імунопрофілактики кожного року.</a:t>
            </a:r>
            <a:endParaRPr b="0" lang="en-US" sz="1800" spc="-1" strike="noStrike">
              <a:solidFill>
                <a:srgbClr val="000000"/>
              </a:solidFill>
              <a:latin typeface="Arial"/>
            </a:endParaRPr>
          </a:p>
          <a:p>
            <a:pPr marL="315360" indent="-315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Одним із чинників, що зумовлюють невиконання завдань з імунопрофілактики в Україні, є негативне ставлення частини населення до  обов’язкової вакцинації, переважно зумовлене пересторогою щодо  можливих поствакцинальних наслідків. Певний внесок у формування незадовільної ситуації з вакцинацією дітей зробила також активізація антивакцинальної пропаганди.</a:t>
            </a:r>
            <a:endParaRPr b="0" lang="en-US" sz="1800" spc="-1" strike="noStrike">
              <a:solidFill>
                <a:srgbClr val="000000"/>
              </a:solidFill>
              <a:latin typeface="Arial"/>
            </a:endParaRPr>
          </a:p>
          <a:p>
            <a:pPr marL="315360" indent="-315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8" name="Picture 4" descr=""/>
          <p:cNvPicPr/>
          <p:nvPr/>
        </p:nvPicPr>
        <p:blipFill>
          <a:blip r:embed="rId1"/>
          <a:stretch/>
        </p:blipFill>
        <p:spPr>
          <a:xfrm>
            <a:off x="7315200" y="0"/>
            <a:ext cx="1676520" cy="1219320"/>
          </a:xfrm>
          <a:prstGeom prst="rect">
            <a:avLst/>
          </a:prstGeom>
          <a:ln w="0">
            <a:noFill/>
          </a:ln>
        </p:spPr>
      </p:pic>
    </p:spTree>
  </p:cSld>
  <p:transition spd="med">
    <p:split dir="out"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47840" y="1181160"/>
            <a:ext cx="8229600" cy="4525920"/>
          </a:xfrm>
          <a:prstGeom prst="rect">
            <a:avLst/>
          </a:prstGeom>
          <a:noFill/>
          <a:ln w="0">
            <a:noFill/>
          </a:ln>
        </p:spPr>
        <p:txBody>
          <a:bodyPr anchor="t">
            <a:normAutofit fontScale="88000"/>
          </a:bodyPr>
          <a:p>
            <a:pPr marL="301680" indent="-3016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гідно з результатами опитування, проведеного Соціологічною групою «Рейтинг» у середині 2018 року,  добровільну вакцинацію дітей проти таких хвороб, як поліомієліт, кір, туберкульоз, гепатит </a:t>
            </a:r>
            <a:r>
              <a:rPr b="0" lang="ru-RU" sz="1800" spc="-1" strike="noStrike">
                <a:solidFill>
                  <a:srgbClr val="000000"/>
                </a:solidFill>
                <a:latin typeface="Arial"/>
              </a:rPr>
              <a:t>B</a:t>
            </a:r>
            <a:r>
              <a:rPr b="0" lang="uk-UA" sz="1800" spc="-1" strike="noStrike">
                <a:solidFill>
                  <a:srgbClr val="000000"/>
                </a:solidFill>
                <a:latin typeface="Arial"/>
              </a:rPr>
              <a:t>, дифтерія та інші підтримують 73% опитаних, 21% - не підтримують. У випадку обов’язкової вакцинації рівень підтримки ще нижчий: 66% - підтримують, 27% - не підтримують. Добровільна вакцинація дещо краще сприймається молодшими респондентами та жінками. Натомість за обов’язкову вакцинацію відносно частіше висловлюються літні люди.</a:t>
            </a:r>
            <a:endParaRPr b="0" lang="en-US" sz="1800" spc="-1" strike="noStrike">
              <a:solidFill>
                <a:srgbClr val="000000"/>
              </a:solidFill>
              <a:latin typeface="Arial"/>
            </a:endParaRPr>
          </a:p>
          <a:p>
            <a:pPr marL="301680" indent="-3016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Серед опитаних у грудні 2018-січні 2019 рр. (</a:t>
            </a:r>
            <a:r>
              <a:rPr b="0" i="1" lang="ru-RU" sz="1800" spc="-1" strike="noStrike">
                <a:solidFill>
                  <a:srgbClr val="000000"/>
                </a:solidFill>
                <a:latin typeface="Arial"/>
              </a:rPr>
              <a:t>«Моніторинг забезпечення одноразовою натуральною допомогою «Пакунок маляти» (Baby Box)»)</a:t>
            </a:r>
            <a:r>
              <a:rPr b="0" lang="ru-RU" sz="1800" spc="-1" strike="noStrike">
                <a:solidFill>
                  <a:srgbClr val="000000"/>
                </a:solidFill>
                <a:latin typeface="Arial"/>
              </a:rPr>
              <a:t> «віч-на-віч»</a:t>
            </a:r>
            <a:r>
              <a:rPr b="0" lang="uk-UA" sz="1800" spc="-1" strike="noStrike">
                <a:solidFill>
                  <a:srgbClr val="000000"/>
                </a:solidFill>
                <a:latin typeface="Arial"/>
              </a:rPr>
              <a:t> матерів новонароджених на відсутність вакцин як причину того, що дитині в пологовому будинку не було зроблено щеплення від туберкульозу та гепатиту В (обидва або одне з них), вказали 14,5% респонденток, а ще 12,7% породіль, чиїм дітям не зробили щеплення, заявили, що вони «проти  вакцинації».</a:t>
            </a:r>
            <a:endParaRPr b="0" lang="en-US" sz="1800" spc="-1" strike="noStrike">
              <a:solidFill>
                <a:srgbClr val="000000"/>
              </a:solidFill>
              <a:latin typeface="Arial"/>
            </a:endParaRPr>
          </a:p>
          <a:p>
            <a:pPr marL="301680" indent="-3016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а результатами другого </a:t>
            </a:r>
            <a:r>
              <a:rPr b="0" lang="ru-RU" sz="1800" spc="-1" strike="noStrike">
                <a:solidFill>
                  <a:srgbClr val="000000"/>
                </a:solidFill>
                <a:latin typeface="Arial"/>
              </a:rPr>
              <a:t>раунд</a:t>
            </a:r>
            <a:r>
              <a:rPr b="0" lang="uk-UA" sz="1800" spc="-1" strike="noStrike">
                <a:solidFill>
                  <a:srgbClr val="000000"/>
                </a:solidFill>
                <a:latin typeface="Arial"/>
              </a:rPr>
              <a:t>у цього </a:t>
            </a:r>
            <a:r>
              <a:rPr b="0" lang="ru-RU" sz="1800" spc="-1" strike="noStrike">
                <a:solidFill>
                  <a:srgbClr val="000000"/>
                </a:solidFill>
                <a:latin typeface="Arial"/>
              </a:rPr>
              <a:t>опитування </a:t>
            </a:r>
            <a:r>
              <a:rPr b="0" lang="uk-UA" sz="1800" spc="-1" strike="noStrike">
                <a:solidFill>
                  <a:srgbClr val="000000"/>
                </a:solidFill>
                <a:latin typeface="Arial"/>
              </a:rPr>
              <a:t>у с</a:t>
            </a:r>
            <a:r>
              <a:rPr b="0" lang="ru-RU" sz="1800" spc="-1" strike="noStrike">
                <a:solidFill>
                  <a:srgbClr val="000000"/>
                </a:solidFill>
                <a:latin typeface="Arial"/>
              </a:rPr>
              <a:t>іч</a:t>
            </a:r>
            <a:r>
              <a:rPr b="0" lang="uk-UA" sz="1800" spc="-1" strike="noStrike">
                <a:solidFill>
                  <a:srgbClr val="000000"/>
                </a:solidFill>
                <a:latin typeface="Arial"/>
              </a:rPr>
              <a:t>ні</a:t>
            </a:r>
            <a:r>
              <a:rPr b="0" lang="ru-RU" sz="1800" spc="-1" strike="noStrike">
                <a:solidFill>
                  <a:srgbClr val="000000"/>
                </a:solidFill>
                <a:latin typeface="Arial"/>
              </a:rPr>
              <a:t>-лют</a:t>
            </a:r>
            <a:r>
              <a:rPr b="0" lang="uk-UA" sz="1800" spc="-1" strike="noStrike">
                <a:solidFill>
                  <a:srgbClr val="000000"/>
                </a:solidFill>
                <a:latin typeface="Arial"/>
              </a:rPr>
              <a:t>ому</a:t>
            </a:r>
            <a:r>
              <a:rPr b="0" lang="ru-RU" sz="1800" spc="-1" strike="noStrike">
                <a:solidFill>
                  <a:srgbClr val="000000"/>
                </a:solidFill>
                <a:latin typeface="Arial"/>
              </a:rPr>
              <a:t> 2019 р</a:t>
            </a:r>
            <a:r>
              <a:rPr b="0" lang="uk-UA" sz="1800" spc="-1" strike="noStrike">
                <a:solidFill>
                  <a:srgbClr val="000000"/>
                </a:solidFill>
                <a:latin typeface="Arial"/>
              </a:rPr>
              <a:t>.  </a:t>
            </a:r>
            <a:r>
              <a:rPr b="0" lang="ru-RU" sz="1800" spc="-1" strike="noStrike">
                <a:solidFill>
                  <a:srgbClr val="000000"/>
                </a:solidFill>
                <a:latin typeface="Arial"/>
              </a:rPr>
              <a:t>методом телефонного інтерв’ю</a:t>
            </a:r>
            <a:r>
              <a:rPr b="0" lang="uk-UA" sz="1800" spc="-1" strike="noStrike">
                <a:solidFill>
                  <a:srgbClr val="000000"/>
                </a:solidFill>
                <a:latin typeface="Arial"/>
              </a:rPr>
              <a:t>, ті матері, чиїм дітям на момент опитування так і не було зроблено щеплення, мотивували це відсутністю вакцин лише в одному з кожних чотирнадцяти випадків. </a:t>
            </a:r>
            <a:endParaRPr b="0" lang="en-US" sz="1800" spc="-1" strike="noStrike">
              <a:solidFill>
                <a:srgbClr val="000000"/>
              </a:solidFill>
              <a:latin typeface="Arial"/>
            </a:endParaRPr>
          </a:p>
          <a:p>
            <a:pPr marL="301680" indent="-3016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0" name="Picture 4" descr=""/>
          <p:cNvPicPr/>
          <p:nvPr/>
        </p:nvPicPr>
        <p:blipFill>
          <a:blip r:embed="rId1"/>
          <a:stretch/>
        </p:blipFill>
        <p:spPr>
          <a:xfrm>
            <a:off x="7315200" y="0"/>
            <a:ext cx="1676520" cy="1219320"/>
          </a:xfrm>
          <a:prstGeom prst="rect">
            <a:avLst/>
          </a:prstGeom>
          <a:ln w="0">
            <a:noFill/>
          </a:ln>
        </p:spPr>
      </p:pic>
    </p:spTree>
  </p:cSld>
  <p:transition spd="med">
    <p:split dir="out"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Прямоугольник 1"/>
          <p:cNvSpPr/>
          <p:nvPr/>
        </p:nvSpPr>
        <p:spPr>
          <a:xfrm>
            <a:off x="357120" y="1327320"/>
            <a:ext cx="8631360" cy="5826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ＭＳ Ｐゴシック"/>
              </a:rPr>
              <a:t>З</a:t>
            </a:r>
            <a:r>
              <a:rPr b="0" lang="ru-RU" sz="2000" spc="-1" strike="noStrike">
                <a:solidFill>
                  <a:srgbClr val="000000"/>
                </a:solidFill>
                <a:latin typeface="Arial"/>
                <a:ea typeface="ＭＳ Ｐゴシック"/>
              </a:rPr>
              <a:t>абезпечення права дитини на життя, виживання і </a:t>
            </a:r>
            <a:r>
              <a:rPr b="0" lang="uk-UA" sz="2000" spc="-1" strike="noStrike">
                <a:solidFill>
                  <a:srgbClr val="000000"/>
                </a:solidFill>
                <a:latin typeface="Arial"/>
                <a:ea typeface="ＭＳ Ｐゴシック"/>
              </a:rPr>
              <a:t>здоровий </a:t>
            </a:r>
            <a:r>
              <a:rPr b="0" lang="ru-RU" sz="2000" spc="-1" strike="noStrike">
                <a:solidFill>
                  <a:srgbClr val="000000"/>
                </a:solidFill>
                <a:latin typeface="Arial"/>
                <a:ea typeface="ＭＳ Ｐゴシック"/>
              </a:rPr>
              <a:t>розвиток</a:t>
            </a:r>
            <a:r>
              <a:rPr b="0" lang="uk-UA" sz="2000" spc="-1" strike="noStrike">
                <a:solidFill>
                  <a:srgbClr val="000000"/>
                </a:solidFill>
                <a:latin typeface="Arial"/>
                <a:ea typeface="ＭＳ Ｐゴシック"/>
              </a:rPr>
              <a:t> є о</a:t>
            </a:r>
            <a:r>
              <a:rPr b="0" lang="ru-RU" sz="2000" spc="-1" strike="noStrike">
                <a:solidFill>
                  <a:srgbClr val="000000"/>
                </a:solidFill>
                <a:latin typeface="Arial"/>
                <a:ea typeface="ＭＳ Ｐゴシック"/>
              </a:rPr>
              <a:t>дним із основ</a:t>
            </a:r>
            <a:r>
              <a:rPr b="0" lang="uk-UA" sz="2000" spc="-1" strike="noStrike">
                <a:solidFill>
                  <a:srgbClr val="000000"/>
                </a:solidFill>
                <a:latin typeface="Arial"/>
                <a:ea typeface="ＭＳ Ｐゴシック"/>
              </a:rPr>
              <a:t>оположних</a:t>
            </a:r>
            <a:r>
              <a:rPr b="0" lang="ru-RU" sz="2000" spc="-1" strike="noStrike">
                <a:solidFill>
                  <a:srgbClr val="000000"/>
                </a:solidFill>
                <a:latin typeface="Arial"/>
                <a:ea typeface="ＭＳ Ｐゴシック"/>
              </a:rPr>
              <a:t> принципів Конвенції ООН  про права дитини</a:t>
            </a:r>
            <a:r>
              <a:rPr b="0" lang="uk-UA" sz="2000" spc="-1" strike="noStrike">
                <a:solidFill>
                  <a:srgbClr val="000000"/>
                </a:solidFill>
                <a:latin typeface="Arial"/>
                <a:ea typeface="ＭＳ Ｐゴシック"/>
              </a:rPr>
              <a:t>.</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ＭＳ Ｐゴシック"/>
              </a:rPr>
              <a: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ＭＳ Ｐゴシック"/>
              </a:rPr>
              <a:t>Стаття 6 даного документа проголошує, що кожна дитина має невід</a:t>
            </a:r>
            <a:r>
              <a:rPr b="0" lang="ru-RU" sz="2000" spc="-1" strike="noStrike">
                <a:solidFill>
                  <a:srgbClr val="000000"/>
                </a:solidFill>
                <a:latin typeface="Arial"/>
                <a:ea typeface="ＭＳ Ｐゴシック"/>
              </a:rPr>
              <a:t>’</a:t>
            </a:r>
            <a:r>
              <a:rPr b="0" lang="uk-UA" sz="2000" spc="-1" strike="noStrike">
                <a:solidFill>
                  <a:srgbClr val="000000"/>
                </a:solidFill>
                <a:latin typeface="Arial"/>
                <a:ea typeface="ＭＳ Ｐゴシック"/>
              </a:rPr>
              <a:t>ємне право на життя, а держави повинні забезпечити максимально можливою мірою виживання та здоровий розвиток дитини.</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ＭＳ Ｐゴシック"/>
              </a:rPr>
              <a:t>В Україні «Національним планом дій щодо реалізації</a:t>
            </a:r>
            <a:br>
              <a:rPr sz="2000"/>
            </a:br>
            <a:r>
              <a:rPr b="0" lang="uk-UA" sz="2000" spc="-1" strike="noStrike">
                <a:solidFill>
                  <a:srgbClr val="000000"/>
                </a:solidFill>
                <a:latin typeface="Arial"/>
                <a:ea typeface="ＭＳ Ｐゴシック"/>
              </a:rPr>
              <a:t>Конвенції ООН про права дитини» на період до 2016 р. було  передбачено, що метою його здійснення в сфері охорони здоров'я та формування здорового способу життя є «створення умов для народження здорової дитини, збереження здоров'я кожної дитини протягом усього періоду дитинства, забезпечення доступу до високоякісних медичних послуг».</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 name="Picture 4" descr=""/>
          <p:cNvPicPr/>
          <p:nvPr/>
        </p:nvPicPr>
        <p:blipFill>
          <a:blip r:embed="rId1"/>
          <a:stretch/>
        </p:blipFill>
        <p:spPr>
          <a:xfrm>
            <a:off x="7315200" y="0"/>
            <a:ext cx="1676520" cy="1219320"/>
          </a:xfrm>
          <a:prstGeom prst="rect">
            <a:avLst/>
          </a:prstGeom>
          <a:ln w="0">
            <a:noFill/>
          </a:ln>
        </p:spPr>
      </p:pic>
    </p:spTree>
  </p:cSld>
  <p:transition spd="med">
    <p:split dir="out"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523440" y="1038240"/>
            <a:ext cx="8210520" cy="5486400"/>
          </a:xfrm>
          <a:prstGeom prst="rect">
            <a:avLst/>
          </a:prstGeom>
          <a:noFill/>
          <a:ln w="0">
            <a:noFill/>
          </a:ln>
        </p:spPr>
        <p:txBody>
          <a:bodyPr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Станом на початок 2019 р. в Україні виконання плану щеплень проти </a:t>
            </a:r>
            <a:r>
              <a:rPr b="1" lang="uk-UA" sz="2000" spc="-1" strike="noStrike">
                <a:solidFill>
                  <a:srgbClr val="000000"/>
                </a:solidFill>
                <a:latin typeface="Arial"/>
              </a:rPr>
              <a:t>туберкульозу</a:t>
            </a:r>
            <a:r>
              <a:rPr b="0" lang="uk-UA" sz="2000" spc="-1" strike="noStrike">
                <a:solidFill>
                  <a:srgbClr val="000000"/>
                </a:solidFill>
                <a:latin typeface="Arial"/>
              </a:rPr>
              <a:t> серед дітей першого року життя вакциною </a:t>
            </a:r>
            <a:r>
              <a:rPr b="1" lang="uk-UA" sz="2000" spc="-1" strike="noStrike">
                <a:solidFill>
                  <a:srgbClr val="000000"/>
                </a:solidFill>
                <a:latin typeface="Arial"/>
              </a:rPr>
              <a:t>БЦЖ</a:t>
            </a:r>
            <a:r>
              <a:rPr b="0" lang="uk-UA" sz="2000" spc="-1" strike="noStrike">
                <a:solidFill>
                  <a:srgbClr val="000000"/>
                </a:solidFill>
                <a:latin typeface="Arial"/>
              </a:rPr>
              <a:t> становило </a:t>
            </a:r>
            <a:r>
              <a:rPr b="1" lang="uk-UA" sz="2000" spc="-1" strike="noStrike">
                <a:solidFill>
                  <a:srgbClr val="000000"/>
                </a:solidFill>
                <a:latin typeface="Arial"/>
              </a:rPr>
              <a:t>84,0%</a:t>
            </a:r>
            <a:r>
              <a:rPr b="0" lang="uk-UA" sz="2000" spc="-1" strike="noStrike">
                <a:solidFill>
                  <a:srgbClr val="000000"/>
                </a:solidFill>
                <a:latin typeface="Arial"/>
              </a:rPr>
              <a:t>. </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Первинним вакцинальним комплексом проти </a:t>
            </a:r>
            <a:r>
              <a:rPr b="1" lang="uk-UA" sz="2000" spc="-1" strike="noStrike">
                <a:solidFill>
                  <a:srgbClr val="000000"/>
                </a:solidFill>
                <a:latin typeface="Arial"/>
              </a:rPr>
              <a:t>поліомієліту</a:t>
            </a:r>
            <a:r>
              <a:rPr b="0" lang="uk-UA" sz="2000" spc="-1" strike="noStrike">
                <a:solidFill>
                  <a:srgbClr val="000000"/>
                </a:solidFill>
                <a:latin typeface="Arial"/>
              </a:rPr>
              <a:t> (три щеплення: у 2, 4 та 6 місяців) було вакциновано </a:t>
            </a:r>
            <a:r>
              <a:rPr b="1" lang="uk-UA" sz="2000" spc="-1" strike="noStrike">
                <a:solidFill>
                  <a:srgbClr val="000000"/>
                </a:solidFill>
                <a:latin typeface="Arial"/>
              </a:rPr>
              <a:t>69,2%</a:t>
            </a:r>
            <a:r>
              <a:rPr b="0" lang="uk-UA" sz="2000" spc="-1" strike="noStrike">
                <a:solidFill>
                  <a:srgbClr val="000000"/>
                </a:solidFill>
                <a:latin typeface="Arial"/>
              </a:rPr>
              <a:t> від запланованої чисельності дітей. </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Первинним вакцинальним комплексом проти </a:t>
            </a:r>
            <a:r>
              <a:rPr b="1" lang="uk-UA" sz="2000" spc="-1" strike="noStrike">
                <a:solidFill>
                  <a:srgbClr val="000000"/>
                </a:solidFill>
                <a:latin typeface="Arial"/>
              </a:rPr>
              <a:t>кашлюку, дифтерії та правця </a:t>
            </a:r>
            <a:r>
              <a:rPr b="0" lang="uk-UA" sz="2000" spc="-1" strike="noStrike">
                <a:solidFill>
                  <a:srgbClr val="000000"/>
                </a:solidFill>
                <a:latin typeface="Arial"/>
              </a:rPr>
              <a:t>(три  щеплення: у 2, 4 та 6 місяців вакциною </a:t>
            </a:r>
            <a:r>
              <a:rPr b="1" lang="uk-UA" sz="2000" spc="-1" strike="noStrike">
                <a:solidFill>
                  <a:srgbClr val="000000"/>
                </a:solidFill>
                <a:latin typeface="Arial"/>
              </a:rPr>
              <a:t>АКДП</a:t>
            </a:r>
            <a:r>
              <a:rPr b="0" lang="uk-UA" sz="2000" spc="-1" strike="noStrike">
                <a:solidFill>
                  <a:srgbClr val="000000"/>
                </a:solidFill>
                <a:latin typeface="Arial"/>
              </a:rPr>
              <a:t>) щеплення у віці до одного року було проведено </a:t>
            </a:r>
            <a:r>
              <a:rPr b="1" lang="uk-UA" sz="2000" spc="-1" strike="noStrike">
                <a:solidFill>
                  <a:srgbClr val="000000"/>
                </a:solidFill>
                <a:latin typeface="Arial"/>
              </a:rPr>
              <a:t>67,5%</a:t>
            </a:r>
            <a:r>
              <a:rPr b="0" lang="uk-UA" sz="2000" spc="-1" strike="noStrike">
                <a:solidFill>
                  <a:srgbClr val="000000"/>
                </a:solidFill>
                <a:latin typeface="Arial"/>
              </a:rPr>
              <a:t> запланованої до вакцинації чисельності дітей.</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a:t>
            </a:r>
            <a:r>
              <a:rPr b="0" lang="uk-UA" sz="2000" spc="-1" strike="noStrike">
                <a:solidFill>
                  <a:srgbClr val="000000"/>
                </a:solidFill>
                <a:latin typeface="Arial"/>
              </a:rPr>
              <a:t>Проти </a:t>
            </a:r>
            <a:r>
              <a:rPr b="1" lang="uk-UA" sz="2000" spc="-1" strike="noStrike">
                <a:solidFill>
                  <a:srgbClr val="000000"/>
                </a:solidFill>
                <a:latin typeface="Arial"/>
              </a:rPr>
              <a:t>кору, паротиту та краснухи </a:t>
            </a:r>
            <a:r>
              <a:rPr b="0" lang="uk-UA" sz="2000" spc="-1" strike="noStrike">
                <a:solidFill>
                  <a:srgbClr val="000000"/>
                </a:solidFill>
                <a:latin typeface="Arial"/>
              </a:rPr>
              <a:t>комбінованою вакциною </a:t>
            </a:r>
            <a:r>
              <a:rPr b="1" lang="uk-UA" sz="2000" spc="-1" strike="noStrike">
                <a:solidFill>
                  <a:srgbClr val="000000"/>
                </a:solidFill>
                <a:latin typeface="Arial"/>
              </a:rPr>
              <a:t>КПК </a:t>
            </a:r>
            <a:r>
              <a:rPr b="0" lang="uk-UA" sz="2000" spc="-1" strike="noStrike">
                <a:solidFill>
                  <a:srgbClr val="000000"/>
                </a:solidFill>
                <a:latin typeface="Arial"/>
              </a:rPr>
              <a:t>було вакциновано </a:t>
            </a:r>
            <a:r>
              <a:rPr b="1" lang="uk-UA" sz="2000" spc="-1" strike="noStrike">
                <a:solidFill>
                  <a:srgbClr val="000000"/>
                </a:solidFill>
                <a:latin typeface="Arial"/>
              </a:rPr>
              <a:t>91,0%</a:t>
            </a:r>
            <a:r>
              <a:rPr b="0" lang="uk-UA" sz="2000" spc="-1" strike="noStrike">
                <a:solidFill>
                  <a:srgbClr val="000000"/>
                </a:solidFill>
                <a:latin typeface="Arial"/>
              </a:rPr>
              <a:t> запланованої чисельності дітей у віці 1 року.</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a:t>
            </a:r>
            <a:r>
              <a:rPr b="0" lang="uk-UA" sz="2000" spc="-1" strike="noStrike">
                <a:solidFill>
                  <a:srgbClr val="000000"/>
                </a:solidFill>
                <a:latin typeface="Arial"/>
              </a:rPr>
              <a:t>Первинним вакцинальним комплексом проти </a:t>
            </a:r>
            <a:r>
              <a:rPr b="1" lang="uk-UA" sz="2000" spc="-1" strike="noStrike">
                <a:solidFill>
                  <a:srgbClr val="000000"/>
                </a:solidFill>
                <a:latin typeface="Arial"/>
              </a:rPr>
              <a:t>гепатиту В1 </a:t>
            </a:r>
            <a:r>
              <a:rPr b="0" lang="uk-UA" sz="2000" spc="-1" strike="noStrike">
                <a:solidFill>
                  <a:srgbClr val="000000"/>
                </a:solidFill>
                <a:latin typeface="Arial"/>
              </a:rPr>
              <a:t>(3 дози - у першу добу життя, 1 місяць, 6 місяців) в Україні станом на початок 2019 р. було вакциновано </a:t>
            </a:r>
            <a:r>
              <a:rPr b="1" lang="uk-UA" sz="2000" spc="-1" strike="noStrike">
                <a:solidFill>
                  <a:srgbClr val="000000"/>
                </a:solidFill>
                <a:latin typeface="Arial"/>
              </a:rPr>
              <a:t>82,9% </a:t>
            </a:r>
            <a:r>
              <a:rPr b="0" lang="uk-UA" sz="2000" spc="-1" strike="noStrike">
                <a:solidFill>
                  <a:srgbClr val="000000"/>
                </a:solidFill>
                <a:latin typeface="Arial"/>
              </a:rPr>
              <a:t>дітей, які підлягали  плановій вакцинації. </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2" name="Picture 4" descr=""/>
          <p:cNvPicPr/>
          <p:nvPr/>
        </p:nvPicPr>
        <p:blipFill>
          <a:blip r:embed="rId1"/>
          <a:stretch/>
        </p:blipFill>
        <p:spPr>
          <a:xfrm>
            <a:off x="7315200" y="0"/>
            <a:ext cx="1676520" cy="1219320"/>
          </a:xfrm>
          <a:prstGeom prst="rect">
            <a:avLst/>
          </a:prstGeom>
          <a:ln w="0">
            <a:noFill/>
          </a:ln>
        </p:spPr>
      </p:pic>
    </p:spTree>
  </p:cSld>
  <p:transition spd="med">
    <p:split dir="out"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3" name=""/>
          <p:cNvGraphicFramePr/>
          <p:nvPr/>
        </p:nvGraphicFramePr>
        <p:xfrm>
          <a:off x="404640" y="1503360"/>
          <a:ext cx="8039160" cy="4505400"/>
        </p:xfrm>
        <a:graphic>
          <a:graphicData uri="http://schemas.openxmlformats.org/drawingml/2006/table">
            <a:tbl>
              <a:tblPr/>
              <a:tblGrid>
                <a:gridCol w="866880"/>
                <a:gridCol w="895320"/>
                <a:gridCol w="897120"/>
                <a:gridCol w="896760"/>
                <a:gridCol w="897120"/>
                <a:gridCol w="896760"/>
                <a:gridCol w="897120"/>
                <a:gridCol w="895320"/>
                <a:gridCol w="896760"/>
              </a:tblGrid>
              <a:tr h="97164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Arial"/>
                          <a:ea typeface="Times New Roman"/>
                        </a:rPr>
                        <a:t>БЦЖ </a:t>
                      </a:r>
                      <a:endParaRPr b="0" lang="en-US" sz="12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Arial"/>
                          <a:ea typeface="Times New Roman"/>
                        </a:rPr>
                        <a:t>(1 рік і старше) </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Arial"/>
                          <a:ea typeface="Times New Roman"/>
                        </a:rPr>
                        <a:t>БЦЖ2</a:t>
                      </a:r>
                      <a:endParaRPr b="0" lang="en-US" sz="12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Arial"/>
                          <a:ea typeface="Times New Roman"/>
                        </a:rPr>
                        <a:t> </a:t>
                      </a:r>
                      <a:r>
                        <a:rPr b="1" lang="uk-UA" sz="1200" spc="-1" strike="noStrike">
                          <a:solidFill>
                            <a:srgbClr val="000000"/>
                          </a:solidFill>
                          <a:latin typeface="Arial"/>
                          <a:ea typeface="Times New Roman"/>
                        </a:rPr>
                        <a:t>(7 років)</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Arial"/>
                          <a:ea typeface="Times New Roman"/>
                        </a:rPr>
                        <a:t>Поліо-3 </a:t>
                      </a:r>
                      <a:endParaRPr b="0" lang="en-US" sz="12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Arial"/>
                          <a:ea typeface="Times New Roman"/>
                        </a:rPr>
                        <a:t>(1 рік і </a:t>
                      </a:r>
                      <a:endParaRPr b="0" lang="en-US" sz="12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Arial"/>
                          <a:ea typeface="Times New Roman"/>
                        </a:rPr>
                        <a:t>старше)</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Arial"/>
                          <a:ea typeface="Times New Roman"/>
                        </a:rPr>
                        <a:t>Поліо-4 </a:t>
                      </a:r>
                      <a:endParaRPr b="0" lang="en-US" sz="12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Arial"/>
                          <a:ea typeface="Times New Roman"/>
                        </a:rPr>
                        <a:t>(18 міс.) </a:t>
                      </a:r>
                      <a:endParaRPr b="0" lang="en-US" sz="12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Arial"/>
                          <a:ea typeface="Times New Roman"/>
                        </a:rPr>
                        <a:t>Поліо-4 (старші 2 років)  </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Arial"/>
                          <a:ea typeface="Times New Roman"/>
                        </a:rPr>
                        <a:t>Поліо-5 (6 років)</a:t>
                      </a:r>
                      <a:endParaRPr b="0" lang="en-US" sz="12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Arial"/>
                          <a:ea typeface="Times New Roman"/>
                        </a:rPr>
                        <a:t>Поліо-5 </a:t>
                      </a:r>
                      <a:endParaRPr b="0" lang="en-US" sz="12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Arial"/>
                          <a:ea typeface="Times New Roman"/>
                        </a:rPr>
                        <a:t>(старше 6 років</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Arial"/>
                          <a:ea typeface="Times New Roman"/>
                        </a:rPr>
                        <a:t>Поліо-6 (14 років)</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Arial"/>
                          <a:ea typeface="Times New Roman"/>
                        </a:rPr>
                        <a:t>Поліо-6 (старше 14 років)</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228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Arial"/>
                          <a:ea typeface="Times New Roman"/>
                        </a:rPr>
                        <a:t>45,8</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Arial"/>
                          <a:ea typeface="Times New Roman"/>
                        </a:rPr>
                        <a:t>28,4</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Arial"/>
                          <a:ea typeface="Times New Roman"/>
                        </a:rPr>
                        <a:t>67,0</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Arial"/>
                          <a:ea typeface="Times New Roman"/>
                        </a:rPr>
                        <a:t>67,8</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Arial"/>
                          <a:ea typeface="Times New Roman"/>
                        </a:rPr>
                        <a:t>69,3</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Arial"/>
                          <a:ea typeface="Times New Roman"/>
                        </a:rPr>
                        <a:t>81,3</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Arial"/>
                          <a:ea typeface="Times New Roman"/>
                        </a:rPr>
                        <a:t>70,7</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Arial"/>
                          <a:ea typeface="Times New Roman"/>
                        </a:rPr>
                        <a:t>80,2</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Arial"/>
                          <a:ea typeface="Times New Roman"/>
                        </a:rPr>
                        <a:t>64,4</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29528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Arial"/>
                          <a:ea typeface="Times New Roman"/>
                        </a:rPr>
                        <a:t>АКДП-3 1рік і старше</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Arial"/>
                          <a:ea typeface="Times New Roman"/>
                        </a:rPr>
                        <a:t>АКДП-4 (18 міс.)</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Arial"/>
                          <a:ea typeface="Times New Roman"/>
                        </a:rPr>
                        <a:t>АКДП (старше 2 років)</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Arial"/>
                          <a:ea typeface="Times New Roman"/>
                        </a:rPr>
                        <a:t>АДП</a:t>
                      </a:r>
                      <a:endParaRPr b="0" lang="en-US" sz="12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Arial"/>
                          <a:ea typeface="Times New Roman"/>
                        </a:rPr>
                        <a:t>(6 років)</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Arial"/>
                          <a:ea typeface="Times New Roman"/>
                        </a:rPr>
                        <a:t>АДП (старше 6 років)</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Arial"/>
                          <a:ea typeface="Times New Roman"/>
                        </a:rPr>
                        <a:t>АДП-М 2 доза (7 років і старше)</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Arial"/>
                          <a:ea typeface="Times New Roman"/>
                        </a:rPr>
                        <a:t>АДП-М (7 років і старше)</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Arial"/>
                          <a:ea typeface="Times New Roman"/>
                        </a:rPr>
                        <a:t>АДП-М (16 років)</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Arial"/>
                          <a:ea typeface="Times New Roman"/>
                        </a:rPr>
                        <a:t>АДП-м (старше16 років)</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228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Arial"/>
                          <a:ea typeface="Times New Roman"/>
                        </a:rPr>
                        <a:t>52,8</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Arial"/>
                          <a:ea typeface="Times New Roman"/>
                        </a:rPr>
                        <a:t>66,1</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Arial"/>
                          <a:ea typeface="Times New Roman"/>
                        </a:rPr>
                        <a:t>54,0</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Arial"/>
                          <a:ea typeface="Times New Roman"/>
                        </a:rPr>
                        <a:t>83,4</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Arial"/>
                          <a:ea typeface="Times New Roman"/>
                        </a:rPr>
                        <a:t>71,3</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Arial"/>
                          <a:ea typeface="Times New Roman"/>
                        </a:rPr>
                        <a:t>22,2</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Arial"/>
                          <a:ea typeface="Times New Roman"/>
                        </a:rPr>
                        <a:t>69,2</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Arial"/>
                          <a:ea typeface="Times New Roman"/>
                        </a:rPr>
                        <a:t>77,9</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Arial"/>
                          <a:ea typeface="Times New Roman"/>
                        </a:rPr>
                        <a:t>59,6</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97164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Arial"/>
                          <a:ea typeface="Times New Roman"/>
                        </a:rPr>
                        <a:t>АДП-М (дорослі)</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Arial"/>
                          <a:ea typeface="Times New Roman"/>
                        </a:rPr>
                        <a:t>Hib-1 (1 рік і старше)</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Arial"/>
                          <a:ea typeface="Times New Roman"/>
                        </a:rPr>
                        <a:t>Hib-2 (до 1 року)</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Arial"/>
                          <a:ea typeface="Times New Roman"/>
                        </a:rPr>
                        <a:t>Hib-3</a:t>
                      </a:r>
                      <a:endParaRPr b="0" lang="en-US" sz="12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Arial"/>
                          <a:ea typeface="Times New Roman"/>
                        </a:rPr>
                        <a:t> </a:t>
                      </a:r>
                      <a:r>
                        <a:rPr b="1" lang="uk-UA" sz="1200" spc="-1" strike="noStrike">
                          <a:solidFill>
                            <a:srgbClr val="000000"/>
                          </a:solidFill>
                          <a:latin typeface="Arial"/>
                          <a:ea typeface="Times New Roman"/>
                        </a:rPr>
                        <a:t>(1 рік)</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Arial"/>
                          <a:ea typeface="Times New Roman"/>
                        </a:rPr>
                        <a:t>КПК-1 (2 роки і старше)</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Arial"/>
                          <a:ea typeface="Times New Roman"/>
                        </a:rPr>
                        <a:t>КПК-2 (6 років)</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Arial"/>
                          <a:ea typeface="Times New Roman"/>
                        </a:rPr>
                        <a:t>КПК-2 (7 років і старше)</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Arial"/>
                          <a:ea typeface="Times New Roman"/>
                        </a:rPr>
                        <a:t>Геп В3 (до 1 року)</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Arial"/>
                          <a:ea typeface="Times New Roman"/>
                        </a:rPr>
                        <a:t>Геп В3 (1 рік і старше)</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228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Arial"/>
                          <a:ea typeface="Times New Roman"/>
                        </a:rPr>
                        <a:t>55,6</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Arial"/>
                          <a:ea typeface="Times New Roman"/>
                        </a:rPr>
                        <a:t>42,2</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Arial"/>
                          <a:ea typeface="Times New Roman"/>
                        </a:rPr>
                        <a:t>51,1</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Arial"/>
                          <a:ea typeface="Times New Roman"/>
                        </a:rPr>
                        <a:t>57,7</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Arial"/>
                          <a:ea typeface="Times New Roman"/>
                        </a:rPr>
                        <a:t>84,2</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Arial"/>
                          <a:ea typeface="Times New Roman"/>
                        </a:rPr>
                        <a:t>89,5</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Arial"/>
                          <a:ea typeface="Times New Roman"/>
                        </a:rPr>
                        <a:t>87,7</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Arial"/>
                          <a:ea typeface="Times New Roman"/>
                        </a:rPr>
                        <a:t>65,2</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Arial"/>
                          <a:ea typeface="Times New Roman"/>
                        </a:rPr>
                        <a:t>51,5</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4" name="Прямоугольник 2"/>
          <p:cNvSpPr/>
          <p:nvPr/>
        </p:nvSpPr>
        <p:spPr>
          <a:xfrm>
            <a:off x="266760" y="6008760"/>
            <a:ext cx="86868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ea typeface="ＭＳ Ｐゴシック"/>
              </a:rPr>
              <a:t>Широкомасштабна реалізація програм імунізації дає змогу досягти значних успіхів, значно впливає на питому вагу інфекційних захворювань у структурі дитячої смертності. Однак виразний епідемічний ефект відзначається лише при охопленні щепленнями не менш ніж 95% населення. </a:t>
            </a:r>
            <a:endParaRPr b="0" lang="en-US" sz="1400" spc="-1" strike="noStrike">
              <a:solidFill>
                <a:srgbClr val="000000"/>
              </a:solidFill>
              <a:latin typeface="Arial"/>
            </a:endParaRPr>
          </a:p>
        </p:txBody>
      </p:sp>
      <p:pic>
        <p:nvPicPr>
          <p:cNvPr id="125" name="Picture 4" descr=""/>
          <p:cNvPicPr/>
          <p:nvPr/>
        </p:nvPicPr>
        <p:blipFill>
          <a:blip r:embed="rId1"/>
          <a:stretch/>
        </p:blipFill>
        <p:spPr>
          <a:xfrm>
            <a:off x="7315200" y="0"/>
            <a:ext cx="1676520" cy="1219320"/>
          </a:xfrm>
          <a:prstGeom prst="rect">
            <a:avLst/>
          </a:prstGeom>
          <a:ln w="0">
            <a:noFill/>
          </a:ln>
        </p:spPr>
      </p:pic>
      <p:sp>
        <p:nvSpPr>
          <p:cNvPr id="126" name="Title 1"/>
          <p:cNvSpPr/>
          <p:nvPr/>
        </p:nvSpPr>
        <p:spPr>
          <a:xfrm>
            <a:off x="552600" y="609480"/>
            <a:ext cx="7743600" cy="901800"/>
          </a:xfrm>
          <a:prstGeom prst="rect">
            <a:avLst/>
          </a:prstGeom>
          <a:noFill/>
          <a:ln w="0">
            <a:noFill/>
          </a:ln>
        </p:spPr>
        <p:style>
          <a:lnRef idx="0"/>
          <a:fillRef idx="0"/>
          <a:effectRef idx="0"/>
          <a:fontRef idx="minor"/>
        </p:style>
        <p:txBody>
          <a:bodyPr lIns="92160" rIns="92160" tIns="46080" bIns="46080" anchor="t">
            <a:normAutofit fontScale="9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ea typeface="ＭＳ Ｐゴシック"/>
              </a:rPr>
              <a:t>Індикатор 3.7.1. Рівень охоплення імунопрофілактикою згідно з Національним календарем щеплень (відповідно до медичних показань), %</a:t>
            </a:r>
            <a:endParaRPr b="0" lang="en-US" sz="1800" spc="-1" strike="noStrike">
              <a:solidFill>
                <a:srgbClr val="000000"/>
              </a:solidFill>
              <a:latin typeface="Arial"/>
            </a:endParaRPr>
          </a:p>
        </p:txBody>
      </p:sp>
    </p:spTree>
  </p:cSld>
  <p:transition spd="med">
    <p:split dir="out"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577800" y="110664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262673"/>
                </a:solidFill>
                <a:latin typeface="Arial"/>
              </a:rPr>
              <a:t>                     </a:t>
            </a:r>
            <a:r>
              <a:rPr b="1" i="1" lang="uk-UA" sz="3200" spc="-1" strike="noStrike">
                <a:solidFill>
                  <a:srgbClr val="262673"/>
                </a:solidFill>
                <a:latin typeface="Arial"/>
              </a:rPr>
              <a:t>Дякую за увагу !</a:t>
            </a:r>
            <a:endParaRPr b="0" lang="en-US" sz="3200" spc="-1" strike="noStrike">
              <a:solidFill>
                <a:srgbClr val="000000"/>
              </a:solidFill>
              <a:latin typeface="Arial"/>
            </a:endParaRPr>
          </a:p>
        </p:txBody>
      </p:sp>
      <p:pic>
        <p:nvPicPr>
          <p:cNvPr id="128" name="Picture 4" descr=""/>
          <p:cNvPicPr/>
          <p:nvPr/>
        </p:nvPicPr>
        <p:blipFill>
          <a:blip r:embed="rId1"/>
          <a:stretch/>
        </p:blipFill>
        <p:spPr>
          <a:xfrm>
            <a:off x="7315200" y="0"/>
            <a:ext cx="1676520" cy="1219320"/>
          </a:xfrm>
          <a:prstGeom prst="rect">
            <a:avLst/>
          </a:prstGeom>
          <a:ln w="0">
            <a:noFill/>
          </a:ln>
        </p:spPr>
      </p:pic>
    </p:spTree>
  </p:cSld>
  <p:transition spd="med">
    <p:split dir="out"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4" name=""/>
          <p:cNvGraphicFramePr/>
          <p:nvPr/>
        </p:nvGraphicFramePr>
        <p:xfrm>
          <a:off x="1457280" y="1967040"/>
          <a:ext cx="6229440" cy="2357280"/>
        </p:xfrm>
        <a:graphic>
          <a:graphicData uri="http://schemas.openxmlformats.org/drawingml/2006/table">
            <a:tbl>
              <a:tblPr/>
              <a:tblGrid>
                <a:gridCol w="6229440"/>
              </a:tblGrid>
              <a:tr h="385560">
                <a:tc>
                  <a:txBody>
                    <a:bodyPr lIns="68760" rIns="6876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Arial"/>
                        </a:rPr>
                        <a:t>Кожна дитина живе та розвивається</a:t>
                      </a:r>
                      <a:endParaRPr b="0" lang="en-US" sz="1400" spc="-1" strike="noStrike">
                        <a:solidFill>
                          <a:srgbClr val="000000"/>
                        </a:solidFill>
                        <a:latin typeface="Arial"/>
                      </a:endParaRPr>
                    </a:p>
                  </a:txBody>
                  <a:tcPr anchor="t" marL="68760" marR="68760">
                    <a:lnL w="4320">
                      <a:solidFill>
                        <a:srgbClr val="2f2f98"/>
                      </a:solidFill>
                    </a:lnL>
                    <a:lnR w="4320">
                      <a:solidFill>
                        <a:srgbClr val="2f2f98"/>
                      </a:solidFill>
                    </a:lnR>
                    <a:lnT w="4320">
                      <a:solidFill>
                        <a:srgbClr val="2f2f98"/>
                      </a:solidFill>
                    </a:lnT>
                    <a:lnB w="4320">
                      <a:solidFill>
                        <a:srgbClr val="2f2f98"/>
                      </a:solidFill>
                    </a:lnB>
                    <a:solidFill>
                      <a:srgbClr val="333399"/>
                    </a:solidFill>
                  </a:tcPr>
                </a:tc>
              </a:tr>
              <a:tr h="385920">
                <a:tc>
                  <a:txBody>
                    <a:bodyPr lIns="68760" rIns="6876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Arial"/>
                        </a:rPr>
                        <a:t> </a:t>
                      </a:r>
                      <a:endParaRPr b="0" lang="en-US" sz="1200" spc="-1" strike="noStrike">
                        <a:solidFill>
                          <a:srgbClr val="000000"/>
                        </a:solidFill>
                        <a:latin typeface="Arial"/>
                      </a:endParaRPr>
                    </a:p>
                  </a:txBody>
                  <a:tcPr anchor="t" marL="68760" marR="68760">
                    <a:lnL w="4320">
                      <a:solidFill>
                        <a:srgbClr val="2f2f98"/>
                      </a:solidFill>
                    </a:lnL>
                    <a:lnR w="4320">
                      <a:solidFill>
                        <a:srgbClr val="2f2f98"/>
                      </a:solidFill>
                    </a:lnR>
                    <a:lnT w="4320">
                      <a:solidFill>
                        <a:srgbClr val="2f2f98"/>
                      </a:solidFill>
                    </a:lnT>
                    <a:lnB w="4320">
                      <a:solidFill>
                        <a:srgbClr val="2f2f98"/>
                      </a:solidFill>
                    </a:lnB>
                    <a:noFill/>
                  </a:tcPr>
                </a:tc>
              </a:tr>
              <a:tr h="793800">
                <a:tc>
                  <a:txBody>
                    <a:bodyPr lIns="68760" rIns="6876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Конвенція ООН про права дитини</a:t>
                      </a:r>
                      <a:endParaRPr b="0" lang="en-US" sz="14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ст. 6, 24</a:t>
                      </a:r>
                      <a:endParaRPr b="0" lang="en-US" sz="1400" spc="-1" strike="noStrike">
                        <a:solidFill>
                          <a:srgbClr val="000000"/>
                        </a:solidFill>
                        <a:latin typeface="Arial"/>
                      </a:endParaRPr>
                    </a:p>
                  </a:txBody>
                  <a:tcPr anchor="t" marL="68760" marR="68760">
                    <a:lnL w="4320">
                      <a:solidFill>
                        <a:srgbClr val="2f2f98"/>
                      </a:solidFill>
                    </a:lnL>
                    <a:lnR w="4320">
                      <a:solidFill>
                        <a:srgbClr val="2f2f98"/>
                      </a:solidFill>
                    </a:lnR>
                    <a:lnT w="4320">
                      <a:solidFill>
                        <a:srgbClr val="2f2f98"/>
                      </a:solidFill>
                    </a:lnT>
                    <a:lnB w="4320">
                      <a:solidFill>
                        <a:srgbClr val="2f2f98"/>
                      </a:solidFill>
                    </a:lnB>
                    <a:noFill/>
                  </a:tcPr>
                </a:tc>
              </a:tr>
              <a:tr h="792000">
                <a:tc>
                  <a:txBody>
                    <a:bodyPr lIns="68760" rIns="6876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ЦСР2, ЦСР3,</a:t>
                      </a:r>
                      <a:endParaRPr b="0" lang="en-US" sz="14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ЦСР5</a:t>
                      </a:r>
                      <a:endParaRPr b="0" lang="en-US" sz="1400" spc="-1" strike="noStrike">
                        <a:solidFill>
                          <a:srgbClr val="000000"/>
                        </a:solidFill>
                        <a:latin typeface="Arial"/>
                      </a:endParaRPr>
                    </a:p>
                  </a:txBody>
                  <a:tcPr anchor="t" marL="68760" marR="68760">
                    <a:lnL w="4320">
                      <a:solidFill>
                        <a:srgbClr val="2f2f98"/>
                      </a:solidFill>
                    </a:lnL>
                    <a:lnR w="4320">
                      <a:solidFill>
                        <a:srgbClr val="2f2f98"/>
                      </a:solidFill>
                    </a:lnR>
                    <a:lnT w="4320">
                      <a:solidFill>
                        <a:srgbClr val="2f2f98"/>
                      </a:solidFill>
                    </a:lnT>
                    <a:lnB w="4320">
                      <a:solidFill>
                        <a:srgbClr val="2f2f98"/>
                      </a:solidFill>
                    </a:lnB>
                    <a:noFill/>
                  </a:tcPr>
                </a:tc>
              </a:tr>
            </a:tbl>
          </a:graphicData>
        </a:graphic>
      </p:graphicFrame>
      <p:sp>
        <p:nvSpPr>
          <p:cNvPr id="65" name="Прямоугольник 3"/>
          <p:cNvSpPr/>
          <p:nvPr/>
        </p:nvSpPr>
        <p:spPr>
          <a:xfrm>
            <a:off x="695160" y="4392720"/>
            <a:ext cx="7782120" cy="146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ea typeface="ＭＳ Ｐゴシック"/>
              </a:rPr>
              <a:t>У 2018 р. в Україні прийнято Державну соціальну програму </a:t>
            </a:r>
            <a:r>
              <a:rPr b="1" lang="uk-UA" sz="1800" spc="-1" strike="noStrike">
                <a:solidFill>
                  <a:srgbClr val="000000"/>
                </a:solidFill>
                <a:latin typeface="Arial"/>
                <a:ea typeface="ＭＳ Ｐゴシック"/>
              </a:rPr>
              <a:t>«</a:t>
            </a:r>
            <a:r>
              <a:rPr b="0" lang="uk-UA" sz="1800" spc="-1" strike="noStrike">
                <a:solidFill>
                  <a:srgbClr val="000000"/>
                </a:solidFill>
                <a:latin typeface="Arial"/>
                <a:ea typeface="ＭＳ Ｐゴシック"/>
              </a:rPr>
              <a:t>Національний план дій щодо реалізації Конвенції ООН про права дитини» на період до 2021 р., в рамках реалізації якої одним із пріоритетних напрямів діяльності є створення сприятливих умов для життя та розвитку дитини</a:t>
            </a:r>
            <a:endParaRPr b="0" lang="en-US" sz="1800" spc="-1" strike="noStrike">
              <a:solidFill>
                <a:srgbClr val="000000"/>
              </a:solidFill>
              <a:latin typeface="Arial"/>
            </a:endParaRPr>
          </a:p>
        </p:txBody>
      </p:sp>
      <p:pic>
        <p:nvPicPr>
          <p:cNvPr id="66" name="Picture 4" descr=""/>
          <p:cNvPicPr/>
          <p:nvPr/>
        </p:nvPicPr>
        <p:blipFill>
          <a:blip r:embed="rId1"/>
          <a:stretch/>
        </p:blipFill>
        <p:spPr>
          <a:xfrm>
            <a:off x="7315200" y="0"/>
            <a:ext cx="1676520" cy="1219320"/>
          </a:xfrm>
          <a:prstGeom prst="rect">
            <a:avLst/>
          </a:prstGeom>
          <a:ln w="0">
            <a:noFill/>
          </a:ln>
        </p:spPr>
      </p:pic>
      <p:sp>
        <p:nvSpPr>
          <p:cNvPr id="67" name="Прямоугольник 1"/>
          <p:cNvSpPr/>
          <p:nvPr/>
        </p:nvSpPr>
        <p:spPr>
          <a:xfrm>
            <a:off x="600120" y="985680"/>
            <a:ext cx="74390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ea typeface="ＭＳ Ｐゴシック"/>
              </a:rPr>
              <a:t>Стратегічний план Дитячого Фонду ООН</a:t>
            </a:r>
            <a:r>
              <a:rPr b="0" lang="uk-UA" sz="1800" spc="-1" strike="noStrike">
                <a:solidFill>
                  <a:srgbClr val="000000"/>
                </a:solidFill>
                <a:latin typeface="Arial"/>
                <a:ea typeface="ＭＳ Ｐゴシック"/>
              </a:rPr>
              <a:t> (ЮНІСЕФ) на 2018–2022 рр. визначає пріоритетні завдання з реалізації прав дитини за ключовим напрямом </a:t>
            </a:r>
            <a:endParaRPr b="0" lang="en-US" sz="1800" spc="-1" strike="noStrike">
              <a:solidFill>
                <a:srgbClr val="000000"/>
              </a:solidFill>
              <a:latin typeface="Arial"/>
            </a:endParaRPr>
          </a:p>
        </p:txBody>
      </p:sp>
    </p:spTree>
  </p:cSld>
  <p:transition spd="med">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8" name=""/>
          <p:cNvGraphicFramePr/>
          <p:nvPr/>
        </p:nvGraphicFramePr>
        <p:xfrm>
          <a:off x="792000" y="3392640"/>
          <a:ext cx="7635960" cy="1312560"/>
        </p:xfrm>
        <a:graphic>
          <a:graphicData uri="http://schemas.openxmlformats.org/drawingml/2006/table">
            <a:tbl>
              <a:tblPr/>
              <a:tblGrid>
                <a:gridCol w="1527480"/>
                <a:gridCol w="1741320"/>
                <a:gridCol w="1312920"/>
                <a:gridCol w="1527120"/>
                <a:gridCol w="1527120"/>
              </a:tblGrid>
              <a:tr h="10634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ea typeface="Calibri"/>
                        </a:rPr>
                        <a:t>2015 (стартовий  рівень)</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ea typeface="Calibri"/>
                        </a:rPr>
                        <a:t>2017</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ea typeface="Calibri"/>
                        </a:rPr>
                        <a:t>(нині досягнутий проміжний рівень)</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ea typeface="Calibri"/>
                        </a:rPr>
                        <a:t>2020</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ea typeface="Calibri"/>
                        </a:rPr>
                        <a:t>2025</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ea typeface="Calibri"/>
                        </a:rPr>
                        <a:t>2030</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91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ea typeface="Calibri"/>
                        </a:rPr>
                        <a:t>9,3</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ea typeface="Calibri"/>
                        </a:rPr>
                        <a:t>8,9</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ea typeface="Calibri"/>
                        </a:rPr>
                        <a:t>8,5</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ea typeface="Calibri"/>
                        </a:rPr>
                        <a:t>7,5</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ea typeface="Calibri"/>
                        </a:rPr>
                        <a:t>6-7</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9" name="Прямоугольник 4"/>
          <p:cNvSpPr/>
          <p:nvPr/>
        </p:nvSpPr>
        <p:spPr>
          <a:xfrm>
            <a:off x="952560" y="1901880"/>
            <a:ext cx="7729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ea typeface="ＭＳ Ｐゴシック"/>
              </a:rPr>
              <a:t>Індикатор 3.2.1. Смертність дітей до 5 років, випадків на 1000 живонароджених в Україні</a:t>
            </a:r>
            <a:endParaRPr b="0" lang="en-US" sz="1800" spc="-1" strike="noStrike">
              <a:solidFill>
                <a:srgbClr val="000000"/>
              </a:solidFill>
              <a:latin typeface="Arial"/>
            </a:endParaRPr>
          </a:p>
        </p:txBody>
      </p:sp>
      <p:pic>
        <p:nvPicPr>
          <p:cNvPr id="70" name="Picture 4" descr=""/>
          <p:cNvPicPr/>
          <p:nvPr/>
        </p:nvPicPr>
        <p:blipFill>
          <a:blip r:embed="rId1"/>
          <a:stretch/>
        </p:blipFill>
        <p:spPr>
          <a:xfrm>
            <a:off x="7315200" y="0"/>
            <a:ext cx="1676520" cy="1219320"/>
          </a:xfrm>
          <a:prstGeom prst="rect">
            <a:avLst/>
          </a:prstGeom>
          <a:ln w="0">
            <a:noFill/>
          </a:ln>
        </p:spPr>
      </p:pic>
      <p:sp>
        <p:nvSpPr>
          <p:cNvPr id="71" name="Title 1"/>
          <p:cNvSpPr/>
          <p:nvPr/>
        </p:nvSpPr>
        <p:spPr>
          <a:xfrm>
            <a:off x="792000" y="779400"/>
            <a:ext cx="7371000" cy="947880"/>
          </a:xfrm>
          <a:prstGeom prst="rect">
            <a:avLst/>
          </a:prstGeom>
          <a:noFill/>
          <a:ln w="0">
            <a:noFill/>
          </a:ln>
        </p:spPr>
        <p:style>
          <a:lnRef idx="0"/>
          <a:fillRef idx="0"/>
          <a:effectRef idx="0"/>
          <a:fontRef idx="minor"/>
        </p:style>
        <p:txBody>
          <a:bodyPr lIns="92160" rIns="92160" tIns="46080" bIns="4608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62673"/>
                </a:solidFill>
                <a:latin typeface="Arial"/>
                <a:ea typeface="ＭＳ Ｐゴシック"/>
              </a:rPr>
              <a:t>Завдання 3.2. Мінімізувати смертність, якій можна запобігти, серед дітей віком до 5 років.</a:t>
            </a:r>
            <a:endParaRPr b="0" lang="en-US" sz="2400" spc="-1" strike="noStrike">
              <a:solidFill>
                <a:srgbClr val="000000"/>
              </a:solidFill>
              <a:latin typeface="Arial"/>
            </a:endParaRPr>
          </a:p>
        </p:txBody>
      </p:sp>
    </p:spTree>
  </p:cSld>
  <p:transition spd="med">
    <p:split dir="out"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2" name="Диаграмма 3"/>
          <p:cNvGraphicFramePr/>
          <p:nvPr/>
        </p:nvGraphicFramePr>
        <p:xfrm>
          <a:off x="636480" y="2060640"/>
          <a:ext cx="7945560" cy="4560840"/>
        </p:xfrm>
        <a:graphic>
          <a:graphicData uri="http://schemas.openxmlformats.org/presentationml/2006/ole">
            <p:oleObj progId="Excel.Sheet.12" r:id="rId1" spid="">
              <p:embed/>
              <p:pic>
                <p:nvPicPr>
                  <p:cNvPr id="73" name="Диаграмма 3" descr=""/>
                  <p:cNvPicPr/>
                  <p:nvPr/>
                </p:nvPicPr>
                <p:blipFill>
                  <a:blip r:embed="rId2"/>
                  <a:stretch/>
                </p:blipFill>
                <p:spPr>
                  <a:xfrm>
                    <a:off x="636480" y="2060640"/>
                    <a:ext cx="7945560" cy="4560840"/>
                  </a:xfrm>
                  <a:prstGeom prst="rect">
                    <a:avLst/>
                  </a:prstGeom>
                  <a:ln w="0">
                    <a:noFill/>
                  </a:ln>
                </p:spPr>
              </p:pic>
            </p:oleObj>
          </a:graphicData>
        </a:graphic>
      </p:graphicFrame>
      <p:pic>
        <p:nvPicPr>
          <p:cNvPr id="74" name="Picture 4" descr=""/>
          <p:cNvPicPr/>
          <p:nvPr/>
        </p:nvPicPr>
        <p:blipFill>
          <a:blip r:embed="rId3"/>
          <a:stretch/>
        </p:blipFill>
        <p:spPr>
          <a:xfrm>
            <a:off x="7315200" y="0"/>
            <a:ext cx="1676520" cy="1219320"/>
          </a:xfrm>
          <a:prstGeom prst="rect">
            <a:avLst/>
          </a:prstGeom>
          <a:ln w="0">
            <a:noFill/>
          </a:ln>
        </p:spPr>
      </p:pic>
      <p:sp>
        <p:nvSpPr>
          <p:cNvPr id="75" name="PlaceHolder 1"/>
          <p:cNvSpPr>
            <a:spLocks noGrp="1"/>
          </p:cNvSpPr>
          <p:nvPr>
            <p:ph type="title"/>
          </p:nvPr>
        </p:nvSpPr>
        <p:spPr>
          <a:xfrm>
            <a:off x="810720" y="996480"/>
            <a:ext cx="7371000" cy="947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62673"/>
                </a:solidFill>
                <a:latin typeface="Arial"/>
              </a:rPr>
              <a:t>Смертність немовлят та смертність дітей до</a:t>
            </a:r>
            <a:br>
              <a:rPr sz="2400"/>
            </a:br>
            <a:r>
              <a:rPr b="1" lang="ru-RU" sz="2400" spc="-1" strike="noStrike">
                <a:solidFill>
                  <a:srgbClr val="262673"/>
                </a:solidFill>
                <a:latin typeface="Arial"/>
              </a:rPr>
              <a:t> 5 років (на 1000 народжених живими) в Україні у 2000-2017 рр.</a:t>
            </a:r>
            <a:r>
              <a:rPr b="1" lang="uk-UA" sz="2400" spc="-1" strike="noStrike">
                <a:solidFill>
                  <a:srgbClr val="262673"/>
                </a:solidFill>
                <a:latin typeface="Arial"/>
              </a:rPr>
              <a:t> </a:t>
            </a:r>
            <a:endParaRPr b="0" lang="en-US" sz="2400" spc="-1" strike="noStrike">
              <a:solidFill>
                <a:srgbClr val="000000"/>
              </a:solidFill>
              <a:latin typeface="Arial"/>
            </a:endParaRPr>
          </a:p>
        </p:txBody>
      </p:sp>
    </p:spTree>
  </p:cSld>
  <p:transition spd="med">
    <p:split dir="out"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255600" y="522000"/>
            <a:ext cx="8494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99"/>
                </a:solidFill>
                <a:latin typeface="Arial"/>
              </a:rPr>
              <a:t>Смертність дітей до 5 років в деяких </a:t>
            </a:r>
            <a:br>
              <a:rPr sz="2400"/>
            </a:br>
            <a:r>
              <a:rPr b="1" lang="uk-UA" sz="2400" spc="-1" strike="noStrike">
                <a:solidFill>
                  <a:srgbClr val="000099"/>
                </a:solidFill>
                <a:latin typeface="Arial"/>
              </a:rPr>
              <a:t>країнах Європи, </a:t>
            </a:r>
            <a:br>
              <a:rPr sz="2400"/>
            </a:br>
            <a:r>
              <a:rPr b="1" lang="uk-UA" sz="2400" spc="-1" strike="noStrike">
                <a:solidFill>
                  <a:srgbClr val="000099"/>
                </a:solidFill>
                <a:latin typeface="Arial"/>
              </a:rPr>
              <a:t>на 1000 живонароджених</a:t>
            </a:r>
            <a:endParaRPr b="0" lang="en-US" sz="2400" spc="-1" strike="noStrike">
              <a:solidFill>
                <a:srgbClr val="000000"/>
              </a:solidFill>
              <a:latin typeface="Arial"/>
            </a:endParaRPr>
          </a:p>
        </p:txBody>
      </p:sp>
      <p:pic>
        <p:nvPicPr>
          <p:cNvPr id="77" name="Объект 3" descr=""/>
          <p:cNvPicPr/>
          <p:nvPr/>
        </p:nvPicPr>
        <p:blipFill>
          <a:blip r:embed="rId1"/>
          <a:stretch/>
        </p:blipFill>
        <p:spPr>
          <a:xfrm>
            <a:off x="406440" y="1851120"/>
            <a:ext cx="8331120" cy="4773600"/>
          </a:xfrm>
          <a:prstGeom prst="rect">
            <a:avLst/>
          </a:prstGeom>
          <a:ln w="0">
            <a:noFill/>
          </a:ln>
        </p:spPr>
      </p:pic>
      <p:pic>
        <p:nvPicPr>
          <p:cNvPr id="78" name="Picture 4" descr=""/>
          <p:cNvPicPr/>
          <p:nvPr/>
        </p:nvPicPr>
        <p:blipFill>
          <a:blip r:embed="rId2"/>
          <a:stretch/>
        </p:blipFill>
        <p:spPr>
          <a:xfrm>
            <a:off x="7315200" y="0"/>
            <a:ext cx="1676520" cy="1219320"/>
          </a:xfrm>
          <a:prstGeom prst="rect">
            <a:avLst/>
          </a:prstGeom>
          <a:ln w="0">
            <a:noFill/>
          </a:ln>
        </p:spPr>
      </p:pic>
    </p:spTree>
  </p:cSld>
  <p:transition spd="med">
    <p:split dir="out"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438120" y="1031760"/>
            <a:ext cx="8431200" cy="4454640"/>
          </a:xfrm>
          <a:prstGeom prst="rect">
            <a:avLst/>
          </a:prstGeom>
          <a:noFill/>
          <a:ln w="0">
            <a:noFill/>
          </a:ln>
        </p:spPr>
        <p:txBody>
          <a:bodyPr anchor="t">
            <a:normAutofit fontScale="86000"/>
          </a:bodyPr>
          <a:p>
            <a:pPr marL="294840" indent="-294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Однією з найбільш вразливих і чутливих до різних несприятливих впливів групою дітей дошкільного віку є немовлята, які мають підвищені ризики смерті порівняно з наступними віковими групами. Рівень та динаміка смертності немовлят є визначальною  щодо формування втрат життів усіх дітей віком до 5 років.</a:t>
            </a:r>
            <a:endParaRPr b="0" lang="en-US" sz="2000" spc="-1" strike="noStrike">
              <a:solidFill>
                <a:srgbClr val="000000"/>
              </a:solidFill>
              <a:latin typeface="Arial"/>
            </a:endParaRPr>
          </a:p>
          <a:p>
            <a:pPr marL="294840" indent="-294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Висока захищеність дитини перед лицем захворювань і смерті протягом першого року її життя, обмеження дії факторів ризику і підвищення опірності їм нерозривно пов’язані з рівнем життя і передбачають досягнення певного ступеня соціально-економічного розвитку. Динаміка смертності дітей до 1 року надзвичайно чутливо реагує на зрушення у соціально-економічному і санітарному стані країни, у медичному обслуговуванні, екологічних умовах, способі життя різних верств населення тощо.</a:t>
            </a:r>
            <a:endParaRPr b="0" lang="en-US" sz="2000" spc="-1" strike="noStrike">
              <a:solidFill>
                <a:srgbClr val="000000"/>
              </a:solidFill>
              <a:latin typeface="Arial"/>
            </a:endParaRPr>
          </a:p>
          <a:p>
            <a:pPr marL="294840" indent="-294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Смертність немовлят в Україні останніми роками в середньому  майже втричі перевищує</a:t>
            </a:r>
            <a:r>
              <a:rPr b="0" lang="uk-UA" sz="2000" spc="-1" strike="noStrike">
                <a:solidFill>
                  <a:srgbClr val="000099"/>
                </a:solidFill>
                <a:latin typeface="Arial"/>
              </a:rPr>
              <a:t> </a:t>
            </a:r>
            <a:r>
              <a:rPr b="0" lang="uk-UA" sz="2000" spc="-1" strike="noStrike">
                <a:solidFill>
                  <a:srgbClr val="000000"/>
                </a:solidFill>
                <a:latin typeface="Arial"/>
              </a:rPr>
              <a:t>її рівень у Чехії, ледве не вдвічі - показники для Польщі й Угорщини та майже в півтора раза – рівень, досягнутий у  Словацькій республіці</a:t>
            </a:r>
            <a:endParaRPr b="0" lang="en-US" sz="2000" spc="-1" strike="noStrike">
              <a:solidFill>
                <a:srgbClr val="000000"/>
              </a:solidFill>
              <a:latin typeface="Arial"/>
            </a:endParaRPr>
          </a:p>
          <a:p>
            <a:pPr marL="294840" indent="-294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294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0" name="Picture 4" descr=""/>
          <p:cNvPicPr/>
          <p:nvPr/>
        </p:nvPicPr>
        <p:blipFill>
          <a:blip r:embed="rId1"/>
          <a:stretch/>
        </p:blipFill>
        <p:spPr>
          <a:xfrm>
            <a:off x="7315200" y="0"/>
            <a:ext cx="1676520" cy="1219320"/>
          </a:xfrm>
          <a:prstGeom prst="rect">
            <a:avLst/>
          </a:prstGeom>
          <a:ln w="0">
            <a:noFill/>
          </a:ln>
        </p:spPr>
      </p:pic>
    </p:spTree>
  </p:cSld>
  <p:transition spd="med">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1" name="Диаграмма 4"/>
          <p:cNvGraphicFramePr/>
          <p:nvPr/>
        </p:nvGraphicFramePr>
        <p:xfrm>
          <a:off x="301680" y="1730520"/>
          <a:ext cx="8393040" cy="4663800"/>
        </p:xfrm>
        <a:graphic>
          <a:graphicData uri="http://schemas.openxmlformats.org/presentationml/2006/ole">
            <p:oleObj progId="Excel.Sheet.12" r:id="rId1" spid="">
              <p:embed/>
              <p:pic>
                <p:nvPicPr>
                  <p:cNvPr id="82" name="Диаграмма 4" descr=""/>
                  <p:cNvPicPr/>
                  <p:nvPr/>
                </p:nvPicPr>
                <p:blipFill>
                  <a:blip r:embed="rId2"/>
                  <a:stretch/>
                </p:blipFill>
                <p:spPr>
                  <a:xfrm>
                    <a:off x="301680" y="1730520"/>
                    <a:ext cx="8393040" cy="4663800"/>
                  </a:xfrm>
                  <a:prstGeom prst="rect">
                    <a:avLst/>
                  </a:prstGeom>
                  <a:ln w="0">
                    <a:noFill/>
                  </a:ln>
                </p:spPr>
              </p:pic>
            </p:oleObj>
          </a:graphicData>
        </a:graphic>
      </p:graphicFrame>
      <p:pic>
        <p:nvPicPr>
          <p:cNvPr id="83" name="Picture 4" descr=""/>
          <p:cNvPicPr/>
          <p:nvPr/>
        </p:nvPicPr>
        <p:blipFill>
          <a:blip r:embed="rId3"/>
          <a:stretch/>
        </p:blipFill>
        <p:spPr>
          <a:xfrm>
            <a:off x="7315200" y="0"/>
            <a:ext cx="1676520" cy="1219320"/>
          </a:xfrm>
          <a:prstGeom prst="rect">
            <a:avLst/>
          </a:prstGeom>
          <a:ln w="0">
            <a:noFill/>
          </a:ln>
        </p:spPr>
      </p:pic>
      <p:sp>
        <p:nvSpPr>
          <p:cNvPr id="84" name="PlaceHolder 1"/>
          <p:cNvSpPr>
            <a:spLocks noGrp="1"/>
          </p:cNvSpPr>
          <p:nvPr>
            <p:ph type="title"/>
          </p:nvPr>
        </p:nvSpPr>
        <p:spPr>
          <a:xfrm>
            <a:off x="625320" y="566280"/>
            <a:ext cx="7507440" cy="947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62673"/>
                </a:solidFill>
                <a:latin typeface="Arial"/>
              </a:rPr>
              <a:t>Показники смертності немовлят та мертвонароджуваності в Україні в 2000-2017 рр.</a:t>
            </a:r>
            <a:endParaRPr b="0" lang="en-US" sz="2400" spc="-1" strike="noStrike">
              <a:solidFill>
                <a:srgbClr val="000000"/>
              </a:solidFill>
              <a:latin typeface="Arial"/>
            </a:endParaRPr>
          </a:p>
        </p:txBody>
      </p:sp>
    </p:spTree>
  </p:cSld>
  <p:transition spd="med">
    <p:split dir="out"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5" name=""/>
          <p:cNvGraphicFramePr/>
          <p:nvPr/>
        </p:nvGraphicFramePr>
        <p:xfrm>
          <a:off x="460440" y="1741320"/>
          <a:ext cx="8190000" cy="4562640"/>
        </p:xfrm>
        <a:graphic>
          <a:graphicData uri="http://schemas.openxmlformats.org/drawingml/2006/table">
            <a:tbl>
              <a:tblPr/>
              <a:tblGrid>
                <a:gridCol w="3244680"/>
                <a:gridCol w="1636920"/>
                <a:gridCol w="1720800"/>
                <a:gridCol w="1587600"/>
              </a:tblGrid>
              <a:tr h="490680">
                <a:tc rowSpan="2">
                  <a:txBody>
                    <a:bodyPr lIns="66960" rIns="66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ea typeface="Calibri"/>
                        </a:rPr>
                        <a:t>Причини смерті</a:t>
                      </a:r>
                      <a:endParaRPr b="0"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66960" rIns="66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ea typeface="Calibri"/>
                        </a:rPr>
                        <a:t>Число смертей у віці до 1 року (на 10000 живонароджених)</a:t>
                      </a:r>
                      <a:endParaRPr b="0"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6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6960" rIns="66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ea typeface="Calibri"/>
                        </a:rPr>
                        <a:t>2015</a:t>
                      </a:r>
                      <a:endParaRPr b="0"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ea typeface="Calibri"/>
                        </a:rPr>
                        <a:t>2016</a:t>
                      </a:r>
                      <a:endParaRPr b="0"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ea typeface="Calibri"/>
                        </a:rPr>
                        <a:t>2017</a:t>
                      </a:r>
                      <a:endParaRPr b="0"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r>
              <a:tr h="528480">
                <a:tc>
                  <a:txBody>
                    <a:bodyPr lIns="66960" rIns="669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ea typeface="Calibri"/>
                        </a:rPr>
                        <a:t>Деякі інфекційні та паразитарні хвороби</a:t>
                      </a:r>
                      <a:endParaRPr b="0"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ea typeface="Calibri"/>
                        </a:rPr>
                        <a:t>2,2</a:t>
                      </a:r>
                      <a:endParaRPr b="0"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ea typeface="Calibri"/>
                        </a:rPr>
                        <a:t> </a:t>
                      </a:r>
                      <a:r>
                        <a:rPr b="1" lang="uk-UA" sz="1400" spc="-1" strike="noStrike">
                          <a:solidFill>
                            <a:srgbClr val="000000"/>
                          </a:solidFill>
                          <a:latin typeface="Arial"/>
                          <a:ea typeface="Calibri"/>
                        </a:rPr>
                        <a:t>2,2</a:t>
                      </a:r>
                      <a:endParaRPr b="0"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ea typeface="Calibri"/>
                        </a:rPr>
                        <a:t>1,8</a:t>
                      </a:r>
                      <a:endParaRPr b="0"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66960" rIns="669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ea typeface="Calibri"/>
                        </a:rPr>
                        <a:t>Хвороби нервової системи</a:t>
                      </a:r>
                      <a:endParaRPr b="0"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ea typeface="Calibri"/>
                        </a:rPr>
                        <a:t> </a:t>
                      </a:r>
                      <a:r>
                        <a:rPr b="1" lang="uk-UA" sz="1400" spc="-1" strike="noStrike">
                          <a:solidFill>
                            <a:srgbClr val="000000"/>
                          </a:solidFill>
                          <a:latin typeface="Arial"/>
                          <a:ea typeface="Calibri"/>
                        </a:rPr>
                        <a:t>2,5</a:t>
                      </a:r>
                      <a:endParaRPr b="0"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ea typeface="Calibri"/>
                        </a:rPr>
                        <a:t> </a:t>
                      </a:r>
                      <a:r>
                        <a:rPr b="1" lang="uk-UA" sz="1400" spc="-1" strike="noStrike">
                          <a:solidFill>
                            <a:srgbClr val="000000"/>
                          </a:solidFill>
                          <a:latin typeface="Arial"/>
                          <a:ea typeface="Calibri"/>
                        </a:rPr>
                        <a:t>2,4</a:t>
                      </a:r>
                      <a:endParaRPr b="0"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ea typeface="Calibri"/>
                        </a:rPr>
                        <a:t> </a:t>
                      </a:r>
                      <a:r>
                        <a:rPr b="1" lang="uk-UA" sz="1400" spc="-1" strike="noStrike">
                          <a:solidFill>
                            <a:srgbClr val="000000"/>
                          </a:solidFill>
                          <a:latin typeface="Arial"/>
                          <a:ea typeface="Calibri"/>
                        </a:rPr>
                        <a:t>2,1</a:t>
                      </a:r>
                      <a:endParaRPr b="0"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r>
              <a:tr h="411120">
                <a:tc>
                  <a:txBody>
                    <a:bodyPr lIns="66960" rIns="669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ea typeface="Calibri"/>
                        </a:rPr>
                        <a:t>Хвороби органів дихання</a:t>
                      </a:r>
                      <a:endParaRPr b="0"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ea typeface="Calibri"/>
                        </a:rPr>
                        <a:t>2,9</a:t>
                      </a:r>
                      <a:endParaRPr b="0"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ea typeface="Calibri"/>
                        </a:rPr>
                        <a:t>3,0</a:t>
                      </a:r>
                      <a:endParaRPr b="0"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ea typeface="Calibri"/>
                        </a:rPr>
                        <a:t>2,6</a:t>
                      </a:r>
                      <a:endParaRPr b="0"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r>
              <a:tr h="550800">
                <a:tc>
                  <a:txBody>
                    <a:bodyPr lIns="66960" rIns="669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ea typeface="Calibri"/>
                        </a:rPr>
                        <a:t>Окремі стани, що виникають у перинатальному періоді</a:t>
                      </a:r>
                      <a:endParaRPr b="0"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ea typeface="Calibri"/>
                        </a:rPr>
                        <a:t> </a:t>
                      </a:r>
                      <a:r>
                        <a:rPr b="1" lang="uk-UA" sz="1400" spc="-1" strike="noStrike">
                          <a:solidFill>
                            <a:srgbClr val="000000"/>
                          </a:solidFill>
                          <a:latin typeface="Arial"/>
                          <a:ea typeface="Calibri"/>
                        </a:rPr>
                        <a:t>41,8</a:t>
                      </a:r>
                      <a:endParaRPr b="0"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ea typeface="Calibri"/>
                        </a:rPr>
                        <a:t>39,5</a:t>
                      </a:r>
                      <a:endParaRPr b="0"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ea typeface="Calibri"/>
                        </a:rPr>
                        <a:t>42,4</a:t>
                      </a:r>
                      <a:endParaRPr b="0"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r>
              <a:tr h="793800">
                <a:tc>
                  <a:txBody>
                    <a:bodyPr lIns="66960" rIns="669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ea typeface="Calibri"/>
                        </a:rPr>
                        <a:t>Природжені вади розвитку, деформації та хромосомні аномалії</a:t>
                      </a:r>
                      <a:endParaRPr b="0"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ea typeface="Calibri"/>
                        </a:rPr>
                        <a:t> </a:t>
                      </a:r>
                      <a:endParaRPr b="0" lang="en-US" sz="14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ea typeface="Calibri"/>
                        </a:rPr>
                        <a:t>19,3</a:t>
                      </a:r>
                      <a:endParaRPr b="0"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ea typeface="Calibri"/>
                        </a:rPr>
                        <a:t> </a:t>
                      </a:r>
                      <a:endParaRPr b="0" lang="en-US" sz="14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ea typeface="Calibri"/>
                        </a:rPr>
                        <a:t>17,6</a:t>
                      </a:r>
                      <a:endParaRPr b="0"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ea typeface="Calibri"/>
                        </a:rPr>
                        <a:t> </a:t>
                      </a:r>
                      <a:endParaRPr b="0" lang="en-US" sz="14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ea typeface="Calibri"/>
                        </a:rPr>
                        <a:t>17,7</a:t>
                      </a:r>
                      <a:endParaRPr b="0"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r>
              <a:tr h="336600">
                <a:tc>
                  <a:txBody>
                    <a:bodyPr lIns="66960" rIns="66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ea typeface="Calibri"/>
                        </a:rPr>
                        <a:t>Зовнішні причини смерті</a:t>
                      </a:r>
                      <a:endParaRPr b="0"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ea typeface="Calibri"/>
                        </a:rPr>
                        <a:t>4,4</a:t>
                      </a:r>
                      <a:endParaRPr b="0"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ea typeface="Calibri"/>
                        </a:rPr>
                        <a:t>4,1</a:t>
                      </a:r>
                      <a:endParaRPr b="0"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ea typeface="Calibri"/>
                        </a:rPr>
                        <a:t>3,7</a:t>
                      </a:r>
                      <a:endParaRPr b="0"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r>
              <a:tr h="361800">
                <a:tc>
                  <a:txBody>
                    <a:bodyPr lIns="66960" rIns="66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ea typeface="Calibri"/>
                        </a:rPr>
                        <a:t>Інші причини</a:t>
                      </a:r>
                      <a:endParaRPr b="0"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ea typeface="Calibri"/>
                        </a:rPr>
                        <a:t>5,9</a:t>
                      </a:r>
                      <a:endParaRPr b="0"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ea typeface="Calibri"/>
                        </a:rPr>
                        <a:t>5,2</a:t>
                      </a:r>
                      <a:endParaRPr b="0"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ea typeface="Calibri"/>
                        </a:rPr>
                        <a:t>5,3</a:t>
                      </a:r>
                      <a:endParaRPr b="0"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r>
              <a:tr h="444600">
                <a:tc>
                  <a:txBody>
                    <a:bodyPr lIns="66960" rIns="66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ea typeface="Calibri"/>
                        </a:rPr>
                        <a:t>Усього смертей</a:t>
                      </a:r>
                      <a:endParaRPr b="0"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ea typeface="Calibri"/>
                        </a:rPr>
                        <a:t>79,0</a:t>
                      </a:r>
                      <a:endParaRPr b="0"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ea typeface="Calibri"/>
                        </a:rPr>
                        <a:t>74,0</a:t>
                      </a:r>
                      <a:endParaRPr b="0"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ea typeface="Calibri"/>
                        </a:rPr>
                        <a:t>75,6</a:t>
                      </a:r>
                      <a:endParaRPr b="0"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86" name="Picture 4" descr=""/>
          <p:cNvPicPr/>
          <p:nvPr/>
        </p:nvPicPr>
        <p:blipFill>
          <a:blip r:embed="rId1"/>
          <a:stretch/>
        </p:blipFill>
        <p:spPr>
          <a:xfrm>
            <a:off x="7315200" y="0"/>
            <a:ext cx="1676520" cy="1219320"/>
          </a:xfrm>
          <a:prstGeom prst="rect">
            <a:avLst/>
          </a:prstGeom>
          <a:ln w="0">
            <a:noFill/>
          </a:ln>
        </p:spPr>
      </p:pic>
      <p:sp>
        <p:nvSpPr>
          <p:cNvPr id="87" name="Title 1"/>
          <p:cNvSpPr/>
          <p:nvPr/>
        </p:nvSpPr>
        <p:spPr>
          <a:xfrm>
            <a:off x="623880" y="784080"/>
            <a:ext cx="7508880" cy="947880"/>
          </a:xfrm>
          <a:prstGeom prst="rect">
            <a:avLst/>
          </a:prstGeom>
          <a:noFill/>
          <a:ln w="0">
            <a:noFill/>
          </a:ln>
        </p:spPr>
        <p:style>
          <a:lnRef idx="0"/>
          <a:fillRef idx="0"/>
          <a:effectRef idx="0"/>
          <a:fontRef idx="minor"/>
        </p:style>
        <p:txBody>
          <a:bodyPr lIns="92160" rIns="92160" tIns="46080" bIns="4608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62673"/>
                </a:solidFill>
                <a:latin typeface="Arial"/>
                <a:ea typeface="ＭＳ Ｐゴシック"/>
              </a:rPr>
              <a:t>Смертність  немовлят за причинами смерті в Україні в 2015-2017 рр.</a:t>
            </a:r>
            <a:endParaRPr b="0" lang="en-US" sz="2400" spc="-1" strike="noStrike">
              <a:solidFill>
                <a:srgbClr val="000000"/>
              </a:solidFill>
              <a:latin typeface="Arial"/>
            </a:endParaRPr>
          </a:p>
        </p:txBody>
      </p:sp>
    </p:spTree>
  </p:cSld>
  <p:transition spd="med">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08T12:25:38Z</dcterms:created>
  <dc:creator>User</dc:creator>
  <dc:description/>
  <dc:language>en-US</dc:language>
  <cp:lastModifiedBy>Zal</cp:lastModifiedBy>
  <cp:lastPrinted>2019-04-11T10:19:44Z</cp:lastPrinted>
  <dcterms:modified xsi:type="dcterms:W3CDTF">2019-04-12T06:21:24Z</dcterms:modified>
  <cp:revision>131</cp:revision>
  <dc:subject/>
  <dc:title>Слайд 1</dc:title>
</cp:coreProperties>
</file>